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7559675" cy="1008062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AutoShape 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4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936800" y="754200"/>
            <a:ext cx="2773440" cy="36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13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8717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1"/>
          </p:nvPr>
        </p:nvSpPr>
        <p:spPr>
          <a:xfrm>
            <a:off x="3774960" y="0"/>
            <a:ext cx="28720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-360" y="9428040"/>
            <a:ext cx="28717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774960" y="9428040"/>
            <a:ext cx="28720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4000"/>
                <a:tab algn="l" pos="1631880"/>
                <a:tab algn="l" pos="2041560"/>
                <a:tab algn="l" pos="2449440"/>
                <a:tab algn="l" pos="2857680"/>
                <a:tab algn="l" pos="3267000"/>
                <a:tab algn="l" pos="3675240"/>
                <a:tab algn="l" pos="4083120"/>
                <a:tab algn="l" pos="4491000"/>
                <a:tab algn="l" pos="4900680"/>
                <a:tab algn="l" pos="5308560"/>
                <a:tab algn="l" pos="5716440"/>
                <a:tab algn="l" pos="6126120"/>
                <a:tab algn="l" pos="6534000"/>
                <a:tab algn="l" pos="6942240"/>
                <a:tab algn="l" pos="7351560"/>
                <a:tab algn="l" pos="7759800"/>
                <a:tab algn="l" pos="81676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4000"/>
                <a:tab algn="l" pos="1631880"/>
                <a:tab algn="l" pos="2041560"/>
                <a:tab algn="l" pos="2449440"/>
                <a:tab algn="l" pos="2857680"/>
                <a:tab algn="l" pos="3267000"/>
                <a:tab algn="l" pos="3675240"/>
                <a:tab algn="l" pos="4083120"/>
                <a:tab algn="l" pos="4491000"/>
                <a:tab algn="l" pos="4900680"/>
                <a:tab algn="l" pos="5308560"/>
                <a:tab algn="l" pos="5716440"/>
                <a:tab algn="l" pos="6126120"/>
                <a:tab algn="l" pos="6534000"/>
                <a:tab algn="l" pos="6942240"/>
                <a:tab algn="l" pos="7351560"/>
                <a:tab algn="l" pos="7759800"/>
                <a:tab algn="l" pos="81676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fld id="{75820489-9974-4A0F-83DF-4C6FB750155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1"/>
          <p:cNvSpPr/>
          <p:nvPr/>
        </p:nvSpPr>
        <p:spPr>
          <a:xfrm>
            <a:off x="3774960" y="9428040"/>
            <a:ext cx="2872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4000"/>
                <a:tab algn="l" pos="1631880"/>
                <a:tab algn="l" pos="2041560"/>
                <a:tab algn="l" pos="2449440"/>
                <a:tab algn="l" pos="2857680"/>
                <a:tab algn="l" pos="3267000"/>
                <a:tab algn="l" pos="3675240"/>
                <a:tab algn="l" pos="4083120"/>
                <a:tab algn="l" pos="4491000"/>
                <a:tab algn="l" pos="4900680"/>
                <a:tab algn="l" pos="5308560"/>
                <a:tab algn="l" pos="5716440"/>
                <a:tab algn="l" pos="6126120"/>
                <a:tab algn="l" pos="6534000"/>
                <a:tab algn="l" pos="6942240"/>
                <a:tab algn="l" pos="7351560"/>
                <a:tab algn="l" pos="7759800"/>
                <a:tab algn="l" pos="81676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fld id="{33A3C76D-A6C9-4367-A4F6-8AC14BB947B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976320" y="754200"/>
            <a:ext cx="47149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150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1"/>
          <p:cNvSpPr/>
          <p:nvPr/>
        </p:nvSpPr>
        <p:spPr>
          <a:xfrm>
            <a:off x="3774960" y="9428040"/>
            <a:ext cx="2872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4000"/>
                <a:tab algn="l" pos="1631880"/>
                <a:tab algn="l" pos="2041560"/>
                <a:tab algn="l" pos="2449440"/>
                <a:tab algn="l" pos="2857680"/>
                <a:tab algn="l" pos="3267000"/>
                <a:tab algn="l" pos="3675240"/>
                <a:tab algn="l" pos="4083120"/>
                <a:tab algn="l" pos="4491000"/>
                <a:tab algn="l" pos="4900680"/>
                <a:tab algn="l" pos="5308560"/>
                <a:tab algn="l" pos="5716440"/>
                <a:tab algn="l" pos="6126120"/>
                <a:tab algn="l" pos="6534000"/>
                <a:tab algn="l" pos="6942240"/>
                <a:tab algn="l" pos="7351560"/>
                <a:tab algn="l" pos="7759800"/>
                <a:tab algn="l" pos="81676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fld id="{D3099D2B-924B-444F-A954-05B71902AFB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976320" y="754200"/>
            <a:ext cx="47149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150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6803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000" y="5412240"/>
            <a:ext cx="6803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35872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541224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64240" y="541224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2190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78400" y="2358720"/>
            <a:ext cx="2190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79160" y="2358720"/>
            <a:ext cx="2190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8000" y="5412240"/>
            <a:ext cx="2190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678400" y="5412240"/>
            <a:ext cx="2190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979160" y="5412240"/>
            <a:ext cx="2190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78000" y="2358720"/>
            <a:ext cx="6803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6803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3319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64240" y="2358720"/>
            <a:ext cx="3319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78000" y="402120"/>
            <a:ext cx="6803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4240" y="2358720"/>
            <a:ext cx="3319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78000" y="541224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3319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35872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64240" y="541224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02120"/>
            <a:ext cx="6803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35872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358720"/>
            <a:ext cx="3319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" y="5412240"/>
            <a:ext cx="6803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feld 8"/>
          <p:cNvSpPr/>
          <p:nvPr/>
        </p:nvSpPr>
        <p:spPr>
          <a:xfrm>
            <a:off x="246240" y="9661680"/>
            <a:ext cx="700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Staatsinstitut für Schulqualität und Bildungsforschung, AK-Linkebene Biologie, Florian Bernhard, März 20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395280" y="647640"/>
            <a:ext cx="6867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chneide die Bilder aus und klebe sie in die logische Reihenfolge, die die Schritte bei der Herstellung eines gentechnisch erzeugten Proteins zeigt. Beschreibe die einzelnen Schritt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730080" y="198360"/>
            <a:ext cx="6247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ie Methode der Gentechnik (Beispiel: Bakteri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330280" y="1193760"/>
            <a:ext cx="2940120" cy="79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231840" y="1455840"/>
            <a:ext cx="1958400" cy="8037000"/>
            <a:chOff x="231840" y="1455840"/>
            <a:chExt cx="1958400" cy="8037000"/>
          </a:xfrm>
        </p:grpSpPr>
        <p:pic>
          <p:nvPicPr>
            <p:cNvPr id="63" name="Picture 5" descr=""/>
            <p:cNvPicPr/>
            <p:nvPr/>
          </p:nvPicPr>
          <p:blipFill>
            <a:blip r:embed="rId1"/>
            <a:stretch/>
          </p:blipFill>
          <p:spPr>
            <a:xfrm>
              <a:off x="231840" y="1455840"/>
              <a:ext cx="1956960" cy="67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"/>
            <p:cNvPicPr/>
            <p:nvPr/>
          </p:nvPicPr>
          <p:blipFill>
            <a:blip r:embed="rId2"/>
            <a:stretch/>
          </p:blipFill>
          <p:spPr>
            <a:xfrm>
              <a:off x="232920" y="2792160"/>
              <a:ext cx="1957320" cy="670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111"/>
          <p:cNvGrpSpPr/>
          <p:nvPr/>
        </p:nvGrpSpPr>
        <p:grpSpPr>
          <a:xfrm>
            <a:off x="5583960" y="1301760"/>
            <a:ext cx="1707840" cy="8064360"/>
            <a:chOff x="5583960" y="1301760"/>
            <a:chExt cx="1707840" cy="8064360"/>
          </a:xfrm>
        </p:grpSpPr>
        <p:grpSp>
          <p:nvGrpSpPr>
            <p:cNvPr id="66" name="Group 8"/>
            <p:cNvGrpSpPr/>
            <p:nvPr/>
          </p:nvGrpSpPr>
          <p:grpSpPr>
            <a:xfrm>
              <a:off x="5896080" y="2484360"/>
              <a:ext cx="1284120" cy="1244160"/>
              <a:chOff x="5896080" y="2484360"/>
              <a:chExt cx="1284120" cy="1244160"/>
            </a:xfrm>
          </p:grpSpPr>
          <p:sp>
            <p:nvSpPr>
              <p:cNvPr id="67" name="Freeform 9"/>
              <p:cNvSpPr/>
              <p:nvPr/>
            </p:nvSpPr>
            <p:spPr>
              <a:xfrm>
                <a:off x="5896080" y="2484360"/>
                <a:ext cx="1284120" cy="1027080"/>
              </a:xfrm>
              <a:custGeom>
                <a:avLst/>
                <a:gdLst/>
                <a:ahLst/>
                <a:rect l="l" t="t" r="r" b="b"/>
                <a:pathLst>
                  <a:path w="3573" h="2859">
                    <a:moveTo>
                      <a:pt x="1464" y="194"/>
                    </a:moveTo>
                    <a:cubicBezTo>
                      <a:pt x="1351" y="179"/>
                      <a:pt x="1244" y="215"/>
                      <a:pt x="1132" y="223"/>
                    </a:cubicBezTo>
                    <a:cubicBezTo>
                      <a:pt x="1014" y="230"/>
                      <a:pt x="851" y="174"/>
                      <a:pt x="772" y="289"/>
                    </a:cubicBezTo>
                    <a:cubicBezTo>
                      <a:pt x="708" y="382"/>
                      <a:pt x="684" y="486"/>
                      <a:pt x="620" y="592"/>
                    </a:cubicBezTo>
                    <a:cubicBezTo>
                      <a:pt x="551" y="707"/>
                      <a:pt x="495" y="819"/>
                      <a:pt x="421" y="924"/>
                    </a:cubicBezTo>
                    <a:cubicBezTo>
                      <a:pt x="345" y="1032"/>
                      <a:pt x="230" y="1107"/>
                      <a:pt x="118" y="1180"/>
                    </a:cubicBezTo>
                    <a:cubicBezTo>
                      <a:pt x="0" y="1255"/>
                      <a:pt x="63" y="1383"/>
                      <a:pt x="71" y="1492"/>
                    </a:cubicBezTo>
                    <a:cubicBezTo>
                      <a:pt x="79" y="1603"/>
                      <a:pt x="164" y="1695"/>
                      <a:pt x="213" y="1795"/>
                    </a:cubicBezTo>
                    <a:cubicBezTo>
                      <a:pt x="260" y="1893"/>
                      <a:pt x="269" y="2000"/>
                      <a:pt x="317" y="2099"/>
                    </a:cubicBezTo>
                    <a:cubicBezTo>
                      <a:pt x="372" y="2211"/>
                      <a:pt x="386" y="2357"/>
                      <a:pt x="497" y="2430"/>
                    </a:cubicBezTo>
                    <a:cubicBezTo>
                      <a:pt x="598" y="2497"/>
                      <a:pt x="707" y="2549"/>
                      <a:pt x="819" y="2601"/>
                    </a:cubicBezTo>
                    <a:cubicBezTo>
                      <a:pt x="922" y="2648"/>
                      <a:pt x="1024" y="2685"/>
                      <a:pt x="1132" y="2705"/>
                    </a:cubicBezTo>
                    <a:cubicBezTo>
                      <a:pt x="1231" y="2723"/>
                      <a:pt x="1326" y="2754"/>
                      <a:pt x="1426" y="2771"/>
                    </a:cubicBezTo>
                    <a:cubicBezTo>
                      <a:pt x="1544" y="2792"/>
                      <a:pt x="1658" y="2814"/>
                      <a:pt x="1777" y="2818"/>
                    </a:cubicBezTo>
                    <a:cubicBezTo>
                      <a:pt x="1896" y="2823"/>
                      <a:pt x="2020" y="2798"/>
                      <a:pt x="2137" y="2828"/>
                    </a:cubicBezTo>
                    <a:cubicBezTo>
                      <a:pt x="2253" y="2858"/>
                      <a:pt x="2351" y="2776"/>
                      <a:pt x="2459" y="2762"/>
                    </a:cubicBezTo>
                    <a:cubicBezTo>
                      <a:pt x="2582" y="2745"/>
                      <a:pt x="2664" y="2652"/>
                      <a:pt x="2800" y="2667"/>
                    </a:cubicBezTo>
                    <a:cubicBezTo>
                      <a:pt x="2930" y="2681"/>
                      <a:pt x="3047" y="2608"/>
                      <a:pt x="3160" y="2553"/>
                    </a:cubicBezTo>
                    <a:cubicBezTo>
                      <a:pt x="3283" y="2494"/>
                      <a:pt x="3330" y="2350"/>
                      <a:pt x="3416" y="2250"/>
                    </a:cubicBezTo>
                    <a:cubicBezTo>
                      <a:pt x="3497" y="2158"/>
                      <a:pt x="3572" y="2034"/>
                      <a:pt x="3540" y="1918"/>
                    </a:cubicBezTo>
                    <a:cubicBezTo>
                      <a:pt x="3507" y="1803"/>
                      <a:pt x="3432" y="1704"/>
                      <a:pt x="3379" y="1596"/>
                    </a:cubicBezTo>
                    <a:cubicBezTo>
                      <a:pt x="3329" y="1496"/>
                      <a:pt x="3378" y="1384"/>
                      <a:pt x="3350" y="1284"/>
                    </a:cubicBezTo>
                    <a:cubicBezTo>
                      <a:pt x="3319" y="1175"/>
                      <a:pt x="3264" y="1070"/>
                      <a:pt x="3274" y="952"/>
                    </a:cubicBezTo>
                    <a:cubicBezTo>
                      <a:pt x="3284" y="835"/>
                      <a:pt x="3236" y="712"/>
                      <a:pt x="3151" y="630"/>
                    </a:cubicBezTo>
                    <a:cubicBezTo>
                      <a:pt x="3062" y="544"/>
                      <a:pt x="3031" y="418"/>
                      <a:pt x="2942" y="336"/>
                    </a:cubicBezTo>
                    <a:cubicBezTo>
                      <a:pt x="2834" y="237"/>
                      <a:pt x="2693" y="177"/>
                      <a:pt x="2582" y="80"/>
                    </a:cubicBezTo>
                    <a:cubicBezTo>
                      <a:pt x="2489" y="0"/>
                      <a:pt x="2388" y="35"/>
                      <a:pt x="2288" y="24"/>
                    </a:cubicBezTo>
                    <a:cubicBezTo>
                      <a:pt x="2185" y="13"/>
                      <a:pt x="2087" y="58"/>
                      <a:pt x="1985" y="71"/>
                    </a:cubicBezTo>
                    <a:cubicBezTo>
                      <a:pt x="1880" y="84"/>
                      <a:pt x="1788" y="129"/>
                      <a:pt x="1682" y="118"/>
                    </a:cubicBezTo>
                    <a:lnTo>
                      <a:pt x="1578" y="137"/>
                    </a:lnTo>
                    <a:lnTo>
                      <a:pt x="1483" y="147"/>
                    </a:lnTo>
                    <a:lnTo>
                      <a:pt x="1473" y="194"/>
                    </a:lnTo>
                    <a:lnTo>
                      <a:pt x="1464" y="194"/>
                    </a:lnTo>
                  </a:path>
                </a:pathLst>
              </a:custGeom>
              <a:solidFill>
                <a:srgbClr val="b3b3b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35480" y="2898000"/>
                <a:ext cx="370440" cy="3549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160320" y="2905920"/>
                <a:ext cx="310320" cy="350280"/>
              </a:xfrm>
              <a:custGeom>
                <a:avLst/>
                <a:gdLst/>
                <a:ahLst/>
                <a:rect l="l" t="t" r="r" b="b"/>
                <a:pathLst>
                  <a:path w="864" h="973">
                    <a:moveTo>
                      <a:pt x="365" y="135"/>
                    </a:moveTo>
                    <a:cubicBezTo>
                      <a:pt x="319" y="140"/>
                      <a:pt x="271" y="141"/>
                      <a:pt x="233" y="175"/>
                    </a:cubicBezTo>
                    <a:cubicBezTo>
                      <a:pt x="196" y="208"/>
                      <a:pt x="179" y="253"/>
                      <a:pt x="173" y="299"/>
                    </a:cubicBezTo>
                    <a:cubicBezTo>
                      <a:pt x="166" y="349"/>
                      <a:pt x="200" y="398"/>
                      <a:pt x="245" y="414"/>
                    </a:cubicBezTo>
                    <a:cubicBezTo>
                      <a:pt x="287" y="430"/>
                      <a:pt x="336" y="415"/>
                      <a:pt x="377" y="434"/>
                    </a:cubicBezTo>
                    <a:cubicBezTo>
                      <a:pt x="424" y="457"/>
                      <a:pt x="459" y="500"/>
                      <a:pt x="488" y="546"/>
                    </a:cubicBezTo>
                    <a:cubicBezTo>
                      <a:pt x="518" y="592"/>
                      <a:pt x="491" y="636"/>
                      <a:pt x="468" y="670"/>
                    </a:cubicBezTo>
                    <a:cubicBezTo>
                      <a:pt x="438" y="715"/>
                      <a:pt x="379" y="715"/>
                      <a:pt x="333" y="702"/>
                    </a:cubicBezTo>
                    <a:cubicBezTo>
                      <a:pt x="276" y="686"/>
                      <a:pt x="251" y="600"/>
                      <a:pt x="305" y="570"/>
                    </a:cubicBezTo>
                    <a:cubicBezTo>
                      <a:pt x="346" y="548"/>
                      <a:pt x="396" y="545"/>
                      <a:pt x="444" y="546"/>
                    </a:cubicBezTo>
                    <a:cubicBezTo>
                      <a:pt x="492" y="548"/>
                      <a:pt x="550" y="559"/>
                      <a:pt x="584" y="514"/>
                    </a:cubicBezTo>
                    <a:cubicBezTo>
                      <a:pt x="619" y="469"/>
                      <a:pt x="590" y="415"/>
                      <a:pt x="584" y="367"/>
                    </a:cubicBezTo>
                    <a:cubicBezTo>
                      <a:pt x="579" y="322"/>
                      <a:pt x="524" y="249"/>
                      <a:pt x="476" y="291"/>
                    </a:cubicBezTo>
                    <a:cubicBezTo>
                      <a:pt x="436" y="326"/>
                      <a:pt x="401" y="370"/>
                      <a:pt x="381" y="422"/>
                    </a:cubicBezTo>
                    <a:cubicBezTo>
                      <a:pt x="361" y="475"/>
                      <a:pt x="316" y="518"/>
                      <a:pt x="269" y="546"/>
                    </a:cubicBezTo>
                    <a:cubicBezTo>
                      <a:pt x="234" y="567"/>
                      <a:pt x="167" y="600"/>
                      <a:pt x="145" y="558"/>
                    </a:cubicBezTo>
                    <a:cubicBezTo>
                      <a:pt x="121" y="514"/>
                      <a:pt x="132" y="454"/>
                      <a:pt x="157" y="407"/>
                    </a:cubicBezTo>
                    <a:cubicBezTo>
                      <a:pt x="188" y="349"/>
                      <a:pt x="265" y="377"/>
                      <a:pt x="289" y="426"/>
                    </a:cubicBezTo>
                    <a:cubicBezTo>
                      <a:pt x="315" y="479"/>
                      <a:pt x="339" y="533"/>
                      <a:pt x="373" y="582"/>
                    </a:cubicBezTo>
                    <a:cubicBezTo>
                      <a:pt x="407" y="632"/>
                      <a:pt x="451" y="677"/>
                      <a:pt x="500" y="714"/>
                    </a:cubicBezTo>
                    <a:cubicBezTo>
                      <a:pt x="546" y="748"/>
                      <a:pt x="597" y="788"/>
                      <a:pt x="656" y="789"/>
                    </a:cubicBezTo>
                    <a:cubicBezTo>
                      <a:pt x="715" y="791"/>
                      <a:pt x="736" y="720"/>
                      <a:pt x="780" y="690"/>
                    </a:cubicBezTo>
                    <a:cubicBezTo>
                      <a:pt x="840" y="648"/>
                      <a:pt x="783" y="589"/>
                      <a:pt x="756" y="554"/>
                    </a:cubicBezTo>
                    <a:cubicBezTo>
                      <a:pt x="714" y="499"/>
                      <a:pt x="767" y="452"/>
                      <a:pt x="796" y="418"/>
                    </a:cubicBezTo>
                    <a:cubicBezTo>
                      <a:pt x="826" y="383"/>
                      <a:pt x="863" y="332"/>
                      <a:pt x="844" y="283"/>
                    </a:cubicBezTo>
                    <a:cubicBezTo>
                      <a:pt x="822" y="228"/>
                      <a:pt x="752" y="223"/>
                      <a:pt x="708" y="191"/>
                    </a:cubicBezTo>
                    <a:cubicBezTo>
                      <a:pt x="651" y="151"/>
                      <a:pt x="600" y="228"/>
                      <a:pt x="624" y="275"/>
                    </a:cubicBezTo>
                    <a:cubicBezTo>
                      <a:pt x="646" y="318"/>
                      <a:pt x="671" y="363"/>
                      <a:pt x="684" y="410"/>
                    </a:cubicBezTo>
                    <a:cubicBezTo>
                      <a:pt x="696" y="454"/>
                      <a:pt x="701" y="500"/>
                      <a:pt x="700" y="546"/>
                    </a:cubicBezTo>
                    <a:cubicBezTo>
                      <a:pt x="699" y="589"/>
                      <a:pt x="694" y="633"/>
                      <a:pt x="660" y="670"/>
                    </a:cubicBezTo>
                    <a:cubicBezTo>
                      <a:pt x="623" y="709"/>
                      <a:pt x="568" y="710"/>
                      <a:pt x="532" y="674"/>
                    </a:cubicBezTo>
                    <a:cubicBezTo>
                      <a:pt x="491" y="633"/>
                      <a:pt x="469" y="576"/>
                      <a:pt x="484" y="526"/>
                    </a:cubicBezTo>
                    <a:cubicBezTo>
                      <a:pt x="502" y="470"/>
                      <a:pt x="562" y="442"/>
                      <a:pt x="612" y="418"/>
                    </a:cubicBezTo>
                    <a:cubicBezTo>
                      <a:pt x="649" y="401"/>
                      <a:pt x="729" y="371"/>
                      <a:pt x="688" y="315"/>
                    </a:cubicBezTo>
                    <a:cubicBezTo>
                      <a:pt x="655" y="269"/>
                      <a:pt x="640" y="212"/>
                      <a:pt x="604" y="167"/>
                    </a:cubicBezTo>
                    <a:cubicBezTo>
                      <a:pt x="571" y="127"/>
                      <a:pt x="529" y="37"/>
                      <a:pt x="480" y="67"/>
                    </a:cubicBezTo>
                    <a:cubicBezTo>
                      <a:pt x="442" y="92"/>
                      <a:pt x="462" y="157"/>
                      <a:pt x="444" y="199"/>
                    </a:cubicBezTo>
                    <a:cubicBezTo>
                      <a:pt x="424" y="247"/>
                      <a:pt x="401" y="297"/>
                      <a:pt x="400" y="351"/>
                    </a:cubicBezTo>
                    <a:cubicBezTo>
                      <a:pt x="400" y="395"/>
                      <a:pt x="404" y="439"/>
                      <a:pt x="392" y="482"/>
                    </a:cubicBezTo>
                    <a:cubicBezTo>
                      <a:pt x="380" y="531"/>
                      <a:pt x="365" y="585"/>
                      <a:pt x="321" y="614"/>
                    </a:cubicBezTo>
                    <a:cubicBezTo>
                      <a:pt x="272" y="647"/>
                      <a:pt x="225" y="587"/>
                      <a:pt x="205" y="550"/>
                    </a:cubicBezTo>
                    <a:cubicBezTo>
                      <a:pt x="171" y="489"/>
                      <a:pt x="191" y="404"/>
                      <a:pt x="249" y="367"/>
                    </a:cubicBezTo>
                    <a:cubicBezTo>
                      <a:pt x="306" y="329"/>
                      <a:pt x="377" y="319"/>
                      <a:pt x="440" y="335"/>
                    </a:cubicBezTo>
                    <a:cubicBezTo>
                      <a:pt x="515" y="353"/>
                      <a:pt x="495" y="260"/>
                      <a:pt x="484" y="235"/>
                    </a:cubicBezTo>
                    <a:cubicBezTo>
                      <a:pt x="460" y="181"/>
                      <a:pt x="418" y="137"/>
                      <a:pt x="384" y="88"/>
                    </a:cubicBezTo>
                    <a:cubicBezTo>
                      <a:pt x="325" y="0"/>
                      <a:pt x="317" y="111"/>
                      <a:pt x="317" y="143"/>
                    </a:cubicBezTo>
                    <a:cubicBezTo>
                      <a:pt x="317" y="192"/>
                      <a:pt x="341" y="235"/>
                      <a:pt x="345" y="283"/>
                    </a:cubicBezTo>
                    <a:cubicBezTo>
                      <a:pt x="348" y="332"/>
                      <a:pt x="355" y="381"/>
                      <a:pt x="353" y="430"/>
                    </a:cubicBezTo>
                    <a:cubicBezTo>
                      <a:pt x="351" y="482"/>
                      <a:pt x="350" y="534"/>
                      <a:pt x="353" y="586"/>
                    </a:cubicBezTo>
                    <a:cubicBezTo>
                      <a:pt x="356" y="641"/>
                      <a:pt x="320" y="702"/>
                      <a:pt x="269" y="710"/>
                    </a:cubicBezTo>
                    <a:cubicBezTo>
                      <a:pt x="213" y="719"/>
                      <a:pt x="154" y="673"/>
                      <a:pt x="133" y="622"/>
                    </a:cubicBezTo>
                    <a:cubicBezTo>
                      <a:pt x="114" y="576"/>
                      <a:pt x="112" y="519"/>
                      <a:pt x="133" y="474"/>
                    </a:cubicBezTo>
                    <a:cubicBezTo>
                      <a:pt x="155" y="430"/>
                      <a:pt x="179" y="379"/>
                      <a:pt x="233" y="359"/>
                    </a:cubicBezTo>
                    <a:cubicBezTo>
                      <a:pt x="275" y="342"/>
                      <a:pt x="329" y="361"/>
                      <a:pt x="337" y="410"/>
                    </a:cubicBezTo>
                    <a:cubicBezTo>
                      <a:pt x="345" y="460"/>
                      <a:pt x="374" y="509"/>
                      <a:pt x="429" y="530"/>
                    </a:cubicBezTo>
                    <a:cubicBezTo>
                      <a:pt x="479" y="549"/>
                      <a:pt x="529" y="516"/>
                      <a:pt x="548" y="470"/>
                    </a:cubicBezTo>
                    <a:cubicBezTo>
                      <a:pt x="568" y="422"/>
                      <a:pt x="567" y="371"/>
                      <a:pt x="560" y="323"/>
                    </a:cubicBezTo>
                    <a:cubicBezTo>
                      <a:pt x="553" y="269"/>
                      <a:pt x="531" y="218"/>
                      <a:pt x="512" y="167"/>
                    </a:cubicBezTo>
                    <a:cubicBezTo>
                      <a:pt x="494" y="118"/>
                      <a:pt x="441" y="74"/>
                      <a:pt x="384" y="123"/>
                    </a:cubicBezTo>
                    <a:cubicBezTo>
                      <a:pt x="332" y="168"/>
                      <a:pt x="292" y="213"/>
                      <a:pt x="269" y="271"/>
                    </a:cubicBezTo>
                    <a:cubicBezTo>
                      <a:pt x="251" y="317"/>
                      <a:pt x="257" y="374"/>
                      <a:pt x="285" y="422"/>
                    </a:cubicBezTo>
                    <a:cubicBezTo>
                      <a:pt x="315" y="477"/>
                      <a:pt x="352" y="524"/>
                      <a:pt x="388" y="574"/>
                    </a:cubicBezTo>
                    <a:cubicBezTo>
                      <a:pt x="418" y="614"/>
                      <a:pt x="446" y="654"/>
                      <a:pt x="468" y="698"/>
                    </a:cubicBezTo>
                    <a:cubicBezTo>
                      <a:pt x="493" y="746"/>
                      <a:pt x="440" y="806"/>
                      <a:pt x="388" y="785"/>
                    </a:cubicBezTo>
                    <a:cubicBezTo>
                      <a:pt x="349" y="770"/>
                      <a:pt x="309" y="758"/>
                      <a:pt x="269" y="742"/>
                    </a:cubicBezTo>
                    <a:cubicBezTo>
                      <a:pt x="217" y="720"/>
                      <a:pt x="191" y="672"/>
                      <a:pt x="149" y="642"/>
                    </a:cubicBezTo>
                    <a:cubicBezTo>
                      <a:pt x="110" y="614"/>
                      <a:pt x="61" y="582"/>
                      <a:pt x="53" y="530"/>
                    </a:cubicBezTo>
                    <a:cubicBezTo>
                      <a:pt x="47" y="487"/>
                      <a:pt x="56" y="435"/>
                      <a:pt x="89" y="407"/>
                    </a:cubicBezTo>
                    <a:cubicBezTo>
                      <a:pt x="128" y="374"/>
                      <a:pt x="175" y="349"/>
                      <a:pt x="221" y="327"/>
                    </a:cubicBezTo>
                    <a:cubicBezTo>
                      <a:pt x="264" y="306"/>
                      <a:pt x="312" y="296"/>
                      <a:pt x="361" y="295"/>
                    </a:cubicBezTo>
                    <a:cubicBezTo>
                      <a:pt x="414" y="294"/>
                      <a:pt x="465" y="308"/>
                      <a:pt x="508" y="335"/>
                    </a:cubicBezTo>
                    <a:cubicBezTo>
                      <a:pt x="549" y="360"/>
                      <a:pt x="592" y="340"/>
                      <a:pt x="632" y="331"/>
                    </a:cubicBezTo>
                    <a:cubicBezTo>
                      <a:pt x="682" y="318"/>
                      <a:pt x="688" y="257"/>
                      <a:pt x="708" y="215"/>
                    </a:cubicBezTo>
                    <a:cubicBezTo>
                      <a:pt x="731" y="168"/>
                      <a:pt x="704" y="114"/>
                      <a:pt x="664" y="95"/>
                    </a:cubicBezTo>
                    <a:cubicBezTo>
                      <a:pt x="603" y="66"/>
                      <a:pt x="576" y="145"/>
                      <a:pt x="564" y="183"/>
                    </a:cubicBezTo>
                    <a:cubicBezTo>
                      <a:pt x="552" y="223"/>
                      <a:pt x="547" y="265"/>
                      <a:pt x="544" y="307"/>
                    </a:cubicBezTo>
                    <a:cubicBezTo>
                      <a:pt x="541" y="356"/>
                      <a:pt x="532" y="406"/>
                      <a:pt x="524" y="454"/>
                    </a:cubicBezTo>
                    <a:cubicBezTo>
                      <a:pt x="515" y="509"/>
                      <a:pt x="498" y="562"/>
                      <a:pt x="480" y="614"/>
                    </a:cubicBezTo>
                    <a:cubicBezTo>
                      <a:pt x="465" y="660"/>
                      <a:pt x="443" y="703"/>
                      <a:pt x="425" y="750"/>
                    </a:cubicBezTo>
                    <a:cubicBezTo>
                      <a:pt x="408" y="791"/>
                      <a:pt x="379" y="860"/>
                      <a:pt x="325" y="845"/>
                    </a:cubicBezTo>
                    <a:cubicBezTo>
                      <a:pt x="278" y="833"/>
                      <a:pt x="248" y="788"/>
                      <a:pt x="201" y="770"/>
                    </a:cubicBezTo>
                    <a:cubicBezTo>
                      <a:pt x="155" y="751"/>
                      <a:pt x="118" y="715"/>
                      <a:pt x="81" y="682"/>
                    </a:cubicBezTo>
                    <a:cubicBezTo>
                      <a:pt x="48" y="652"/>
                      <a:pt x="20" y="610"/>
                      <a:pt x="21" y="558"/>
                    </a:cubicBezTo>
                    <a:cubicBezTo>
                      <a:pt x="22" y="514"/>
                      <a:pt x="30" y="452"/>
                      <a:pt x="77" y="446"/>
                    </a:cubicBezTo>
                    <a:cubicBezTo>
                      <a:pt x="130" y="441"/>
                      <a:pt x="176" y="413"/>
                      <a:pt x="209" y="379"/>
                    </a:cubicBezTo>
                    <a:cubicBezTo>
                      <a:pt x="239" y="347"/>
                      <a:pt x="280" y="304"/>
                      <a:pt x="265" y="259"/>
                    </a:cubicBezTo>
                    <a:cubicBezTo>
                      <a:pt x="232" y="165"/>
                      <a:pt x="165" y="266"/>
                      <a:pt x="125" y="287"/>
                    </a:cubicBezTo>
                    <a:cubicBezTo>
                      <a:pt x="80" y="311"/>
                      <a:pt x="36" y="355"/>
                      <a:pt x="33" y="410"/>
                    </a:cubicBezTo>
                    <a:cubicBezTo>
                      <a:pt x="31" y="459"/>
                      <a:pt x="0" y="506"/>
                      <a:pt x="25" y="554"/>
                    </a:cubicBezTo>
                    <a:cubicBezTo>
                      <a:pt x="51" y="603"/>
                      <a:pt x="100" y="647"/>
                      <a:pt x="157" y="654"/>
                    </a:cubicBezTo>
                    <a:cubicBezTo>
                      <a:pt x="207" y="660"/>
                      <a:pt x="257" y="655"/>
                      <a:pt x="309" y="662"/>
                    </a:cubicBezTo>
                    <a:cubicBezTo>
                      <a:pt x="368" y="670"/>
                      <a:pt x="422" y="693"/>
                      <a:pt x="476" y="714"/>
                    </a:cubicBezTo>
                    <a:cubicBezTo>
                      <a:pt x="527" y="733"/>
                      <a:pt x="559" y="778"/>
                      <a:pt x="600" y="809"/>
                    </a:cubicBezTo>
                    <a:cubicBezTo>
                      <a:pt x="631" y="833"/>
                      <a:pt x="593" y="972"/>
                      <a:pt x="640" y="845"/>
                    </a:cubicBezTo>
                    <a:cubicBezTo>
                      <a:pt x="656" y="803"/>
                      <a:pt x="685" y="768"/>
                      <a:pt x="684" y="718"/>
                    </a:cubicBezTo>
                    <a:cubicBezTo>
                      <a:pt x="683" y="661"/>
                      <a:pt x="735" y="617"/>
                      <a:pt x="780" y="586"/>
                    </a:cubicBezTo>
                    <a:cubicBezTo>
                      <a:pt x="817" y="560"/>
                      <a:pt x="859" y="505"/>
                      <a:pt x="835" y="463"/>
                    </a:cubicBezTo>
                    <a:cubicBezTo>
                      <a:pt x="806" y="408"/>
                      <a:pt x="741" y="381"/>
                      <a:pt x="684" y="355"/>
                    </a:cubicBezTo>
                    <a:cubicBezTo>
                      <a:pt x="642" y="336"/>
                      <a:pt x="599" y="360"/>
                      <a:pt x="564" y="327"/>
                    </a:cubicBezTo>
                    <a:lnTo>
                      <a:pt x="524" y="307"/>
                    </a:lnTo>
                    <a:lnTo>
                      <a:pt x="480" y="279"/>
                    </a:lnTo>
                    <a:lnTo>
                      <a:pt x="464" y="271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179400" y="313884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77" h="69">
                    <a:moveTo>
                      <a:pt x="0" y="0"/>
                    </a:moveTo>
                    <a:lnTo>
                      <a:pt x="40" y="32"/>
                    </a:lnTo>
                    <a:lnTo>
                      <a:pt x="76" y="68"/>
                    </a:lnTo>
                  </a:path>
                </a:pathLst>
              </a:custGeom>
              <a:noFill/>
              <a:ln w="36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Text Box 13"/>
              <p:cNvSpPr/>
              <p:nvPr/>
            </p:nvSpPr>
            <p:spPr>
              <a:xfrm>
                <a:off x="6087600" y="3497040"/>
                <a:ext cx="46440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4"/>
              <p:cNvSpPr/>
              <p:nvPr/>
            </p:nvSpPr>
            <p:spPr>
              <a:xfrm flipV="1">
                <a:off x="6193800" y="3167280"/>
                <a:ext cx="74160" cy="35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15"/>
            <p:cNvGrpSpPr/>
            <p:nvPr/>
          </p:nvGrpSpPr>
          <p:grpSpPr>
            <a:xfrm>
              <a:off x="5587920" y="6789600"/>
              <a:ext cx="1382400" cy="887040"/>
              <a:chOff x="5587920" y="6789600"/>
              <a:chExt cx="1382400" cy="887040"/>
            </a:xfrm>
          </p:grpSpPr>
          <p:sp>
            <p:nvSpPr>
              <p:cNvPr id="74" name="Oval 16"/>
              <p:cNvSpPr/>
              <p:nvPr/>
            </p:nvSpPr>
            <p:spPr>
              <a:xfrm>
                <a:off x="5663880" y="7020720"/>
                <a:ext cx="418320" cy="402120"/>
              </a:xfrm>
              <a:prstGeom prst="ellipse">
                <a:avLst/>
              </a:prstGeom>
              <a:noFill/>
              <a:ln w="72000">
                <a:solidFill>
                  <a:srgbClr val="ff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17"/>
              <p:cNvSpPr/>
              <p:nvPr/>
            </p:nvSpPr>
            <p:spPr>
              <a:xfrm>
                <a:off x="6296400" y="6849720"/>
                <a:ext cx="458280" cy="516600"/>
              </a:xfrm>
              <a:custGeom>
                <a:avLst/>
                <a:gdLst/>
                <a:ahLst/>
                <a:rect l="l" t="t" r="r" b="b"/>
                <a:pathLst>
                  <a:path w="1273" h="1436">
                    <a:moveTo>
                      <a:pt x="538" y="200"/>
                    </a:moveTo>
                    <a:cubicBezTo>
                      <a:pt x="470" y="207"/>
                      <a:pt x="399" y="208"/>
                      <a:pt x="343" y="259"/>
                    </a:cubicBezTo>
                    <a:cubicBezTo>
                      <a:pt x="289" y="307"/>
                      <a:pt x="263" y="374"/>
                      <a:pt x="255" y="441"/>
                    </a:cubicBezTo>
                    <a:cubicBezTo>
                      <a:pt x="245" y="514"/>
                      <a:pt x="295" y="587"/>
                      <a:pt x="361" y="611"/>
                    </a:cubicBezTo>
                    <a:cubicBezTo>
                      <a:pt x="422" y="634"/>
                      <a:pt x="496" y="612"/>
                      <a:pt x="555" y="641"/>
                    </a:cubicBezTo>
                    <a:cubicBezTo>
                      <a:pt x="625" y="674"/>
                      <a:pt x="677" y="738"/>
                      <a:pt x="720" y="806"/>
                    </a:cubicBezTo>
                    <a:cubicBezTo>
                      <a:pt x="763" y="873"/>
                      <a:pt x="724" y="939"/>
                      <a:pt x="691" y="988"/>
                    </a:cubicBezTo>
                    <a:cubicBezTo>
                      <a:pt x="646" y="1054"/>
                      <a:pt x="559" y="1054"/>
                      <a:pt x="490" y="1035"/>
                    </a:cubicBezTo>
                    <a:cubicBezTo>
                      <a:pt x="406" y="1012"/>
                      <a:pt x="370" y="885"/>
                      <a:pt x="449" y="841"/>
                    </a:cubicBezTo>
                    <a:cubicBezTo>
                      <a:pt x="510" y="808"/>
                      <a:pt x="584" y="804"/>
                      <a:pt x="655" y="806"/>
                    </a:cubicBezTo>
                    <a:cubicBezTo>
                      <a:pt x="725" y="808"/>
                      <a:pt x="811" y="825"/>
                      <a:pt x="861" y="759"/>
                    </a:cubicBezTo>
                    <a:cubicBezTo>
                      <a:pt x="913" y="693"/>
                      <a:pt x="870" y="612"/>
                      <a:pt x="861" y="541"/>
                    </a:cubicBezTo>
                    <a:cubicBezTo>
                      <a:pt x="854" y="475"/>
                      <a:pt x="773" y="368"/>
                      <a:pt x="702" y="429"/>
                    </a:cubicBezTo>
                    <a:cubicBezTo>
                      <a:pt x="643" y="481"/>
                      <a:pt x="591" y="546"/>
                      <a:pt x="561" y="623"/>
                    </a:cubicBezTo>
                    <a:cubicBezTo>
                      <a:pt x="532" y="701"/>
                      <a:pt x="466" y="764"/>
                      <a:pt x="396" y="806"/>
                    </a:cubicBezTo>
                    <a:cubicBezTo>
                      <a:pt x="345" y="837"/>
                      <a:pt x="247" y="885"/>
                      <a:pt x="214" y="824"/>
                    </a:cubicBezTo>
                    <a:cubicBezTo>
                      <a:pt x="178" y="759"/>
                      <a:pt x="194" y="671"/>
                      <a:pt x="231" y="600"/>
                    </a:cubicBezTo>
                    <a:cubicBezTo>
                      <a:pt x="276" y="515"/>
                      <a:pt x="390" y="557"/>
                      <a:pt x="425" y="629"/>
                    </a:cubicBezTo>
                    <a:cubicBezTo>
                      <a:pt x="464" y="707"/>
                      <a:pt x="500" y="787"/>
                      <a:pt x="549" y="859"/>
                    </a:cubicBezTo>
                    <a:cubicBezTo>
                      <a:pt x="600" y="933"/>
                      <a:pt x="665" y="999"/>
                      <a:pt x="738" y="1053"/>
                    </a:cubicBezTo>
                    <a:cubicBezTo>
                      <a:pt x="806" y="1104"/>
                      <a:pt x="881" y="1162"/>
                      <a:pt x="967" y="1165"/>
                    </a:cubicBezTo>
                    <a:cubicBezTo>
                      <a:pt x="1054" y="1167"/>
                      <a:pt x="1086" y="1062"/>
                      <a:pt x="1150" y="1018"/>
                    </a:cubicBezTo>
                    <a:cubicBezTo>
                      <a:pt x="1239" y="956"/>
                      <a:pt x="1154" y="870"/>
                      <a:pt x="1115" y="818"/>
                    </a:cubicBezTo>
                    <a:cubicBezTo>
                      <a:pt x="1053" y="737"/>
                      <a:pt x="1131" y="667"/>
                      <a:pt x="1174" y="617"/>
                    </a:cubicBezTo>
                    <a:cubicBezTo>
                      <a:pt x="1218" y="565"/>
                      <a:pt x="1272" y="489"/>
                      <a:pt x="1244" y="417"/>
                    </a:cubicBezTo>
                    <a:cubicBezTo>
                      <a:pt x="1212" y="336"/>
                      <a:pt x="1109" y="329"/>
                      <a:pt x="1044" y="282"/>
                    </a:cubicBezTo>
                    <a:cubicBezTo>
                      <a:pt x="960" y="223"/>
                      <a:pt x="885" y="336"/>
                      <a:pt x="920" y="406"/>
                    </a:cubicBezTo>
                    <a:cubicBezTo>
                      <a:pt x="953" y="470"/>
                      <a:pt x="989" y="535"/>
                      <a:pt x="1009" y="606"/>
                    </a:cubicBezTo>
                    <a:cubicBezTo>
                      <a:pt x="1026" y="670"/>
                      <a:pt x="1034" y="738"/>
                      <a:pt x="1032" y="806"/>
                    </a:cubicBezTo>
                    <a:cubicBezTo>
                      <a:pt x="1030" y="870"/>
                      <a:pt x="1024" y="934"/>
                      <a:pt x="973" y="988"/>
                    </a:cubicBezTo>
                    <a:cubicBezTo>
                      <a:pt x="919" y="1046"/>
                      <a:pt x="837" y="1047"/>
                      <a:pt x="785" y="994"/>
                    </a:cubicBezTo>
                    <a:cubicBezTo>
                      <a:pt x="724" y="934"/>
                      <a:pt x="691" y="849"/>
                      <a:pt x="714" y="776"/>
                    </a:cubicBezTo>
                    <a:cubicBezTo>
                      <a:pt x="740" y="694"/>
                      <a:pt x="828" y="652"/>
                      <a:pt x="902" y="617"/>
                    </a:cubicBezTo>
                    <a:cubicBezTo>
                      <a:pt x="957" y="591"/>
                      <a:pt x="1075" y="548"/>
                      <a:pt x="1015" y="464"/>
                    </a:cubicBezTo>
                    <a:cubicBezTo>
                      <a:pt x="966" y="397"/>
                      <a:pt x="944" y="312"/>
                      <a:pt x="891" y="247"/>
                    </a:cubicBezTo>
                    <a:cubicBezTo>
                      <a:pt x="842" y="188"/>
                      <a:pt x="780" y="55"/>
                      <a:pt x="708" y="100"/>
                    </a:cubicBezTo>
                    <a:cubicBezTo>
                      <a:pt x="652" y="135"/>
                      <a:pt x="681" y="232"/>
                      <a:pt x="655" y="294"/>
                    </a:cubicBezTo>
                    <a:cubicBezTo>
                      <a:pt x="625" y="365"/>
                      <a:pt x="592" y="438"/>
                      <a:pt x="590" y="518"/>
                    </a:cubicBezTo>
                    <a:cubicBezTo>
                      <a:pt x="590" y="582"/>
                      <a:pt x="595" y="647"/>
                      <a:pt x="579" y="712"/>
                    </a:cubicBezTo>
                    <a:cubicBezTo>
                      <a:pt x="560" y="783"/>
                      <a:pt x="538" y="863"/>
                      <a:pt x="473" y="906"/>
                    </a:cubicBezTo>
                    <a:cubicBezTo>
                      <a:pt x="400" y="955"/>
                      <a:pt x="332" y="866"/>
                      <a:pt x="302" y="812"/>
                    </a:cubicBezTo>
                    <a:cubicBezTo>
                      <a:pt x="252" y="722"/>
                      <a:pt x="282" y="597"/>
                      <a:pt x="367" y="541"/>
                    </a:cubicBezTo>
                    <a:cubicBezTo>
                      <a:pt x="451" y="486"/>
                      <a:pt x="556" y="471"/>
                      <a:pt x="649" y="494"/>
                    </a:cubicBezTo>
                    <a:cubicBezTo>
                      <a:pt x="759" y="521"/>
                      <a:pt x="730" y="383"/>
                      <a:pt x="714" y="347"/>
                    </a:cubicBezTo>
                    <a:cubicBezTo>
                      <a:pt x="679" y="267"/>
                      <a:pt x="616" y="202"/>
                      <a:pt x="567" y="129"/>
                    </a:cubicBezTo>
                    <a:cubicBezTo>
                      <a:pt x="479" y="0"/>
                      <a:pt x="467" y="164"/>
                      <a:pt x="467" y="211"/>
                    </a:cubicBezTo>
                    <a:cubicBezTo>
                      <a:pt x="466" y="283"/>
                      <a:pt x="502" y="347"/>
                      <a:pt x="508" y="417"/>
                    </a:cubicBezTo>
                    <a:cubicBezTo>
                      <a:pt x="513" y="489"/>
                      <a:pt x="523" y="562"/>
                      <a:pt x="520" y="635"/>
                    </a:cubicBezTo>
                    <a:cubicBezTo>
                      <a:pt x="517" y="711"/>
                      <a:pt x="516" y="788"/>
                      <a:pt x="520" y="865"/>
                    </a:cubicBezTo>
                    <a:cubicBezTo>
                      <a:pt x="524" y="945"/>
                      <a:pt x="472" y="1035"/>
                      <a:pt x="396" y="1047"/>
                    </a:cubicBezTo>
                    <a:cubicBezTo>
                      <a:pt x="313" y="1060"/>
                      <a:pt x="227" y="993"/>
                      <a:pt x="196" y="918"/>
                    </a:cubicBezTo>
                    <a:cubicBezTo>
                      <a:pt x="167" y="850"/>
                      <a:pt x="164" y="765"/>
                      <a:pt x="196" y="700"/>
                    </a:cubicBezTo>
                    <a:cubicBezTo>
                      <a:pt x="228" y="634"/>
                      <a:pt x="264" y="560"/>
                      <a:pt x="343" y="529"/>
                    </a:cubicBezTo>
                    <a:cubicBezTo>
                      <a:pt x="406" y="505"/>
                      <a:pt x="484" y="533"/>
                      <a:pt x="496" y="606"/>
                    </a:cubicBezTo>
                    <a:cubicBezTo>
                      <a:pt x="508" y="679"/>
                      <a:pt x="551" y="751"/>
                      <a:pt x="632" y="782"/>
                    </a:cubicBezTo>
                    <a:cubicBezTo>
                      <a:pt x="707" y="811"/>
                      <a:pt x="781" y="762"/>
                      <a:pt x="808" y="694"/>
                    </a:cubicBezTo>
                    <a:cubicBezTo>
                      <a:pt x="837" y="622"/>
                      <a:pt x="836" y="548"/>
                      <a:pt x="826" y="476"/>
                    </a:cubicBezTo>
                    <a:cubicBezTo>
                      <a:pt x="815" y="397"/>
                      <a:pt x="783" y="322"/>
                      <a:pt x="755" y="247"/>
                    </a:cubicBezTo>
                    <a:cubicBezTo>
                      <a:pt x="729" y="174"/>
                      <a:pt x="651" y="109"/>
                      <a:pt x="567" y="182"/>
                    </a:cubicBezTo>
                    <a:cubicBezTo>
                      <a:pt x="490" y="248"/>
                      <a:pt x="430" y="314"/>
                      <a:pt x="396" y="400"/>
                    </a:cubicBezTo>
                    <a:cubicBezTo>
                      <a:pt x="370" y="468"/>
                      <a:pt x="379" y="552"/>
                      <a:pt x="420" y="623"/>
                    </a:cubicBezTo>
                    <a:cubicBezTo>
                      <a:pt x="465" y="703"/>
                      <a:pt x="518" y="773"/>
                      <a:pt x="573" y="847"/>
                    </a:cubicBezTo>
                    <a:cubicBezTo>
                      <a:pt x="616" y="906"/>
                      <a:pt x="657" y="965"/>
                      <a:pt x="691" y="1029"/>
                    </a:cubicBezTo>
                    <a:cubicBezTo>
                      <a:pt x="727" y="1100"/>
                      <a:pt x="649" y="1189"/>
                      <a:pt x="573" y="1159"/>
                    </a:cubicBezTo>
                    <a:cubicBezTo>
                      <a:pt x="515" y="1136"/>
                      <a:pt x="455" y="1119"/>
                      <a:pt x="396" y="1094"/>
                    </a:cubicBezTo>
                    <a:cubicBezTo>
                      <a:pt x="320" y="1062"/>
                      <a:pt x="282" y="991"/>
                      <a:pt x="219" y="947"/>
                    </a:cubicBezTo>
                    <a:cubicBezTo>
                      <a:pt x="161" y="906"/>
                      <a:pt x="90" y="858"/>
                      <a:pt x="78" y="782"/>
                    </a:cubicBezTo>
                    <a:cubicBezTo>
                      <a:pt x="69" y="718"/>
                      <a:pt x="82" y="642"/>
                      <a:pt x="131" y="600"/>
                    </a:cubicBezTo>
                    <a:cubicBezTo>
                      <a:pt x="189" y="551"/>
                      <a:pt x="257" y="515"/>
                      <a:pt x="326" y="482"/>
                    </a:cubicBezTo>
                    <a:cubicBezTo>
                      <a:pt x="389" y="452"/>
                      <a:pt x="459" y="437"/>
                      <a:pt x="532" y="435"/>
                    </a:cubicBezTo>
                    <a:cubicBezTo>
                      <a:pt x="610" y="434"/>
                      <a:pt x="686" y="455"/>
                      <a:pt x="749" y="494"/>
                    </a:cubicBezTo>
                    <a:cubicBezTo>
                      <a:pt x="810" y="531"/>
                      <a:pt x="873" y="502"/>
                      <a:pt x="932" y="488"/>
                    </a:cubicBezTo>
                    <a:cubicBezTo>
                      <a:pt x="1006" y="470"/>
                      <a:pt x="1014" y="379"/>
                      <a:pt x="1044" y="317"/>
                    </a:cubicBezTo>
                    <a:cubicBezTo>
                      <a:pt x="1078" y="248"/>
                      <a:pt x="1038" y="169"/>
                      <a:pt x="979" y="141"/>
                    </a:cubicBezTo>
                    <a:cubicBezTo>
                      <a:pt x="889" y="98"/>
                      <a:pt x="849" y="214"/>
                      <a:pt x="832" y="270"/>
                    </a:cubicBezTo>
                    <a:cubicBezTo>
                      <a:pt x="814" y="329"/>
                      <a:pt x="806" y="391"/>
                      <a:pt x="802" y="453"/>
                    </a:cubicBezTo>
                    <a:cubicBezTo>
                      <a:pt x="798" y="526"/>
                      <a:pt x="785" y="598"/>
                      <a:pt x="773" y="671"/>
                    </a:cubicBezTo>
                    <a:cubicBezTo>
                      <a:pt x="760" y="751"/>
                      <a:pt x="735" y="829"/>
                      <a:pt x="708" y="906"/>
                    </a:cubicBezTo>
                    <a:cubicBezTo>
                      <a:pt x="685" y="975"/>
                      <a:pt x="653" y="1038"/>
                      <a:pt x="626" y="1106"/>
                    </a:cubicBezTo>
                    <a:cubicBezTo>
                      <a:pt x="602" y="1167"/>
                      <a:pt x="558" y="1269"/>
                      <a:pt x="479" y="1247"/>
                    </a:cubicBezTo>
                    <a:cubicBezTo>
                      <a:pt x="410" y="1229"/>
                      <a:pt x="365" y="1163"/>
                      <a:pt x="296" y="1136"/>
                    </a:cubicBezTo>
                    <a:cubicBezTo>
                      <a:pt x="228" y="1109"/>
                      <a:pt x="173" y="1055"/>
                      <a:pt x="119" y="1006"/>
                    </a:cubicBezTo>
                    <a:cubicBezTo>
                      <a:pt x="70" y="961"/>
                      <a:pt x="30" y="900"/>
                      <a:pt x="31" y="824"/>
                    </a:cubicBezTo>
                    <a:cubicBezTo>
                      <a:pt x="32" y="758"/>
                      <a:pt x="44" y="666"/>
                      <a:pt x="113" y="659"/>
                    </a:cubicBezTo>
                    <a:cubicBezTo>
                      <a:pt x="191" y="650"/>
                      <a:pt x="259" y="609"/>
                      <a:pt x="308" y="559"/>
                    </a:cubicBezTo>
                    <a:cubicBezTo>
                      <a:pt x="352" y="513"/>
                      <a:pt x="413" y="448"/>
                      <a:pt x="390" y="382"/>
                    </a:cubicBezTo>
                    <a:cubicBezTo>
                      <a:pt x="342" y="243"/>
                      <a:pt x="242" y="393"/>
                      <a:pt x="184" y="423"/>
                    </a:cubicBezTo>
                    <a:cubicBezTo>
                      <a:pt x="118" y="458"/>
                      <a:pt x="52" y="524"/>
                      <a:pt x="49" y="606"/>
                    </a:cubicBezTo>
                    <a:cubicBezTo>
                      <a:pt x="45" y="677"/>
                      <a:pt x="0" y="747"/>
                      <a:pt x="37" y="818"/>
                    </a:cubicBezTo>
                    <a:cubicBezTo>
                      <a:pt x="75" y="890"/>
                      <a:pt x="146" y="955"/>
                      <a:pt x="231" y="965"/>
                    </a:cubicBezTo>
                    <a:cubicBezTo>
                      <a:pt x="305" y="973"/>
                      <a:pt x="379" y="966"/>
                      <a:pt x="455" y="977"/>
                    </a:cubicBezTo>
                    <a:cubicBezTo>
                      <a:pt x="542" y="988"/>
                      <a:pt x="622" y="1023"/>
                      <a:pt x="702" y="1053"/>
                    </a:cubicBezTo>
                    <a:cubicBezTo>
                      <a:pt x="777" y="1081"/>
                      <a:pt x="824" y="1148"/>
                      <a:pt x="885" y="1194"/>
                    </a:cubicBezTo>
                    <a:cubicBezTo>
                      <a:pt x="930" y="1229"/>
                      <a:pt x="875" y="1435"/>
                      <a:pt x="944" y="1247"/>
                    </a:cubicBezTo>
                    <a:cubicBezTo>
                      <a:pt x="967" y="1185"/>
                      <a:pt x="1010" y="1133"/>
                      <a:pt x="1009" y="1059"/>
                    </a:cubicBezTo>
                    <a:cubicBezTo>
                      <a:pt x="1007" y="975"/>
                      <a:pt x="1083" y="911"/>
                      <a:pt x="1150" y="865"/>
                    </a:cubicBezTo>
                    <a:cubicBezTo>
                      <a:pt x="1205" y="826"/>
                      <a:pt x="1267" y="745"/>
                      <a:pt x="1232" y="682"/>
                    </a:cubicBezTo>
                    <a:cubicBezTo>
                      <a:pt x="1188" y="603"/>
                      <a:pt x="1093" y="562"/>
                      <a:pt x="1009" y="524"/>
                    </a:cubicBezTo>
                    <a:cubicBezTo>
                      <a:pt x="946" y="495"/>
                      <a:pt x="884" y="531"/>
                      <a:pt x="832" y="482"/>
                    </a:cubicBezTo>
                    <a:lnTo>
                      <a:pt x="773" y="453"/>
                    </a:lnTo>
                    <a:lnTo>
                      <a:pt x="708" y="412"/>
                    </a:lnTo>
                    <a:lnTo>
                      <a:pt x="685" y="400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18"/>
              <p:cNvSpPr/>
              <p:nvPr/>
            </p:nvSpPr>
            <p:spPr>
              <a:xfrm>
                <a:off x="6325200" y="7196760"/>
                <a:ext cx="40680" cy="36000"/>
              </a:xfrm>
              <a:custGeom>
                <a:avLst/>
                <a:gdLst/>
                <a:ahLst/>
                <a:rect l="l" t="t" r="r" b="b"/>
                <a:pathLst>
                  <a:path w="113" h="101">
                    <a:moveTo>
                      <a:pt x="0" y="0"/>
                    </a:moveTo>
                    <a:lnTo>
                      <a:pt x="59" y="47"/>
                    </a:lnTo>
                    <a:lnTo>
                      <a:pt x="112" y="100"/>
                    </a:lnTo>
                  </a:path>
                </a:pathLst>
              </a:custGeom>
              <a:noFill/>
              <a:ln w="36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Text Box 19"/>
              <p:cNvSpPr/>
              <p:nvPr/>
            </p:nvSpPr>
            <p:spPr>
              <a:xfrm>
                <a:off x="6019200" y="7307640"/>
                <a:ext cx="951120" cy="36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gewünschtes Ge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0"/>
              <p:cNvSpPr/>
              <p:nvPr/>
            </p:nvSpPr>
            <p:spPr>
              <a:xfrm flipV="1">
                <a:off x="6296400" y="7207920"/>
                <a:ext cx="45720" cy="1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AutoShape 21"/>
              <p:cNvSpPr/>
              <p:nvPr/>
            </p:nvSpPr>
            <p:spPr>
              <a:xfrm>
                <a:off x="5587920" y="6789600"/>
                <a:ext cx="1322280" cy="858600"/>
              </a:xfrm>
              <a:prstGeom prst="roundRect">
                <a:avLst>
                  <a:gd name="adj" fmla="val 18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"/>
            <p:cNvGrpSpPr/>
            <p:nvPr/>
          </p:nvGrpSpPr>
          <p:grpSpPr>
            <a:xfrm>
              <a:off x="5732640" y="5248440"/>
              <a:ext cx="990000" cy="950760"/>
              <a:chOff x="5732640" y="5248440"/>
              <a:chExt cx="990000" cy="950760"/>
            </a:xfrm>
          </p:grpSpPr>
          <p:sp>
            <p:nvSpPr>
              <p:cNvPr id="81" name="Oval 23"/>
              <p:cNvSpPr/>
              <p:nvPr/>
            </p:nvSpPr>
            <p:spPr>
              <a:xfrm>
                <a:off x="5733720" y="5248440"/>
                <a:ext cx="988920" cy="950760"/>
              </a:xfrm>
              <a:prstGeom prst="ellipse">
                <a:avLst/>
              </a:prstGeom>
              <a:noFill/>
              <a:ln w="72000">
                <a:solidFill>
                  <a:srgbClr val="ff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5732640" y="5416200"/>
                <a:ext cx="121680" cy="451800"/>
              </a:xfrm>
              <a:custGeom>
                <a:avLst/>
                <a:gdLst/>
                <a:ahLst/>
                <a:rect l="l" t="t" r="r" b="b"/>
                <a:pathLst>
                  <a:path w="341" h="1255">
                    <a:moveTo>
                      <a:pt x="58" y="1254"/>
                    </a:moveTo>
                    <a:cubicBezTo>
                      <a:pt x="5" y="1042"/>
                      <a:pt x="25" y="1096"/>
                      <a:pt x="25" y="1096"/>
                    </a:cubicBezTo>
                    <a:lnTo>
                      <a:pt x="0" y="844"/>
                    </a:lnTo>
                    <a:lnTo>
                      <a:pt x="0" y="731"/>
                    </a:lnTo>
                    <a:lnTo>
                      <a:pt x="25" y="580"/>
                    </a:lnTo>
                    <a:lnTo>
                      <a:pt x="50" y="466"/>
                    </a:lnTo>
                    <a:lnTo>
                      <a:pt x="126" y="315"/>
                    </a:lnTo>
                    <a:lnTo>
                      <a:pt x="201" y="164"/>
                    </a:lnTo>
                    <a:lnTo>
                      <a:pt x="277" y="63"/>
                    </a:lnTo>
                    <a:lnTo>
                      <a:pt x="340" y="0"/>
                    </a:lnTo>
                  </a:path>
                </a:pathLst>
              </a:custGeom>
              <a:noFill/>
              <a:ln w="72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5758920" y="5869440"/>
                <a:ext cx="36360" cy="871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0" y="0"/>
                    </a:moveTo>
                    <a:lnTo>
                      <a:pt x="26" y="63"/>
                    </a:lnTo>
                    <a:cubicBezTo>
                      <a:pt x="52" y="126"/>
                      <a:pt x="51" y="177"/>
                      <a:pt x="38" y="177"/>
                    </a:cubicBezTo>
                    <a:cubicBezTo>
                      <a:pt x="25" y="177"/>
                      <a:pt x="101" y="240"/>
                      <a:pt x="101" y="240"/>
                    </a:cubicBezTo>
                  </a:path>
                </a:pathLst>
              </a:custGeom>
              <a:noFill/>
              <a:ln w="720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5849640" y="5366880"/>
                <a:ext cx="43920" cy="47520"/>
              </a:xfrm>
              <a:custGeom>
                <a:avLst/>
                <a:gdLst/>
                <a:ahLst/>
                <a:rect l="l" t="t" r="r" b="b"/>
                <a:pathLst>
                  <a:path w="122" h="134">
                    <a:moveTo>
                      <a:pt x="0" y="133"/>
                    </a:moveTo>
                    <a:lnTo>
                      <a:pt x="55" y="67"/>
                    </a:lnTo>
                    <a:cubicBezTo>
                      <a:pt x="110" y="1"/>
                      <a:pt x="121" y="0"/>
                      <a:pt x="121" y="0"/>
                    </a:cubicBezTo>
                  </a:path>
                </a:pathLst>
              </a:custGeom>
              <a:noFill/>
              <a:ln w="720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27"/>
            <p:cNvGrpSpPr/>
            <p:nvPr/>
          </p:nvGrpSpPr>
          <p:grpSpPr>
            <a:xfrm>
              <a:off x="5583960" y="3555720"/>
              <a:ext cx="1707840" cy="1629000"/>
              <a:chOff x="5583960" y="3555720"/>
              <a:chExt cx="1707840" cy="1629000"/>
            </a:xfrm>
          </p:grpSpPr>
          <p:sp>
            <p:nvSpPr>
              <p:cNvPr id="86" name="AutoShape 28"/>
              <p:cNvSpPr/>
              <p:nvPr/>
            </p:nvSpPr>
            <p:spPr>
              <a:xfrm rot="2340000">
                <a:off x="5711760" y="3909960"/>
                <a:ext cx="1452240" cy="920160"/>
              </a:xfrm>
              <a:prstGeom prst="roundRect">
                <a:avLst>
                  <a:gd name="adj" fmla="val 497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6350760" y="4152240"/>
                <a:ext cx="646920" cy="93672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" name="Group 30"/>
              <p:cNvGrpSpPr/>
              <p:nvPr/>
            </p:nvGrpSpPr>
            <p:grpSpPr>
              <a:xfrm>
                <a:off x="5949720" y="3754440"/>
                <a:ext cx="375120" cy="529200"/>
                <a:chOff x="5949720" y="3754440"/>
                <a:chExt cx="375120" cy="529200"/>
              </a:xfrm>
            </p:grpSpPr>
            <p:sp>
              <p:nvSpPr>
                <p:cNvPr id="89" name="Oval 31"/>
                <p:cNvSpPr/>
                <p:nvPr/>
              </p:nvSpPr>
              <p:spPr>
                <a:xfrm>
                  <a:off x="5951160" y="3754440"/>
                  <a:ext cx="373680" cy="529200"/>
                </a:xfrm>
                <a:prstGeom prst="ellipse">
                  <a:avLst/>
                </a:prstGeom>
                <a:noFill/>
                <a:ln w="36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2"/>
                <p:cNvSpPr/>
                <p:nvPr/>
              </p:nvSpPr>
              <p:spPr>
                <a:xfrm>
                  <a:off x="5949720" y="3846240"/>
                  <a:ext cx="46080" cy="25056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36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3"/>
                <p:cNvSpPr/>
                <p:nvPr/>
              </p:nvSpPr>
              <p:spPr>
                <a:xfrm>
                  <a:off x="5961240" y="4098960"/>
                  <a:ext cx="12960" cy="4824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4"/>
                <p:cNvSpPr/>
                <p:nvPr/>
              </p:nvSpPr>
              <p:spPr>
                <a:xfrm>
                  <a:off x="5994000" y="3819960"/>
                  <a:ext cx="16200" cy="2628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35"/>
              <p:cNvSpPr/>
              <p:nvPr/>
            </p:nvSpPr>
            <p:spPr>
              <a:xfrm>
                <a:off x="6350760" y="4152240"/>
                <a:ext cx="646920" cy="93672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" name="Group 36"/>
              <p:cNvGrpSpPr/>
              <p:nvPr/>
            </p:nvGrpSpPr>
            <p:grpSpPr>
              <a:xfrm>
                <a:off x="5951160" y="3754440"/>
                <a:ext cx="373680" cy="529200"/>
                <a:chOff x="5951160" y="3754440"/>
                <a:chExt cx="373680" cy="529200"/>
              </a:xfrm>
            </p:grpSpPr>
            <p:sp>
              <p:nvSpPr>
                <p:cNvPr id="95" name="Oval 37"/>
                <p:cNvSpPr/>
                <p:nvPr/>
              </p:nvSpPr>
              <p:spPr>
                <a:xfrm>
                  <a:off x="5951160" y="3754440"/>
                  <a:ext cx="373680" cy="529200"/>
                </a:xfrm>
                <a:prstGeom prst="ellipse">
                  <a:avLst/>
                </a:prstGeom>
                <a:noFill/>
                <a:ln w="36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8"/>
                <p:cNvSpPr/>
                <p:nvPr/>
              </p:nvSpPr>
              <p:spPr>
                <a:xfrm>
                  <a:off x="5951160" y="3846240"/>
                  <a:ext cx="46440" cy="25056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36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9"/>
                <p:cNvSpPr/>
                <p:nvPr/>
              </p:nvSpPr>
              <p:spPr>
                <a:xfrm>
                  <a:off x="5961240" y="4098960"/>
                  <a:ext cx="12960" cy="4824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0"/>
                <p:cNvSpPr/>
                <p:nvPr/>
              </p:nvSpPr>
              <p:spPr>
                <a:xfrm>
                  <a:off x="5995800" y="3819960"/>
                  <a:ext cx="16200" cy="2628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41"/>
            <p:cNvGrpSpPr/>
            <p:nvPr/>
          </p:nvGrpSpPr>
          <p:grpSpPr>
            <a:xfrm>
              <a:off x="5771520" y="8128440"/>
              <a:ext cx="1287000" cy="1237680"/>
              <a:chOff x="5771520" y="8128440"/>
              <a:chExt cx="1287000" cy="1237680"/>
            </a:xfrm>
          </p:grpSpPr>
          <p:grpSp>
            <p:nvGrpSpPr>
              <p:cNvPr id="100" name="Group 42"/>
              <p:cNvGrpSpPr/>
              <p:nvPr/>
            </p:nvGrpSpPr>
            <p:grpSpPr>
              <a:xfrm>
                <a:off x="6080400" y="8128440"/>
                <a:ext cx="845640" cy="807120"/>
                <a:chOff x="6080400" y="8128440"/>
                <a:chExt cx="845640" cy="807120"/>
              </a:xfrm>
            </p:grpSpPr>
            <p:sp>
              <p:nvSpPr>
                <p:cNvPr id="101" name="AutoShape 43"/>
                <p:cNvSpPr/>
                <p:nvPr/>
              </p:nvSpPr>
              <p:spPr>
                <a:xfrm rot="2340000">
                  <a:off x="6144120" y="8303040"/>
                  <a:ext cx="717840" cy="457200"/>
                </a:xfrm>
                <a:prstGeom prst="roundRect">
                  <a:avLst>
                    <a:gd name="adj" fmla="val 4975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44"/>
                <p:cNvSpPr/>
                <p:nvPr/>
              </p:nvSpPr>
              <p:spPr>
                <a:xfrm>
                  <a:off x="6458040" y="8418600"/>
                  <a:ext cx="320760" cy="464400"/>
                </a:xfrm>
                <a:custGeom>
                  <a:avLst/>
                  <a:gdLst/>
                  <a:ahLst/>
                  <a:rect l="l" t="t" r="r" b="b"/>
                  <a:pathLst>
                    <a:path w="1716" h="1694">
                      <a:moveTo>
                        <a:pt x="973" y="765"/>
                      </a:moveTo>
                      <a:cubicBezTo>
                        <a:pt x="1083" y="695"/>
                        <a:pt x="1191" y="781"/>
                        <a:pt x="1229" y="868"/>
                      </a:cubicBezTo>
                      <a:cubicBezTo>
                        <a:pt x="1271" y="962"/>
                        <a:pt x="1181" y="1084"/>
                        <a:pt x="1079" y="1106"/>
                      </a:cubicBezTo>
                      <a:cubicBezTo>
                        <a:pt x="967" y="1130"/>
                        <a:pt x="853" y="1128"/>
                        <a:pt x="740" y="1133"/>
                      </a:cubicBezTo>
                      <a:cubicBezTo>
                        <a:pt x="598" y="1140"/>
                        <a:pt x="681" y="1332"/>
                        <a:pt x="740" y="1370"/>
                      </a:cubicBezTo>
                      <a:cubicBezTo>
                        <a:pt x="820" y="1421"/>
                        <a:pt x="928" y="1465"/>
                        <a:pt x="1029" y="1406"/>
                      </a:cubicBezTo>
                      <a:cubicBezTo>
                        <a:pt x="1135" y="1344"/>
                        <a:pt x="1050" y="1217"/>
                        <a:pt x="1020" y="1142"/>
                      </a:cubicBezTo>
                      <a:cubicBezTo>
                        <a:pt x="981" y="1044"/>
                        <a:pt x="858" y="1050"/>
                        <a:pt x="808" y="973"/>
                      </a:cubicBezTo>
                      <a:cubicBezTo>
                        <a:pt x="756" y="892"/>
                        <a:pt x="741" y="795"/>
                        <a:pt x="720" y="697"/>
                      </a:cubicBezTo>
                      <a:cubicBezTo>
                        <a:pt x="698" y="594"/>
                        <a:pt x="762" y="452"/>
                        <a:pt x="875" y="491"/>
                      </a:cubicBezTo>
                      <a:cubicBezTo>
                        <a:pt x="932" y="511"/>
                        <a:pt x="1077" y="624"/>
                        <a:pt x="954" y="678"/>
                      </a:cubicBezTo>
                      <a:cubicBezTo>
                        <a:pt x="848" y="724"/>
                        <a:pt x="732" y="734"/>
                        <a:pt x="620" y="760"/>
                      </a:cubicBezTo>
                      <a:cubicBezTo>
                        <a:pt x="474" y="795"/>
                        <a:pt x="564" y="938"/>
                        <a:pt x="640" y="972"/>
                      </a:cubicBezTo>
                      <a:cubicBezTo>
                        <a:pt x="742" y="1017"/>
                        <a:pt x="826" y="938"/>
                        <a:pt x="907" y="897"/>
                      </a:cubicBezTo>
                      <a:cubicBezTo>
                        <a:pt x="1000" y="850"/>
                        <a:pt x="1123" y="906"/>
                        <a:pt x="1148" y="1008"/>
                      </a:cubicBezTo>
                      <a:cubicBezTo>
                        <a:pt x="1172" y="1110"/>
                        <a:pt x="1181" y="1222"/>
                        <a:pt x="1244" y="1310"/>
                      </a:cubicBezTo>
                      <a:cubicBezTo>
                        <a:pt x="1301" y="1390"/>
                        <a:pt x="1423" y="1409"/>
                        <a:pt x="1511" y="1360"/>
                      </a:cubicBezTo>
                      <a:cubicBezTo>
                        <a:pt x="1594" y="1314"/>
                        <a:pt x="1675" y="1202"/>
                        <a:pt x="1630" y="1125"/>
                      </a:cubicBezTo>
                      <a:cubicBezTo>
                        <a:pt x="1576" y="1037"/>
                        <a:pt x="1432" y="1084"/>
                        <a:pt x="1343" y="1122"/>
                      </a:cubicBezTo>
                      <a:cubicBezTo>
                        <a:pt x="1260" y="1159"/>
                        <a:pt x="1178" y="1200"/>
                        <a:pt x="1105" y="1261"/>
                      </a:cubicBezTo>
                      <a:cubicBezTo>
                        <a:pt x="1027" y="1325"/>
                        <a:pt x="954" y="1386"/>
                        <a:pt x="838" y="1396"/>
                      </a:cubicBezTo>
                      <a:cubicBezTo>
                        <a:pt x="737" y="1405"/>
                        <a:pt x="628" y="1428"/>
                        <a:pt x="549" y="1372"/>
                      </a:cubicBezTo>
                      <a:cubicBezTo>
                        <a:pt x="473" y="1317"/>
                        <a:pt x="434" y="1223"/>
                        <a:pt x="388" y="1140"/>
                      </a:cubicBezTo>
                      <a:cubicBezTo>
                        <a:pt x="331" y="1039"/>
                        <a:pt x="320" y="934"/>
                        <a:pt x="290" y="826"/>
                      </a:cubicBezTo>
                      <a:cubicBezTo>
                        <a:pt x="259" y="716"/>
                        <a:pt x="285" y="596"/>
                        <a:pt x="297" y="482"/>
                      </a:cubicBezTo>
                      <a:cubicBezTo>
                        <a:pt x="306" y="381"/>
                        <a:pt x="312" y="271"/>
                        <a:pt x="374" y="185"/>
                      </a:cubicBezTo>
                      <a:cubicBezTo>
                        <a:pt x="425" y="114"/>
                        <a:pt x="528" y="0"/>
                        <a:pt x="605" y="81"/>
                      </a:cubicBezTo>
                      <a:cubicBezTo>
                        <a:pt x="673" y="152"/>
                        <a:pt x="624" y="298"/>
                        <a:pt x="529" y="339"/>
                      </a:cubicBezTo>
                      <a:cubicBezTo>
                        <a:pt x="429" y="382"/>
                        <a:pt x="339" y="458"/>
                        <a:pt x="228" y="468"/>
                      </a:cubicBezTo>
                      <a:cubicBezTo>
                        <a:pt x="142" y="476"/>
                        <a:pt x="0" y="510"/>
                        <a:pt x="13" y="626"/>
                      </a:cubicBezTo>
                      <a:cubicBezTo>
                        <a:pt x="25" y="722"/>
                        <a:pt x="83" y="818"/>
                        <a:pt x="171" y="864"/>
                      </a:cubicBezTo>
                      <a:cubicBezTo>
                        <a:pt x="256" y="908"/>
                        <a:pt x="368" y="869"/>
                        <a:pt x="433" y="796"/>
                      </a:cubicBezTo>
                      <a:cubicBezTo>
                        <a:pt x="493" y="729"/>
                        <a:pt x="524" y="642"/>
                        <a:pt x="567" y="565"/>
                      </a:cubicBezTo>
                      <a:cubicBezTo>
                        <a:pt x="623" y="469"/>
                        <a:pt x="593" y="334"/>
                        <a:pt x="497" y="293"/>
                      </a:cubicBezTo>
                      <a:cubicBezTo>
                        <a:pt x="409" y="255"/>
                        <a:pt x="281" y="277"/>
                        <a:pt x="224" y="198"/>
                      </a:cubicBezTo>
                      <a:cubicBezTo>
                        <a:pt x="158" y="107"/>
                        <a:pt x="324" y="16"/>
                        <a:pt x="417" y="44"/>
                      </a:cubicBezTo>
                      <a:cubicBezTo>
                        <a:pt x="523" y="76"/>
                        <a:pt x="542" y="184"/>
                        <a:pt x="589" y="263"/>
                      </a:cubicBezTo>
                      <a:cubicBezTo>
                        <a:pt x="643" y="355"/>
                        <a:pt x="649" y="467"/>
                        <a:pt x="696" y="565"/>
                      </a:cubicBezTo>
                      <a:cubicBezTo>
                        <a:pt x="750" y="675"/>
                        <a:pt x="791" y="794"/>
                        <a:pt x="862" y="893"/>
                      </a:cubicBezTo>
                      <a:cubicBezTo>
                        <a:pt x="921" y="974"/>
                        <a:pt x="999" y="1041"/>
                        <a:pt x="1079" y="1106"/>
                      </a:cubicBezTo>
                      <a:cubicBezTo>
                        <a:pt x="1149" y="1164"/>
                        <a:pt x="1232" y="1217"/>
                        <a:pt x="1323" y="1210"/>
                      </a:cubicBezTo>
                      <a:cubicBezTo>
                        <a:pt x="1425" y="1201"/>
                        <a:pt x="1491" y="1098"/>
                        <a:pt x="1517" y="1004"/>
                      </a:cubicBezTo>
                      <a:cubicBezTo>
                        <a:pt x="1543" y="910"/>
                        <a:pt x="1491" y="800"/>
                        <a:pt x="1385" y="796"/>
                      </a:cubicBezTo>
                      <a:cubicBezTo>
                        <a:pt x="1261" y="792"/>
                        <a:pt x="1242" y="911"/>
                        <a:pt x="1135" y="936"/>
                      </a:cubicBezTo>
                      <a:cubicBezTo>
                        <a:pt x="1037" y="959"/>
                        <a:pt x="977" y="1055"/>
                        <a:pt x="900" y="1118"/>
                      </a:cubicBezTo>
                      <a:cubicBezTo>
                        <a:pt x="829" y="1176"/>
                        <a:pt x="766" y="1243"/>
                        <a:pt x="675" y="1277"/>
                      </a:cubicBezTo>
                      <a:cubicBezTo>
                        <a:pt x="561" y="1320"/>
                        <a:pt x="458" y="1286"/>
                        <a:pt x="369" y="1238"/>
                      </a:cubicBezTo>
                      <a:cubicBezTo>
                        <a:pt x="269" y="1185"/>
                        <a:pt x="262" y="1047"/>
                        <a:pt x="245" y="944"/>
                      </a:cubicBezTo>
                      <a:cubicBezTo>
                        <a:pt x="225" y="815"/>
                        <a:pt x="238" y="678"/>
                        <a:pt x="292" y="550"/>
                      </a:cubicBezTo>
                      <a:cubicBezTo>
                        <a:pt x="344" y="425"/>
                        <a:pt x="439" y="331"/>
                        <a:pt x="507" y="218"/>
                      </a:cubicBezTo>
                      <a:cubicBezTo>
                        <a:pt x="563" y="124"/>
                        <a:pt x="639" y="34"/>
                        <a:pt x="735" y="31"/>
                      </a:cubicBezTo>
                      <a:cubicBezTo>
                        <a:pt x="854" y="27"/>
                        <a:pt x="808" y="220"/>
                        <a:pt x="779" y="312"/>
                      </a:cubicBezTo>
                      <a:cubicBezTo>
                        <a:pt x="747" y="412"/>
                        <a:pt x="717" y="512"/>
                        <a:pt x="696" y="616"/>
                      </a:cubicBezTo>
                      <a:cubicBezTo>
                        <a:pt x="665" y="758"/>
                        <a:pt x="653" y="902"/>
                        <a:pt x="642" y="1045"/>
                      </a:cubicBezTo>
                      <a:cubicBezTo>
                        <a:pt x="630" y="1178"/>
                        <a:pt x="666" y="1308"/>
                        <a:pt x="685" y="1439"/>
                      </a:cubicBezTo>
                      <a:cubicBezTo>
                        <a:pt x="699" y="1535"/>
                        <a:pt x="777" y="1597"/>
                        <a:pt x="855" y="1636"/>
                      </a:cubicBezTo>
                      <a:cubicBezTo>
                        <a:pt x="950" y="1684"/>
                        <a:pt x="1076" y="1693"/>
                        <a:pt x="1174" y="1634"/>
                      </a:cubicBezTo>
                      <a:cubicBezTo>
                        <a:pt x="1281" y="1570"/>
                        <a:pt x="1240" y="1426"/>
                        <a:pt x="1197" y="1344"/>
                      </a:cubicBezTo>
                      <a:cubicBezTo>
                        <a:pt x="1144" y="1246"/>
                        <a:pt x="1033" y="1271"/>
                        <a:pt x="945" y="1236"/>
                      </a:cubicBezTo>
                      <a:cubicBezTo>
                        <a:pt x="850" y="1198"/>
                        <a:pt x="745" y="1187"/>
                        <a:pt x="651" y="1145"/>
                      </a:cubicBezTo>
                      <a:cubicBezTo>
                        <a:pt x="559" y="1104"/>
                        <a:pt x="471" y="1055"/>
                        <a:pt x="380" y="1011"/>
                      </a:cubicBezTo>
                      <a:cubicBezTo>
                        <a:pt x="295" y="971"/>
                        <a:pt x="209" y="903"/>
                        <a:pt x="192" y="799"/>
                      </a:cubicBezTo>
                      <a:cubicBezTo>
                        <a:pt x="174" y="688"/>
                        <a:pt x="263" y="617"/>
                        <a:pt x="331" y="550"/>
                      </a:cubicBezTo>
                      <a:cubicBezTo>
                        <a:pt x="407" y="477"/>
                        <a:pt x="518" y="415"/>
                        <a:pt x="623" y="445"/>
                      </a:cubicBezTo>
                      <a:cubicBezTo>
                        <a:pt x="717" y="471"/>
                        <a:pt x="817" y="451"/>
                        <a:pt x="904" y="504"/>
                      </a:cubicBezTo>
                      <a:cubicBezTo>
                        <a:pt x="985" y="555"/>
                        <a:pt x="1052" y="626"/>
                        <a:pt x="1133" y="677"/>
                      </a:cubicBezTo>
                      <a:cubicBezTo>
                        <a:pt x="1207" y="725"/>
                        <a:pt x="1254" y="795"/>
                        <a:pt x="1323" y="849"/>
                      </a:cubicBezTo>
                      <a:cubicBezTo>
                        <a:pt x="1397" y="908"/>
                        <a:pt x="1468" y="974"/>
                        <a:pt x="1566" y="993"/>
                      </a:cubicBezTo>
                      <a:cubicBezTo>
                        <a:pt x="1715" y="1021"/>
                        <a:pt x="1705" y="835"/>
                        <a:pt x="1657" y="767"/>
                      </a:cubicBezTo>
                      <a:cubicBezTo>
                        <a:pt x="1609" y="699"/>
                        <a:pt x="1542" y="592"/>
                        <a:pt x="1448" y="631"/>
                      </a:cubicBezTo>
                      <a:cubicBezTo>
                        <a:pt x="1364" y="664"/>
                        <a:pt x="1295" y="746"/>
                        <a:pt x="1284" y="849"/>
                      </a:cubicBezTo>
                      <a:cubicBezTo>
                        <a:pt x="1272" y="957"/>
                        <a:pt x="1281" y="1065"/>
                        <a:pt x="1264" y="1172"/>
                      </a:cubicBezTo>
                      <a:cubicBezTo>
                        <a:pt x="1251" y="1259"/>
                        <a:pt x="1243" y="1366"/>
                        <a:pt x="1154" y="1423"/>
                      </a:cubicBezTo>
                      <a:cubicBezTo>
                        <a:pt x="1063" y="1480"/>
                        <a:pt x="947" y="1510"/>
                        <a:pt x="850" y="1468"/>
                      </a:cubicBezTo>
                      <a:cubicBezTo>
                        <a:pt x="769" y="1433"/>
                        <a:pt x="691" y="1379"/>
                        <a:pt x="644" y="1303"/>
                      </a:cubicBezTo>
                      <a:cubicBezTo>
                        <a:pt x="572" y="1189"/>
                        <a:pt x="602" y="1049"/>
                        <a:pt x="601" y="921"/>
                      </a:cubicBezTo>
                      <a:cubicBezTo>
                        <a:pt x="601" y="822"/>
                        <a:pt x="637" y="721"/>
                        <a:pt x="698" y="638"/>
                      </a:cubicBezTo>
                      <a:cubicBezTo>
                        <a:pt x="773" y="535"/>
                        <a:pt x="905" y="559"/>
                        <a:pt x="1008" y="547"/>
                      </a:cubicBezTo>
                      <a:cubicBezTo>
                        <a:pt x="1085" y="538"/>
                        <a:pt x="1297" y="639"/>
                        <a:pt x="1252" y="454"/>
                      </a:cubicBezTo>
                      <a:cubicBezTo>
                        <a:pt x="1230" y="366"/>
                        <a:pt x="1198" y="273"/>
                        <a:pt x="1116" y="212"/>
                      </a:cubicBezTo>
                      <a:cubicBezTo>
                        <a:pt x="1028" y="147"/>
                        <a:pt x="928" y="141"/>
                        <a:pt x="832" y="108"/>
                      </a:cubicBezTo>
                      <a:cubicBezTo>
                        <a:pt x="737" y="75"/>
                        <a:pt x="595" y="58"/>
                        <a:pt x="517" y="155"/>
                      </a:cubicBezTo>
                      <a:cubicBezTo>
                        <a:pt x="455" y="232"/>
                        <a:pt x="374" y="293"/>
                        <a:pt x="326" y="382"/>
                      </a:cubicBezTo>
                      <a:cubicBezTo>
                        <a:pt x="272" y="483"/>
                        <a:pt x="259" y="599"/>
                        <a:pt x="262" y="711"/>
                      </a:cubicBezTo>
                      <a:cubicBezTo>
                        <a:pt x="266" y="833"/>
                        <a:pt x="301" y="950"/>
                        <a:pt x="324" y="1069"/>
                      </a:cubicBezTo>
                      <a:cubicBezTo>
                        <a:pt x="351" y="1203"/>
                        <a:pt x="500" y="1141"/>
                        <a:pt x="575" y="1115"/>
                      </a:cubicBezTo>
                      <a:cubicBezTo>
                        <a:pt x="665" y="1085"/>
                        <a:pt x="735" y="1013"/>
                        <a:pt x="788" y="936"/>
                      </a:cubicBezTo>
                      <a:lnTo>
                        <a:pt x="843" y="866"/>
                      </a:lnTo>
                      <a:lnTo>
                        <a:pt x="898" y="798"/>
                      </a:lnTo>
                      <a:lnTo>
                        <a:pt x="956" y="762"/>
                      </a:lnTo>
                      <a:lnTo>
                        <a:pt x="973" y="765"/>
                      </a:lnTo>
                    </a:path>
                  </a:pathLst>
                </a:custGeom>
                <a:noFill/>
                <a:ln w="9360">
                  <a:solidFill>
                    <a:srgbClr val="23ff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" name="Group 45"/>
                <p:cNvGrpSpPr/>
                <p:nvPr/>
              </p:nvGrpSpPr>
              <p:grpSpPr>
                <a:xfrm>
                  <a:off x="6258600" y="8223120"/>
                  <a:ext cx="183960" cy="261360"/>
                  <a:chOff x="6258600" y="8223120"/>
                  <a:chExt cx="183960" cy="261360"/>
                </a:xfrm>
              </p:grpSpPr>
              <p:sp>
                <p:nvSpPr>
                  <p:cNvPr id="104" name="Oval 46"/>
                  <p:cNvSpPr/>
                  <p:nvPr/>
                </p:nvSpPr>
                <p:spPr>
                  <a:xfrm>
                    <a:off x="6258600" y="8223120"/>
                    <a:ext cx="183960" cy="261360"/>
                  </a:xfrm>
                  <a:prstGeom prst="ellipse">
                    <a:avLst/>
                  </a:prstGeom>
                  <a:noFill/>
                  <a:ln w="36000">
                    <a:solidFill>
                      <a:srgbClr val="ff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47"/>
                  <p:cNvSpPr/>
                  <p:nvPr/>
                </p:nvSpPr>
                <p:spPr>
                  <a:xfrm>
                    <a:off x="6258600" y="8266320"/>
                    <a:ext cx="2304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1255">
                        <a:moveTo>
                          <a:pt x="58" y="1254"/>
                        </a:moveTo>
                        <a:cubicBezTo>
                          <a:pt x="5" y="1042"/>
                          <a:pt x="25" y="1096"/>
                          <a:pt x="25" y="1096"/>
                        </a:cubicBezTo>
                        <a:lnTo>
                          <a:pt x="0" y="844"/>
                        </a:lnTo>
                        <a:lnTo>
                          <a:pt x="0" y="731"/>
                        </a:lnTo>
                        <a:lnTo>
                          <a:pt x="25" y="580"/>
                        </a:lnTo>
                        <a:lnTo>
                          <a:pt x="50" y="466"/>
                        </a:lnTo>
                        <a:lnTo>
                          <a:pt x="126" y="315"/>
                        </a:lnTo>
                        <a:lnTo>
                          <a:pt x="201" y="164"/>
                        </a:lnTo>
                        <a:lnTo>
                          <a:pt x="277" y="63"/>
                        </a:lnTo>
                        <a:lnTo>
                          <a:pt x="340" y="0"/>
                        </a:lnTo>
                      </a:path>
                    </a:pathLst>
                  </a:custGeom>
                  <a:noFill/>
                  <a:ln w="36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48"/>
                  <p:cNvSpPr/>
                  <p:nvPr/>
                </p:nvSpPr>
                <p:spPr>
                  <a:xfrm>
                    <a:off x="6263280" y="8392680"/>
                    <a:ext cx="64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41">
                        <a:moveTo>
                          <a:pt x="0" y="0"/>
                        </a:moveTo>
                        <a:lnTo>
                          <a:pt x="26" y="63"/>
                        </a:lnTo>
                        <a:cubicBezTo>
                          <a:pt x="52" y="126"/>
                          <a:pt x="51" y="177"/>
                          <a:pt x="38" y="177"/>
                        </a:cubicBezTo>
                        <a:cubicBezTo>
                          <a:pt x="25" y="177"/>
                          <a:pt x="101" y="240"/>
                          <a:pt x="101" y="240"/>
                        </a:cubicBezTo>
                      </a:path>
                    </a:pathLst>
                  </a:custGeom>
                  <a:noFill/>
                  <a:ln w="36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49"/>
                  <p:cNvSpPr/>
                  <p:nvPr/>
                </p:nvSpPr>
                <p:spPr>
                  <a:xfrm>
                    <a:off x="6279840" y="8254080"/>
                    <a:ext cx="79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4">
                        <a:moveTo>
                          <a:pt x="0" y="133"/>
                        </a:moveTo>
                        <a:lnTo>
                          <a:pt x="55" y="67"/>
                        </a:lnTo>
                        <a:cubicBezTo>
                          <a:pt x="110" y="1"/>
                          <a:pt x="121" y="0"/>
                          <a:pt x="121" y="0"/>
                        </a:cubicBezTo>
                      </a:path>
                    </a:pathLst>
                  </a:custGeom>
                  <a:noFill/>
                  <a:ln w="36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" name="Freeform 50"/>
                <p:cNvSpPr/>
                <p:nvPr/>
              </p:nvSpPr>
              <p:spPr>
                <a:xfrm>
                  <a:off x="6458040" y="8418600"/>
                  <a:ext cx="320760" cy="464400"/>
                </a:xfrm>
                <a:custGeom>
                  <a:avLst/>
                  <a:gdLst/>
                  <a:ahLst/>
                  <a:rect l="l" t="t" r="r" b="b"/>
                  <a:pathLst>
                    <a:path w="1716" h="1694">
                      <a:moveTo>
                        <a:pt x="973" y="765"/>
                      </a:moveTo>
                      <a:cubicBezTo>
                        <a:pt x="1083" y="695"/>
                        <a:pt x="1191" y="781"/>
                        <a:pt x="1229" y="868"/>
                      </a:cubicBezTo>
                      <a:cubicBezTo>
                        <a:pt x="1271" y="962"/>
                        <a:pt x="1181" y="1084"/>
                        <a:pt x="1079" y="1106"/>
                      </a:cubicBezTo>
                      <a:cubicBezTo>
                        <a:pt x="967" y="1130"/>
                        <a:pt x="853" y="1128"/>
                        <a:pt x="740" y="1133"/>
                      </a:cubicBezTo>
                      <a:cubicBezTo>
                        <a:pt x="598" y="1140"/>
                        <a:pt x="681" y="1332"/>
                        <a:pt x="740" y="1370"/>
                      </a:cubicBezTo>
                      <a:cubicBezTo>
                        <a:pt x="820" y="1421"/>
                        <a:pt x="928" y="1465"/>
                        <a:pt x="1029" y="1406"/>
                      </a:cubicBezTo>
                      <a:cubicBezTo>
                        <a:pt x="1135" y="1344"/>
                        <a:pt x="1050" y="1217"/>
                        <a:pt x="1020" y="1142"/>
                      </a:cubicBezTo>
                      <a:cubicBezTo>
                        <a:pt x="981" y="1044"/>
                        <a:pt x="858" y="1050"/>
                        <a:pt x="808" y="973"/>
                      </a:cubicBezTo>
                      <a:cubicBezTo>
                        <a:pt x="756" y="892"/>
                        <a:pt x="741" y="795"/>
                        <a:pt x="720" y="697"/>
                      </a:cubicBezTo>
                      <a:cubicBezTo>
                        <a:pt x="698" y="594"/>
                        <a:pt x="762" y="452"/>
                        <a:pt x="875" y="491"/>
                      </a:cubicBezTo>
                      <a:cubicBezTo>
                        <a:pt x="932" y="511"/>
                        <a:pt x="1077" y="624"/>
                        <a:pt x="954" y="678"/>
                      </a:cubicBezTo>
                      <a:cubicBezTo>
                        <a:pt x="848" y="724"/>
                        <a:pt x="732" y="734"/>
                        <a:pt x="620" y="760"/>
                      </a:cubicBezTo>
                      <a:cubicBezTo>
                        <a:pt x="474" y="795"/>
                        <a:pt x="564" y="938"/>
                        <a:pt x="640" y="972"/>
                      </a:cubicBezTo>
                      <a:cubicBezTo>
                        <a:pt x="742" y="1017"/>
                        <a:pt x="826" y="938"/>
                        <a:pt x="907" y="897"/>
                      </a:cubicBezTo>
                      <a:cubicBezTo>
                        <a:pt x="1000" y="850"/>
                        <a:pt x="1123" y="906"/>
                        <a:pt x="1148" y="1008"/>
                      </a:cubicBezTo>
                      <a:cubicBezTo>
                        <a:pt x="1172" y="1110"/>
                        <a:pt x="1181" y="1222"/>
                        <a:pt x="1244" y="1310"/>
                      </a:cubicBezTo>
                      <a:cubicBezTo>
                        <a:pt x="1301" y="1390"/>
                        <a:pt x="1423" y="1409"/>
                        <a:pt x="1511" y="1360"/>
                      </a:cubicBezTo>
                      <a:cubicBezTo>
                        <a:pt x="1594" y="1314"/>
                        <a:pt x="1675" y="1202"/>
                        <a:pt x="1630" y="1125"/>
                      </a:cubicBezTo>
                      <a:cubicBezTo>
                        <a:pt x="1576" y="1037"/>
                        <a:pt x="1432" y="1084"/>
                        <a:pt x="1343" y="1122"/>
                      </a:cubicBezTo>
                      <a:cubicBezTo>
                        <a:pt x="1260" y="1159"/>
                        <a:pt x="1178" y="1200"/>
                        <a:pt x="1105" y="1261"/>
                      </a:cubicBezTo>
                      <a:cubicBezTo>
                        <a:pt x="1027" y="1325"/>
                        <a:pt x="954" y="1386"/>
                        <a:pt x="838" y="1396"/>
                      </a:cubicBezTo>
                      <a:cubicBezTo>
                        <a:pt x="737" y="1405"/>
                        <a:pt x="628" y="1428"/>
                        <a:pt x="549" y="1372"/>
                      </a:cubicBezTo>
                      <a:cubicBezTo>
                        <a:pt x="473" y="1317"/>
                        <a:pt x="434" y="1223"/>
                        <a:pt x="388" y="1140"/>
                      </a:cubicBezTo>
                      <a:cubicBezTo>
                        <a:pt x="331" y="1039"/>
                        <a:pt x="320" y="934"/>
                        <a:pt x="290" y="826"/>
                      </a:cubicBezTo>
                      <a:cubicBezTo>
                        <a:pt x="259" y="716"/>
                        <a:pt x="285" y="596"/>
                        <a:pt x="297" y="482"/>
                      </a:cubicBezTo>
                      <a:cubicBezTo>
                        <a:pt x="306" y="381"/>
                        <a:pt x="312" y="271"/>
                        <a:pt x="374" y="185"/>
                      </a:cubicBezTo>
                      <a:cubicBezTo>
                        <a:pt x="425" y="114"/>
                        <a:pt x="528" y="0"/>
                        <a:pt x="605" y="81"/>
                      </a:cubicBezTo>
                      <a:cubicBezTo>
                        <a:pt x="673" y="152"/>
                        <a:pt x="624" y="298"/>
                        <a:pt x="529" y="339"/>
                      </a:cubicBezTo>
                      <a:cubicBezTo>
                        <a:pt x="429" y="382"/>
                        <a:pt x="339" y="458"/>
                        <a:pt x="228" y="468"/>
                      </a:cubicBezTo>
                      <a:cubicBezTo>
                        <a:pt x="142" y="476"/>
                        <a:pt x="0" y="510"/>
                        <a:pt x="13" y="626"/>
                      </a:cubicBezTo>
                      <a:cubicBezTo>
                        <a:pt x="25" y="722"/>
                        <a:pt x="83" y="818"/>
                        <a:pt x="171" y="864"/>
                      </a:cubicBezTo>
                      <a:cubicBezTo>
                        <a:pt x="256" y="908"/>
                        <a:pt x="368" y="869"/>
                        <a:pt x="433" y="796"/>
                      </a:cubicBezTo>
                      <a:cubicBezTo>
                        <a:pt x="493" y="729"/>
                        <a:pt x="524" y="642"/>
                        <a:pt x="567" y="565"/>
                      </a:cubicBezTo>
                      <a:cubicBezTo>
                        <a:pt x="623" y="469"/>
                        <a:pt x="593" y="334"/>
                        <a:pt x="497" y="293"/>
                      </a:cubicBezTo>
                      <a:cubicBezTo>
                        <a:pt x="409" y="255"/>
                        <a:pt x="281" y="277"/>
                        <a:pt x="224" y="198"/>
                      </a:cubicBezTo>
                      <a:cubicBezTo>
                        <a:pt x="158" y="107"/>
                        <a:pt x="324" y="16"/>
                        <a:pt x="417" y="44"/>
                      </a:cubicBezTo>
                      <a:cubicBezTo>
                        <a:pt x="523" y="76"/>
                        <a:pt x="542" y="184"/>
                        <a:pt x="589" y="263"/>
                      </a:cubicBezTo>
                      <a:cubicBezTo>
                        <a:pt x="643" y="355"/>
                        <a:pt x="649" y="467"/>
                        <a:pt x="696" y="565"/>
                      </a:cubicBezTo>
                      <a:cubicBezTo>
                        <a:pt x="750" y="675"/>
                        <a:pt x="791" y="794"/>
                        <a:pt x="862" y="893"/>
                      </a:cubicBezTo>
                      <a:cubicBezTo>
                        <a:pt x="921" y="974"/>
                        <a:pt x="999" y="1041"/>
                        <a:pt x="1079" y="1106"/>
                      </a:cubicBezTo>
                      <a:cubicBezTo>
                        <a:pt x="1149" y="1164"/>
                        <a:pt x="1232" y="1217"/>
                        <a:pt x="1323" y="1210"/>
                      </a:cubicBezTo>
                      <a:cubicBezTo>
                        <a:pt x="1425" y="1201"/>
                        <a:pt x="1491" y="1098"/>
                        <a:pt x="1517" y="1004"/>
                      </a:cubicBezTo>
                      <a:cubicBezTo>
                        <a:pt x="1543" y="910"/>
                        <a:pt x="1491" y="800"/>
                        <a:pt x="1385" y="796"/>
                      </a:cubicBezTo>
                      <a:cubicBezTo>
                        <a:pt x="1261" y="792"/>
                        <a:pt x="1242" y="911"/>
                        <a:pt x="1135" y="936"/>
                      </a:cubicBezTo>
                      <a:cubicBezTo>
                        <a:pt x="1037" y="959"/>
                        <a:pt x="977" y="1055"/>
                        <a:pt x="900" y="1118"/>
                      </a:cubicBezTo>
                      <a:cubicBezTo>
                        <a:pt x="829" y="1176"/>
                        <a:pt x="766" y="1243"/>
                        <a:pt x="675" y="1277"/>
                      </a:cubicBezTo>
                      <a:cubicBezTo>
                        <a:pt x="561" y="1320"/>
                        <a:pt x="458" y="1286"/>
                        <a:pt x="369" y="1238"/>
                      </a:cubicBezTo>
                      <a:cubicBezTo>
                        <a:pt x="269" y="1185"/>
                        <a:pt x="262" y="1047"/>
                        <a:pt x="245" y="944"/>
                      </a:cubicBezTo>
                      <a:cubicBezTo>
                        <a:pt x="225" y="815"/>
                        <a:pt x="238" y="678"/>
                        <a:pt x="292" y="550"/>
                      </a:cubicBezTo>
                      <a:cubicBezTo>
                        <a:pt x="344" y="425"/>
                        <a:pt x="439" y="331"/>
                        <a:pt x="507" y="218"/>
                      </a:cubicBezTo>
                      <a:cubicBezTo>
                        <a:pt x="563" y="124"/>
                        <a:pt x="639" y="34"/>
                        <a:pt x="735" y="31"/>
                      </a:cubicBezTo>
                      <a:cubicBezTo>
                        <a:pt x="854" y="27"/>
                        <a:pt x="808" y="220"/>
                        <a:pt x="779" y="312"/>
                      </a:cubicBezTo>
                      <a:cubicBezTo>
                        <a:pt x="747" y="412"/>
                        <a:pt x="717" y="512"/>
                        <a:pt x="696" y="616"/>
                      </a:cubicBezTo>
                      <a:cubicBezTo>
                        <a:pt x="665" y="758"/>
                        <a:pt x="653" y="902"/>
                        <a:pt x="642" y="1045"/>
                      </a:cubicBezTo>
                      <a:cubicBezTo>
                        <a:pt x="630" y="1178"/>
                        <a:pt x="666" y="1308"/>
                        <a:pt x="685" y="1439"/>
                      </a:cubicBezTo>
                      <a:cubicBezTo>
                        <a:pt x="699" y="1535"/>
                        <a:pt x="777" y="1597"/>
                        <a:pt x="855" y="1636"/>
                      </a:cubicBezTo>
                      <a:cubicBezTo>
                        <a:pt x="950" y="1684"/>
                        <a:pt x="1076" y="1693"/>
                        <a:pt x="1174" y="1634"/>
                      </a:cubicBezTo>
                      <a:cubicBezTo>
                        <a:pt x="1281" y="1570"/>
                        <a:pt x="1240" y="1426"/>
                        <a:pt x="1197" y="1344"/>
                      </a:cubicBezTo>
                      <a:cubicBezTo>
                        <a:pt x="1144" y="1246"/>
                        <a:pt x="1033" y="1271"/>
                        <a:pt x="945" y="1236"/>
                      </a:cubicBezTo>
                      <a:cubicBezTo>
                        <a:pt x="850" y="1198"/>
                        <a:pt x="745" y="1187"/>
                        <a:pt x="651" y="1145"/>
                      </a:cubicBezTo>
                      <a:cubicBezTo>
                        <a:pt x="559" y="1104"/>
                        <a:pt x="471" y="1055"/>
                        <a:pt x="380" y="1011"/>
                      </a:cubicBezTo>
                      <a:cubicBezTo>
                        <a:pt x="295" y="971"/>
                        <a:pt x="209" y="903"/>
                        <a:pt x="192" y="799"/>
                      </a:cubicBezTo>
                      <a:cubicBezTo>
                        <a:pt x="174" y="688"/>
                        <a:pt x="263" y="617"/>
                        <a:pt x="331" y="550"/>
                      </a:cubicBezTo>
                      <a:cubicBezTo>
                        <a:pt x="407" y="477"/>
                        <a:pt x="518" y="415"/>
                        <a:pt x="623" y="445"/>
                      </a:cubicBezTo>
                      <a:cubicBezTo>
                        <a:pt x="717" y="471"/>
                        <a:pt x="817" y="451"/>
                        <a:pt x="904" y="504"/>
                      </a:cubicBezTo>
                      <a:cubicBezTo>
                        <a:pt x="985" y="555"/>
                        <a:pt x="1052" y="626"/>
                        <a:pt x="1133" y="677"/>
                      </a:cubicBezTo>
                      <a:cubicBezTo>
                        <a:pt x="1207" y="725"/>
                        <a:pt x="1254" y="795"/>
                        <a:pt x="1323" y="849"/>
                      </a:cubicBezTo>
                      <a:cubicBezTo>
                        <a:pt x="1397" y="908"/>
                        <a:pt x="1468" y="974"/>
                        <a:pt x="1566" y="993"/>
                      </a:cubicBezTo>
                      <a:cubicBezTo>
                        <a:pt x="1715" y="1021"/>
                        <a:pt x="1705" y="835"/>
                        <a:pt x="1657" y="767"/>
                      </a:cubicBezTo>
                      <a:cubicBezTo>
                        <a:pt x="1609" y="699"/>
                        <a:pt x="1542" y="592"/>
                        <a:pt x="1448" y="631"/>
                      </a:cubicBezTo>
                      <a:cubicBezTo>
                        <a:pt x="1364" y="664"/>
                        <a:pt x="1295" y="746"/>
                        <a:pt x="1284" y="849"/>
                      </a:cubicBezTo>
                      <a:cubicBezTo>
                        <a:pt x="1272" y="957"/>
                        <a:pt x="1281" y="1065"/>
                        <a:pt x="1264" y="1172"/>
                      </a:cubicBezTo>
                      <a:cubicBezTo>
                        <a:pt x="1251" y="1259"/>
                        <a:pt x="1243" y="1366"/>
                        <a:pt x="1154" y="1423"/>
                      </a:cubicBezTo>
                      <a:cubicBezTo>
                        <a:pt x="1063" y="1480"/>
                        <a:pt x="947" y="1510"/>
                        <a:pt x="850" y="1468"/>
                      </a:cubicBezTo>
                      <a:cubicBezTo>
                        <a:pt x="769" y="1433"/>
                        <a:pt x="691" y="1379"/>
                        <a:pt x="644" y="1303"/>
                      </a:cubicBezTo>
                      <a:cubicBezTo>
                        <a:pt x="572" y="1189"/>
                        <a:pt x="602" y="1049"/>
                        <a:pt x="601" y="921"/>
                      </a:cubicBezTo>
                      <a:cubicBezTo>
                        <a:pt x="601" y="822"/>
                        <a:pt x="637" y="721"/>
                        <a:pt x="698" y="638"/>
                      </a:cubicBezTo>
                      <a:cubicBezTo>
                        <a:pt x="773" y="535"/>
                        <a:pt x="905" y="559"/>
                        <a:pt x="1008" y="547"/>
                      </a:cubicBezTo>
                      <a:cubicBezTo>
                        <a:pt x="1085" y="538"/>
                        <a:pt x="1297" y="639"/>
                        <a:pt x="1252" y="454"/>
                      </a:cubicBezTo>
                      <a:cubicBezTo>
                        <a:pt x="1230" y="366"/>
                        <a:pt x="1198" y="273"/>
                        <a:pt x="1116" y="212"/>
                      </a:cubicBezTo>
                      <a:cubicBezTo>
                        <a:pt x="1028" y="147"/>
                        <a:pt x="928" y="141"/>
                        <a:pt x="832" y="108"/>
                      </a:cubicBezTo>
                      <a:cubicBezTo>
                        <a:pt x="737" y="75"/>
                        <a:pt x="595" y="58"/>
                        <a:pt x="517" y="155"/>
                      </a:cubicBezTo>
                      <a:cubicBezTo>
                        <a:pt x="455" y="232"/>
                        <a:pt x="374" y="293"/>
                        <a:pt x="326" y="382"/>
                      </a:cubicBezTo>
                      <a:cubicBezTo>
                        <a:pt x="272" y="483"/>
                        <a:pt x="259" y="599"/>
                        <a:pt x="262" y="711"/>
                      </a:cubicBezTo>
                      <a:cubicBezTo>
                        <a:pt x="266" y="833"/>
                        <a:pt x="301" y="950"/>
                        <a:pt x="324" y="1069"/>
                      </a:cubicBezTo>
                      <a:cubicBezTo>
                        <a:pt x="351" y="1203"/>
                        <a:pt x="500" y="1141"/>
                        <a:pt x="575" y="1115"/>
                      </a:cubicBezTo>
                      <a:cubicBezTo>
                        <a:pt x="665" y="1085"/>
                        <a:pt x="735" y="1013"/>
                        <a:pt x="788" y="936"/>
                      </a:cubicBezTo>
                      <a:lnTo>
                        <a:pt x="843" y="866"/>
                      </a:lnTo>
                      <a:lnTo>
                        <a:pt x="898" y="798"/>
                      </a:lnTo>
                      <a:lnTo>
                        <a:pt x="956" y="762"/>
                      </a:lnTo>
                      <a:lnTo>
                        <a:pt x="973" y="765"/>
                      </a:lnTo>
                    </a:path>
                  </a:pathLst>
                </a:custGeom>
                <a:noFill/>
                <a:ln w="9360">
                  <a:solidFill>
                    <a:srgbClr val="23ff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51"/>
                <p:cNvGrpSpPr/>
                <p:nvPr/>
              </p:nvGrpSpPr>
              <p:grpSpPr>
                <a:xfrm>
                  <a:off x="6258600" y="8223120"/>
                  <a:ext cx="183960" cy="261360"/>
                  <a:chOff x="6258600" y="8223120"/>
                  <a:chExt cx="183960" cy="261360"/>
                </a:xfrm>
              </p:grpSpPr>
              <p:sp>
                <p:nvSpPr>
                  <p:cNvPr id="110" name="Oval 52"/>
                  <p:cNvSpPr/>
                  <p:nvPr/>
                </p:nvSpPr>
                <p:spPr>
                  <a:xfrm>
                    <a:off x="6258600" y="8223120"/>
                    <a:ext cx="183960" cy="261360"/>
                  </a:xfrm>
                  <a:prstGeom prst="ellipse">
                    <a:avLst/>
                  </a:prstGeom>
                  <a:noFill/>
                  <a:ln w="18000">
                    <a:solidFill>
                      <a:srgbClr val="ff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53"/>
                  <p:cNvSpPr/>
                  <p:nvPr/>
                </p:nvSpPr>
                <p:spPr>
                  <a:xfrm>
                    <a:off x="6258600" y="8269200"/>
                    <a:ext cx="2304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1255">
                        <a:moveTo>
                          <a:pt x="58" y="1254"/>
                        </a:moveTo>
                        <a:cubicBezTo>
                          <a:pt x="5" y="1042"/>
                          <a:pt x="25" y="1096"/>
                          <a:pt x="25" y="1096"/>
                        </a:cubicBezTo>
                        <a:lnTo>
                          <a:pt x="0" y="844"/>
                        </a:lnTo>
                        <a:lnTo>
                          <a:pt x="0" y="731"/>
                        </a:lnTo>
                        <a:lnTo>
                          <a:pt x="25" y="580"/>
                        </a:lnTo>
                        <a:lnTo>
                          <a:pt x="50" y="466"/>
                        </a:lnTo>
                        <a:lnTo>
                          <a:pt x="126" y="315"/>
                        </a:lnTo>
                        <a:lnTo>
                          <a:pt x="201" y="164"/>
                        </a:lnTo>
                        <a:lnTo>
                          <a:pt x="277" y="63"/>
                        </a:lnTo>
                        <a:lnTo>
                          <a:pt x="340" y="0"/>
                        </a:lnTo>
                      </a:path>
                    </a:pathLst>
                  </a:custGeom>
                  <a:noFill/>
                  <a:ln w="18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54"/>
                  <p:cNvSpPr/>
                  <p:nvPr/>
                </p:nvSpPr>
                <p:spPr>
                  <a:xfrm>
                    <a:off x="6263280" y="8392680"/>
                    <a:ext cx="64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41">
                        <a:moveTo>
                          <a:pt x="0" y="0"/>
                        </a:moveTo>
                        <a:lnTo>
                          <a:pt x="26" y="63"/>
                        </a:lnTo>
                        <a:cubicBezTo>
                          <a:pt x="52" y="126"/>
                          <a:pt x="51" y="177"/>
                          <a:pt x="38" y="177"/>
                        </a:cubicBezTo>
                        <a:cubicBezTo>
                          <a:pt x="25" y="177"/>
                          <a:pt x="101" y="240"/>
                          <a:pt x="101" y="240"/>
                        </a:cubicBezTo>
                      </a:path>
                    </a:pathLst>
                  </a:custGeom>
                  <a:noFill/>
                  <a:ln w="18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55"/>
                  <p:cNvSpPr/>
                  <p:nvPr/>
                </p:nvSpPr>
                <p:spPr>
                  <a:xfrm>
                    <a:off x="6279840" y="8254080"/>
                    <a:ext cx="79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4">
                        <a:moveTo>
                          <a:pt x="0" y="133"/>
                        </a:moveTo>
                        <a:lnTo>
                          <a:pt x="55" y="67"/>
                        </a:lnTo>
                        <a:cubicBezTo>
                          <a:pt x="110" y="1"/>
                          <a:pt x="121" y="0"/>
                          <a:pt x="121" y="0"/>
                        </a:cubicBezTo>
                      </a:path>
                    </a:pathLst>
                  </a:custGeom>
                  <a:noFill/>
                  <a:ln w="18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Group 56"/>
              <p:cNvGrpSpPr/>
              <p:nvPr/>
            </p:nvGrpSpPr>
            <p:grpSpPr>
              <a:xfrm>
                <a:off x="6287400" y="8852760"/>
                <a:ext cx="771120" cy="513360"/>
                <a:chOff x="6287400" y="8852760"/>
                <a:chExt cx="771120" cy="513360"/>
              </a:xfrm>
            </p:grpSpPr>
            <p:sp>
              <p:nvSpPr>
                <p:cNvPr id="115" name="AutoShape 57"/>
                <p:cNvSpPr/>
                <p:nvPr/>
              </p:nvSpPr>
              <p:spPr>
                <a:xfrm rot="21540000">
                  <a:off x="6307200" y="8931240"/>
                  <a:ext cx="702000" cy="401040"/>
                </a:xfrm>
                <a:prstGeom prst="roundRect">
                  <a:avLst>
                    <a:gd name="adj" fmla="val 4975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58"/>
                <p:cNvSpPr/>
                <p:nvPr/>
              </p:nvSpPr>
              <p:spPr>
                <a:xfrm rot="19200000">
                  <a:off x="6650640" y="8905680"/>
                  <a:ext cx="313560" cy="407160"/>
                </a:xfrm>
                <a:custGeom>
                  <a:avLst/>
                  <a:gdLst/>
                  <a:ahLst/>
                  <a:rect l="l" t="t" r="r" b="b"/>
                  <a:pathLst>
                    <a:path w="1716" h="1694">
                      <a:moveTo>
                        <a:pt x="973" y="765"/>
                      </a:moveTo>
                      <a:cubicBezTo>
                        <a:pt x="1083" y="695"/>
                        <a:pt x="1191" y="781"/>
                        <a:pt x="1229" y="868"/>
                      </a:cubicBezTo>
                      <a:cubicBezTo>
                        <a:pt x="1271" y="962"/>
                        <a:pt x="1181" y="1084"/>
                        <a:pt x="1079" y="1106"/>
                      </a:cubicBezTo>
                      <a:cubicBezTo>
                        <a:pt x="967" y="1130"/>
                        <a:pt x="853" y="1128"/>
                        <a:pt x="740" y="1133"/>
                      </a:cubicBezTo>
                      <a:cubicBezTo>
                        <a:pt x="598" y="1140"/>
                        <a:pt x="681" y="1332"/>
                        <a:pt x="740" y="1370"/>
                      </a:cubicBezTo>
                      <a:cubicBezTo>
                        <a:pt x="820" y="1421"/>
                        <a:pt x="928" y="1465"/>
                        <a:pt x="1029" y="1406"/>
                      </a:cubicBezTo>
                      <a:cubicBezTo>
                        <a:pt x="1135" y="1344"/>
                        <a:pt x="1050" y="1217"/>
                        <a:pt x="1020" y="1142"/>
                      </a:cubicBezTo>
                      <a:cubicBezTo>
                        <a:pt x="981" y="1044"/>
                        <a:pt x="858" y="1050"/>
                        <a:pt x="808" y="973"/>
                      </a:cubicBezTo>
                      <a:cubicBezTo>
                        <a:pt x="756" y="892"/>
                        <a:pt x="741" y="795"/>
                        <a:pt x="720" y="697"/>
                      </a:cubicBezTo>
                      <a:cubicBezTo>
                        <a:pt x="698" y="594"/>
                        <a:pt x="762" y="452"/>
                        <a:pt x="875" y="491"/>
                      </a:cubicBezTo>
                      <a:cubicBezTo>
                        <a:pt x="932" y="511"/>
                        <a:pt x="1077" y="624"/>
                        <a:pt x="954" y="678"/>
                      </a:cubicBezTo>
                      <a:cubicBezTo>
                        <a:pt x="848" y="724"/>
                        <a:pt x="732" y="734"/>
                        <a:pt x="620" y="760"/>
                      </a:cubicBezTo>
                      <a:cubicBezTo>
                        <a:pt x="474" y="795"/>
                        <a:pt x="564" y="938"/>
                        <a:pt x="640" y="972"/>
                      </a:cubicBezTo>
                      <a:cubicBezTo>
                        <a:pt x="742" y="1017"/>
                        <a:pt x="826" y="938"/>
                        <a:pt x="907" y="897"/>
                      </a:cubicBezTo>
                      <a:cubicBezTo>
                        <a:pt x="1000" y="850"/>
                        <a:pt x="1123" y="906"/>
                        <a:pt x="1148" y="1008"/>
                      </a:cubicBezTo>
                      <a:cubicBezTo>
                        <a:pt x="1172" y="1110"/>
                        <a:pt x="1181" y="1222"/>
                        <a:pt x="1244" y="1310"/>
                      </a:cubicBezTo>
                      <a:cubicBezTo>
                        <a:pt x="1301" y="1390"/>
                        <a:pt x="1423" y="1409"/>
                        <a:pt x="1511" y="1360"/>
                      </a:cubicBezTo>
                      <a:cubicBezTo>
                        <a:pt x="1594" y="1314"/>
                        <a:pt x="1675" y="1202"/>
                        <a:pt x="1630" y="1125"/>
                      </a:cubicBezTo>
                      <a:cubicBezTo>
                        <a:pt x="1576" y="1037"/>
                        <a:pt x="1432" y="1084"/>
                        <a:pt x="1343" y="1122"/>
                      </a:cubicBezTo>
                      <a:cubicBezTo>
                        <a:pt x="1260" y="1159"/>
                        <a:pt x="1178" y="1200"/>
                        <a:pt x="1105" y="1261"/>
                      </a:cubicBezTo>
                      <a:cubicBezTo>
                        <a:pt x="1027" y="1325"/>
                        <a:pt x="954" y="1386"/>
                        <a:pt x="838" y="1396"/>
                      </a:cubicBezTo>
                      <a:cubicBezTo>
                        <a:pt x="737" y="1405"/>
                        <a:pt x="628" y="1428"/>
                        <a:pt x="549" y="1372"/>
                      </a:cubicBezTo>
                      <a:cubicBezTo>
                        <a:pt x="473" y="1317"/>
                        <a:pt x="434" y="1223"/>
                        <a:pt x="388" y="1140"/>
                      </a:cubicBezTo>
                      <a:cubicBezTo>
                        <a:pt x="331" y="1039"/>
                        <a:pt x="320" y="934"/>
                        <a:pt x="290" y="826"/>
                      </a:cubicBezTo>
                      <a:cubicBezTo>
                        <a:pt x="259" y="716"/>
                        <a:pt x="285" y="596"/>
                        <a:pt x="297" y="482"/>
                      </a:cubicBezTo>
                      <a:cubicBezTo>
                        <a:pt x="306" y="381"/>
                        <a:pt x="312" y="271"/>
                        <a:pt x="374" y="185"/>
                      </a:cubicBezTo>
                      <a:cubicBezTo>
                        <a:pt x="425" y="114"/>
                        <a:pt x="528" y="0"/>
                        <a:pt x="605" y="81"/>
                      </a:cubicBezTo>
                      <a:cubicBezTo>
                        <a:pt x="673" y="152"/>
                        <a:pt x="624" y="298"/>
                        <a:pt x="529" y="339"/>
                      </a:cubicBezTo>
                      <a:cubicBezTo>
                        <a:pt x="429" y="382"/>
                        <a:pt x="339" y="458"/>
                        <a:pt x="228" y="468"/>
                      </a:cubicBezTo>
                      <a:cubicBezTo>
                        <a:pt x="142" y="476"/>
                        <a:pt x="0" y="510"/>
                        <a:pt x="13" y="626"/>
                      </a:cubicBezTo>
                      <a:cubicBezTo>
                        <a:pt x="25" y="722"/>
                        <a:pt x="83" y="818"/>
                        <a:pt x="171" y="864"/>
                      </a:cubicBezTo>
                      <a:cubicBezTo>
                        <a:pt x="256" y="908"/>
                        <a:pt x="368" y="869"/>
                        <a:pt x="433" y="796"/>
                      </a:cubicBezTo>
                      <a:cubicBezTo>
                        <a:pt x="493" y="729"/>
                        <a:pt x="524" y="642"/>
                        <a:pt x="567" y="565"/>
                      </a:cubicBezTo>
                      <a:cubicBezTo>
                        <a:pt x="623" y="469"/>
                        <a:pt x="593" y="334"/>
                        <a:pt x="497" y="293"/>
                      </a:cubicBezTo>
                      <a:cubicBezTo>
                        <a:pt x="409" y="255"/>
                        <a:pt x="281" y="277"/>
                        <a:pt x="224" y="198"/>
                      </a:cubicBezTo>
                      <a:cubicBezTo>
                        <a:pt x="158" y="107"/>
                        <a:pt x="324" y="16"/>
                        <a:pt x="417" y="44"/>
                      </a:cubicBezTo>
                      <a:cubicBezTo>
                        <a:pt x="523" y="76"/>
                        <a:pt x="542" y="184"/>
                        <a:pt x="589" y="263"/>
                      </a:cubicBezTo>
                      <a:cubicBezTo>
                        <a:pt x="643" y="355"/>
                        <a:pt x="649" y="467"/>
                        <a:pt x="696" y="565"/>
                      </a:cubicBezTo>
                      <a:cubicBezTo>
                        <a:pt x="750" y="675"/>
                        <a:pt x="791" y="794"/>
                        <a:pt x="862" y="893"/>
                      </a:cubicBezTo>
                      <a:cubicBezTo>
                        <a:pt x="921" y="974"/>
                        <a:pt x="999" y="1041"/>
                        <a:pt x="1079" y="1106"/>
                      </a:cubicBezTo>
                      <a:cubicBezTo>
                        <a:pt x="1149" y="1164"/>
                        <a:pt x="1232" y="1217"/>
                        <a:pt x="1323" y="1210"/>
                      </a:cubicBezTo>
                      <a:cubicBezTo>
                        <a:pt x="1425" y="1201"/>
                        <a:pt x="1491" y="1098"/>
                        <a:pt x="1517" y="1004"/>
                      </a:cubicBezTo>
                      <a:cubicBezTo>
                        <a:pt x="1543" y="910"/>
                        <a:pt x="1491" y="800"/>
                        <a:pt x="1385" y="796"/>
                      </a:cubicBezTo>
                      <a:cubicBezTo>
                        <a:pt x="1261" y="792"/>
                        <a:pt x="1242" y="911"/>
                        <a:pt x="1135" y="936"/>
                      </a:cubicBezTo>
                      <a:cubicBezTo>
                        <a:pt x="1037" y="959"/>
                        <a:pt x="977" y="1055"/>
                        <a:pt x="900" y="1118"/>
                      </a:cubicBezTo>
                      <a:cubicBezTo>
                        <a:pt x="829" y="1176"/>
                        <a:pt x="766" y="1243"/>
                        <a:pt x="675" y="1277"/>
                      </a:cubicBezTo>
                      <a:cubicBezTo>
                        <a:pt x="561" y="1320"/>
                        <a:pt x="458" y="1286"/>
                        <a:pt x="369" y="1238"/>
                      </a:cubicBezTo>
                      <a:cubicBezTo>
                        <a:pt x="269" y="1185"/>
                        <a:pt x="262" y="1047"/>
                        <a:pt x="245" y="944"/>
                      </a:cubicBezTo>
                      <a:cubicBezTo>
                        <a:pt x="225" y="815"/>
                        <a:pt x="238" y="678"/>
                        <a:pt x="292" y="550"/>
                      </a:cubicBezTo>
                      <a:cubicBezTo>
                        <a:pt x="344" y="425"/>
                        <a:pt x="439" y="331"/>
                        <a:pt x="507" y="218"/>
                      </a:cubicBezTo>
                      <a:cubicBezTo>
                        <a:pt x="563" y="124"/>
                        <a:pt x="639" y="34"/>
                        <a:pt x="735" y="31"/>
                      </a:cubicBezTo>
                      <a:cubicBezTo>
                        <a:pt x="854" y="27"/>
                        <a:pt x="808" y="220"/>
                        <a:pt x="779" y="312"/>
                      </a:cubicBezTo>
                      <a:cubicBezTo>
                        <a:pt x="747" y="412"/>
                        <a:pt x="717" y="512"/>
                        <a:pt x="696" y="616"/>
                      </a:cubicBezTo>
                      <a:cubicBezTo>
                        <a:pt x="665" y="758"/>
                        <a:pt x="653" y="902"/>
                        <a:pt x="642" y="1045"/>
                      </a:cubicBezTo>
                      <a:cubicBezTo>
                        <a:pt x="630" y="1178"/>
                        <a:pt x="666" y="1308"/>
                        <a:pt x="685" y="1439"/>
                      </a:cubicBezTo>
                      <a:cubicBezTo>
                        <a:pt x="699" y="1535"/>
                        <a:pt x="777" y="1597"/>
                        <a:pt x="855" y="1636"/>
                      </a:cubicBezTo>
                      <a:cubicBezTo>
                        <a:pt x="950" y="1684"/>
                        <a:pt x="1076" y="1693"/>
                        <a:pt x="1174" y="1634"/>
                      </a:cubicBezTo>
                      <a:cubicBezTo>
                        <a:pt x="1281" y="1570"/>
                        <a:pt x="1240" y="1426"/>
                        <a:pt x="1197" y="1344"/>
                      </a:cubicBezTo>
                      <a:cubicBezTo>
                        <a:pt x="1144" y="1246"/>
                        <a:pt x="1033" y="1271"/>
                        <a:pt x="945" y="1236"/>
                      </a:cubicBezTo>
                      <a:cubicBezTo>
                        <a:pt x="850" y="1198"/>
                        <a:pt x="745" y="1187"/>
                        <a:pt x="651" y="1145"/>
                      </a:cubicBezTo>
                      <a:cubicBezTo>
                        <a:pt x="559" y="1104"/>
                        <a:pt x="471" y="1055"/>
                        <a:pt x="380" y="1011"/>
                      </a:cubicBezTo>
                      <a:cubicBezTo>
                        <a:pt x="295" y="971"/>
                        <a:pt x="209" y="903"/>
                        <a:pt x="192" y="799"/>
                      </a:cubicBezTo>
                      <a:cubicBezTo>
                        <a:pt x="174" y="688"/>
                        <a:pt x="263" y="617"/>
                        <a:pt x="331" y="550"/>
                      </a:cubicBezTo>
                      <a:cubicBezTo>
                        <a:pt x="407" y="477"/>
                        <a:pt x="518" y="415"/>
                        <a:pt x="623" y="445"/>
                      </a:cubicBezTo>
                      <a:cubicBezTo>
                        <a:pt x="717" y="471"/>
                        <a:pt x="817" y="451"/>
                        <a:pt x="904" y="504"/>
                      </a:cubicBezTo>
                      <a:cubicBezTo>
                        <a:pt x="985" y="555"/>
                        <a:pt x="1052" y="626"/>
                        <a:pt x="1133" y="677"/>
                      </a:cubicBezTo>
                      <a:cubicBezTo>
                        <a:pt x="1207" y="725"/>
                        <a:pt x="1254" y="795"/>
                        <a:pt x="1323" y="849"/>
                      </a:cubicBezTo>
                      <a:cubicBezTo>
                        <a:pt x="1397" y="908"/>
                        <a:pt x="1468" y="974"/>
                        <a:pt x="1566" y="993"/>
                      </a:cubicBezTo>
                      <a:cubicBezTo>
                        <a:pt x="1715" y="1021"/>
                        <a:pt x="1705" y="835"/>
                        <a:pt x="1657" y="767"/>
                      </a:cubicBezTo>
                      <a:cubicBezTo>
                        <a:pt x="1609" y="699"/>
                        <a:pt x="1542" y="592"/>
                        <a:pt x="1448" y="631"/>
                      </a:cubicBezTo>
                      <a:cubicBezTo>
                        <a:pt x="1364" y="664"/>
                        <a:pt x="1295" y="746"/>
                        <a:pt x="1284" y="849"/>
                      </a:cubicBezTo>
                      <a:cubicBezTo>
                        <a:pt x="1272" y="957"/>
                        <a:pt x="1281" y="1065"/>
                        <a:pt x="1264" y="1172"/>
                      </a:cubicBezTo>
                      <a:cubicBezTo>
                        <a:pt x="1251" y="1259"/>
                        <a:pt x="1243" y="1366"/>
                        <a:pt x="1154" y="1423"/>
                      </a:cubicBezTo>
                      <a:cubicBezTo>
                        <a:pt x="1063" y="1480"/>
                        <a:pt x="947" y="1510"/>
                        <a:pt x="850" y="1468"/>
                      </a:cubicBezTo>
                      <a:cubicBezTo>
                        <a:pt x="769" y="1433"/>
                        <a:pt x="691" y="1379"/>
                        <a:pt x="644" y="1303"/>
                      </a:cubicBezTo>
                      <a:cubicBezTo>
                        <a:pt x="572" y="1189"/>
                        <a:pt x="602" y="1049"/>
                        <a:pt x="601" y="921"/>
                      </a:cubicBezTo>
                      <a:cubicBezTo>
                        <a:pt x="601" y="822"/>
                        <a:pt x="637" y="721"/>
                        <a:pt x="698" y="638"/>
                      </a:cubicBezTo>
                      <a:cubicBezTo>
                        <a:pt x="773" y="535"/>
                        <a:pt x="905" y="559"/>
                        <a:pt x="1008" y="547"/>
                      </a:cubicBezTo>
                      <a:cubicBezTo>
                        <a:pt x="1085" y="538"/>
                        <a:pt x="1297" y="639"/>
                        <a:pt x="1252" y="454"/>
                      </a:cubicBezTo>
                      <a:cubicBezTo>
                        <a:pt x="1230" y="366"/>
                        <a:pt x="1198" y="273"/>
                        <a:pt x="1116" y="212"/>
                      </a:cubicBezTo>
                      <a:cubicBezTo>
                        <a:pt x="1028" y="147"/>
                        <a:pt x="928" y="141"/>
                        <a:pt x="832" y="108"/>
                      </a:cubicBezTo>
                      <a:cubicBezTo>
                        <a:pt x="737" y="75"/>
                        <a:pt x="595" y="58"/>
                        <a:pt x="517" y="155"/>
                      </a:cubicBezTo>
                      <a:cubicBezTo>
                        <a:pt x="455" y="232"/>
                        <a:pt x="374" y="293"/>
                        <a:pt x="326" y="382"/>
                      </a:cubicBezTo>
                      <a:cubicBezTo>
                        <a:pt x="272" y="483"/>
                        <a:pt x="259" y="599"/>
                        <a:pt x="262" y="711"/>
                      </a:cubicBezTo>
                      <a:cubicBezTo>
                        <a:pt x="266" y="833"/>
                        <a:pt x="301" y="950"/>
                        <a:pt x="324" y="1069"/>
                      </a:cubicBezTo>
                      <a:cubicBezTo>
                        <a:pt x="351" y="1203"/>
                        <a:pt x="500" y="1141"/>
                        <a:pt x="575" y="1115"/>
                      </a:cubicBezTo>
                      <a:cubicBezTo>
                        <a:pt x="665" y="1085"/>
                        <a:pt x="735" y="1013"/>
                        <a:pt x="788" y="936"/>
                      </a:cubicBezTo>
                      <a:lnTo>
                        <a:pt x="843" y="866"/>
                      </a:lnTo>
                      <a:lnTo>
                        <a:pt x="898" y="798"/>
                      </a:lnTo>
                      <a:lnTo>
                        <a:pt x="956" y="762"/>
                      </a:lnTo>
                      <a:lnTo>
                        <a:pt x="973" y="765"/>
                      </a:lnTo>
                    </a:path>
                  </a:pathLst>
                </a:custGeom>
                <a:noFill/>
                <a:ln w="9360">
                  <a:solidFill>
                    <a:srgbClr val="23ff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59"/>
                <p:cNvGrpSpPr/>
                <p:nvPr/>
              </p:nvGrpSpPr>
              <p:grpSpPr>
                <a:xfrm>
                  <a:off x="6287400" y="8921160"/>
                  <a:ext cx="395280" cy="406080"/>
                  <a:chOff x="6287400" y="8921160"/>
                  <a:chExt cx="395280" cy="406080"/>
                </a:xfrm>
              </p:grpSpPr>
              <p:sp>
                <p:nvSpPr>
                  <p:cNvPr id="118" name="Oval 60"/>
                  <p:cNvSpPr/>
                  <p:nvPr/>
                </p:nvSpPr>
                <p:spPr>
                  <a:xfrm rot="19200000">
                    <a:off x="6365160" y="8959320"/>
                    <a:ext cx="239400" cy="329400"/>
                  </a:xfrm>
                  <a:prstGeom prst="ellipse">
                    <a:avLst/>
                  </a:prstGeom>
                  <a:noFill/>
                  <a:ln w="36000">
                    <a:solidFill>
                      <a:srgbClr val="ff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61"/>
                  <p:cNvSpPr/>
                  <p:nvPr/>
                </p:nvSpPr>
                <p:spPr>
                  <a:xfrm rot="19200000">
                    <a:off x="6369120" y="9114840"/>
                    <a:ext cx="295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1255">
                        <a:moveTo>
                          <a:pt x="58" y="1254"/>
                        </a:moveTo>
                        <a:cubicBezTo>
                          <a:pt x="5" y="1042"/>
                          <a:pt x="25" y="1096"/>
                          <a:pt x="25" y="1096"/>
                        </a:cubicBezTo>
                        <a:lnTo>
                          <a:pt x="0" y="844"/>
                        </a:lnTo>
                        <a:lnTo>
                          <a:pt x="0" y="731"/>
                        </a:lnTo>
                        <a:lnTo>
                          <a:pt x="25" y="580"/>
                        </a:lnTo>
                        <a:lnTo>
                          <a:pt x="50" y="466"/>
                        </a:lnTo>
                        <a:lnTo>
                          <a:pt x="126" y="315"/>
                        </a:lnTo>
                        <a:lnTo>
                          <a:pt x="201" y="164"/>
                        </a:lnTo>
                        <a:lnTo>
                          <a:pt x="277" y="63"/>
                        </a:lnTo>
                        <a:lnTo>
                          <a:pt x="340" y="0"/>
                        </a:lnTo>
                      </a:path>
                    </a:pathLst>
                  </a:custGeom>
                  <a:noFill/>
                  <a:ln w="36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62"/>
                  <p:cNvSpPr/>
                  <p:nvPr/>
                </p:nvSpPr>
                <p:spPr>
                  <a:xfrm rot="19200000">
                    <a:off x="6420600" y="9255240"/>
                    <a:ext cx="8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41">
                        <a:moveTo>
                          <a:pt x="0" y="0"/>
                        </a:moveTo>
                        <a:lnTo>
                          <a:pt x="26" y="63"/>
                        </a:lnTo>
                        <a:cubicBezTo>
                          <a:pt x="52" y="126"/>
                          <a:pt x="51" y="177"/>
                          <a:pt x="38" y="177"/>
                        </a:cubicBezTo>
                        <a:cubicBezTo>
                          <a:pt x="25" y="177"/>
                          <a:pt x="101" y="240"/>
                          <a:pt x="101" y="240"/>
                        </a:cubicBezTo>
                      </a:path>
                    </a:pathLst>
                  </a:custGeom>
                  <a:noFill/>
                  <a:ln w="36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63"/>
                  <p:cNvSpPr/>
                  <p:nvPr/>
                </p:nvSpPr>
                <p:spPr>
                  <a:xfrm rot="19200000">
                    <a:off x="6354720" y="9114480"/>
                    <a:ext cx="104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4">
                        <a:moveTo>
                          <a:pt x="0" y="133"/>
                        </a:moveTo>
                        <a:lnTo>
                          <a:pt x="55" y="67"/>
                        </a:lnTo>
                        <a:cubicBezTo>
                          <a:pt x="110" y="1"/>
                          <a:pt x="121" y="0"/>
                          <a:pt x="121" y="0"/>
                        </a:cubicBezTo>
                      </a:path>
                    </a:pathLst>
                  </a:custGeom>
                  <a:noFill/>
                  <a:ln w="36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Freeform 64"/>
                <p:cNvSpPr/>
                <p:nvPr/>
              </p:nvSpPr>
              <p:spPr>
                <a:xfrm rot="19200000">
                  <a:off x="6650640" y="8905680"/>
                  <a:ext cx="313560" cy="407160"/>
                </a:xfrm>
                <a:custGeom>
                  <a:avLst/>
                  <a:gdLst/>
                  <a:ahLst/>
                  <a:rect l="l" t="t" r="r" b="b"/>
                  <a:pathLst>
                    <a:path w="1716" h="1694">
                      <a:moveTo>
                        <a:pt x="973" y="765"/>
                      </a:moveTo>
                      <a:cubicBezTo>
                        <a:pt x="1083" y="695"/>
                        <a:pt x="1191" y="781"/>
                        <a:pt x="1229" y="868"/>
                      </a:cubicBezTo>
                      <a:cubicBezTo>
                        <a:pt x="1271" y="962"/>
                        <a:pt x="1181" y="1084"/>
                        <a:pt x="1079" y="1106"/>
                      </a:cubicBezTo>
                      <a:cubicBezTo>
                        <a:pt x="967" y="1130"/>
                        <a:pt x="853" y="1128"/>
                        <a:pt x="740" y="1133"/>
                      </a:cubicBezTo>
                      <a:cubicBezTo>
                        <a:pt x="598" y="1140"/>
                        <a:pt x="681" y="1332"/>
                        <a:pt x="740" y="1370"/>
                      </a:cubicBezTo>
                      <a:cubicBezTo>
                        <a:pt x="820" y="1421"/>
                        <a:pt x="928" y="1465"/>
                        <a:pt x="1029" y="1406"/>
                      </a:cubicBezTo>
                      <a:cubicBezTo>
                        <a:pt x="1135" y="1344"/>
                        <a:pt x="1050" y="1217"/>
                        <a:pt x="1020" y="1142"/>
                      </a:cubicBezTo>
                      <a:cubicBezTo>
                        <a:pt x="981" y="1044"/>
                        <a:pt x="858" y="1050"/>
                        <a:pt x="808" y="973"/>
                      </a:cubicBezTo>
                      <a:cubicBezTo>
                        <a:pt x="756" y="892"/>
                        <a:pt x="741" y="795"/>
                        <a:pt x="720" y="697"/>
                      </a:cubicBezTo>
                      <a:cubicBezTo>
                        <a:pt x="698" y="594"/>
                        <a:pt x="762" y="452"/>
                        <a:pt x="875" y="491"/>
                      </a:cubicBezTo>
                      <a:cubicBezTo>
                        <a:pt x="932" y="511"/>
                        <a:pt x="1077" y="624"/>
                        <a:pt x="954" y="678"/>
                      </a:cubicBezTo>
                      <a:cubicBezTo>
                        <a:pt x="848" y="724"/>
                        <a:pt x="732" y="734"/>
                        <a:pt x="620" y="760"/>
                      </a:cubicBezTo>
                      <a:cubicBezTo>
                        <a:pt x="474" y="795"/>
                        <a:pt x="564" y="938"/>
                        <a:pt x="640" y="972"/>
                      </a:cubicBezTo>
                      <a:cubicBezTo>
                        <a:pt x="742" y="1017"/>
                        <a:pt x="826" y="938"/>
                        <a:pt x="907" y="897"/>
                      </a:cubicBezTo>
                      <a:cubicBezTo>
                        <a:pt x="1000" y="850"/>
                        <a:pt x="1123" y="906"/>
                        <a:pt x="1148" y="1008"/>
                      </a:cubicBezTo>
                      <a:cubicBezTo>
                        <a:pt x="1172" y="1110"/>
                        <a:pt x="1181" y="1222"/>
                        <a:pt x="1244" y="1310"/>
                      </a:cubicBezTo>
                      <a:cubicBezTo>
                        <a:pt x="1301" y="1390"/>
                        <a:pt x="1423" y="1409"/>
                        <a:pt x="1511" y="1360"/>
                      </a:cubicBezTo>
                      <a:cubicBezTo>
                        <a:pt x="1594" y="1314"/>
                        <a:pt x="1675" y="1202"/>
                        <a:pt x="1630" y="1125"/>
                      </a:cubicBezTo>
                      <a:cubicBezTo>
                        <a:pt x="1576" y="1037"/>
                        <a:pt x="1432" y="1084"/>
                        <a:pt x="1343" y="1122"/>
                      </a:cubicBezTo>
                      <a:cubicBezTo>
                        <a:pt x="1260" y="1159"/>
                        <a:pt x="1178" y="1200"/>
                        <a:pt x="1105" y="1261"/>
                      </a:cubicBezTo>
                      <a:cubicBezTo>
                        <a:pt x="1027" y="1325"/>
                        <a:pt x="954" y="1386"/>
                        <a:pt x="838" y="1396"/>
                      </a:cubicBezTo>
                      <a:cubicBezTo>
                        <a:pt x="737" y="1405"/>
                        <a:pt x="628" y="1428"/>
                        <a:pt x="549" y="1372"/>
                      </a:cubicBezTo>
                      <a:cubicBezTo>
                        <a:pt x="473" y="1317"/>
                        <a:pt x="434" y="1223"/>
                        <a:pt x="388" y="1140"/>
                      </a:cubicBezTo>
                      <a:cubicBezTo>
                        <a:pt x="331" y="1039"/>
                        <a:pt x="320" y="934"/>
                        <a:pt x="290" y="826"/>
                      </a:cubicBezTo>
                      <a:cubicBezTo>
                        <a:pt x="259" y="716"/>
                        <a:pt x="285" y="596"/>
                        <a:pt x="297" y="482"/>
                      </a:cubicBezTo>
                      <a:cubicBezTo>
                        <a:pt x="306" y="381"/>
                        <a:pt x="312" y="271"/>
                        <a:pt x="374" y="185"/>
                      </a:cubicBezTo>
                      <a:cubicBezTo>
                        <a:pt x="425" y="114"/>
                        <a:pt x="528" y="0"/>
                        <a:pt x="605" y="81"/>
                      </a:cubicBezTo>
                      <a:cubicBezTo>
                        <a:pt x="673" y="152"/>
                        <a:pt x="624" y="298"/>
                        <a:pt x="529" y="339"/>
                      </a:cubicBezTo>
                      <a:cubicBezTo>
                        <a:pt x="429" y="382"/>
                        <a:pt x="339" y="458"/>
                        <a:pt x="228" y="468"/>
                      </a:cubicBezTo>
                      <a:cubicBezTo>
                        <a:pt x="142" y="476"/>
                        <a:pt x="0" y="510"/>
                        <a:pt x="13" y="626"/>
                      </a:cubicBezTo>
                      <a:cubicBezTo>
                        <a:pt x="25" y="722"/>
                        <a:pt x="83" y="818"/>
                        <a:pt x="171" y="864"/>
                      </a:cubicBezTo>
                      <a:cubicBezTo>
                        <a:pt x="256" y="908"/>
                        <a:pt x="368" y="869"/>
                        <a:pt x="433" y="796"/>
                      </a:cubicBezTo>
                      <a:cubicBezTo>
                        <a:pt x="493" y="729"/>
                        <a:pt x="524" y="642"/>
                        <a:pt x="567" y="565"/>
                      </a:cubicBezTo>
                      <a:cubicBezTo>
                        <a:pt x="623" y="469"/>
                        <a:pt x="593" y="334"/>
                        <a:pt x="497" y="293"/>
                      </a:cubicBezTo>
                      <a:cubicBezTo>
                        <a:pt x="409" y="255"/>
                        <a:pt x="281" y="277"/>
                        <a:pt x="224" y="198"/>
                      </a:cubicBezTo>
                      <a:cubicBezTo>
                        <a:pt x="158" y="107"/>
                        <a:pt x="324" y="16"/>
                        <a:pt x="417" y="44"/>
                      </a:cubicBezTo>
                      <a:cubicBezTo>
                        <a:pt x="523" y="76"/>
                        <a:pt x="542" y="184"/>
                        <a:pt x="589" y="263"/>
                      </a:cubicBezTo>
                      <a:cubicBezTo>
                        <a:pt x="643" y="355"/>
                        <a:pt x="649" y="467"/>
                        <a:pt x="696" y="565"/>
                      </a:cubicBezTo>
                      <a:cubicBezTo>
                        <a:pt x="750" y="675"/>
                        <a:pt x="791" y="794"/>
                        <a:pt x="862" y="893"/>
                      </a:cubicBezTo>
                      <a:cubicBezTo>
                        <a:pt x="921" y="974"/>
                        <a:pt x="999" y="1041"/>
                        <a:pt x="1079" y="1106"/>
                      </a:cubicBezTo>
                      <a:cubicBezTo>
                        <a:pt x="1149" y="1164"/>
                        <a:pt x="1232" y="1217"/>
                        <a:pt x="1323" y="1210"/>
                      </a:cubicBezTo>
                      <a:cubicBezTo>
                        <a:pt x="1425" y="1201"/>
                        <a:pt x="1491" y="1098"/>
                        <a:pt x="1517" y="1004"/>
                      </a:cubicBezTo>
                      <a:cubicBezTo>
                        <a:pt x="1543" y="910"/>
                        <a:pt x="1491" y="800"/>
                        <a:pt x="1385" y="796"/>
                      </a:cubicBezTo>
                      <a:cubicBezTo>
                        <a:pt x="1261" y="792"/>
                        <a:pt x="1242" y="911"/>
                        <a:pt x="1135" y="936"/>
                      </a:cubicBezTo>
                      <a:cubicBezTo>
                        <a:pt x="1037" y="959"/>
                        <a:pt x="977" y="1055"/>
                        <a:pt x="900" y="1118"/>
                      </a:cubicBezTo>
                      <a:cubicBezTo>
                        <a:pt x="829" y="1176"/>
                        <a:pt x="766" y="1243"/>
                        <a:pt x="675" y="1277"/>
                      </a:cubicBezTo>
                      <a:cubicBezTo>
                        <a:pt x="561" y="1320"/>
                        <a:pt x="458" y="1286"/>
                        <a:pt x="369" y="1238"/>
                      </a:cubicBezTo>
                      <a:cubicBezTo>
                        <a:pt x="269" y="1185"/>
                        <a:pt x="262" y="1047"/>
                        <a:pt x="245" y="944"/>
                      </a:cubicBezTo>
                      <a:cubicBezTo>
                        <a:pt x="225" y="815"/>
                        <a:pt x="238" y="678"/>
                        <a:pt x="292" y="550"/>
                      </a:cubicBezTo>
                      <a:cubicBezTo>
                        <a:pt x="344" y="425"/>
                        <a:pt x="439" y="331"/>
                        <a:pt x="507" y="218"/>
                      </a:cubicBezTo>
                      <a:cubicBezTo>
                        <a:pt x="563" y="124"/>
                        <a:pt x="639" y="34"/>
                        <a:pt x="735" y="31"/>
                      </a:cubicBezTo>
                      <a:cubicBezTo>
                        <a:pt x="854" y="27"/>
                        <a:pt x="808" y="220"/>
                        <a:pt x="779" y="312"/>
                      </a:cubicBezTo>
                      <a:cubicBezTo>
                        <a:pt x="747" y="412"/>
                        <a:pt x="717" y="512"/>
                        <a:pt x="696" y="616"/>
                      </a:cubicBezTo>
                      <a:cubicBezTo>
                        <a:pt x="665" y="758"/>
                        <a:pt x="653" y="902"/>
                        <a:pt x="642" y="1045"/>
                      </a:cubicBezTo>
                      <a:cubicBezTo>
                        <a:pt x="630" y="1178"/>
                        <a:pt x="666" y="1308"/>
                        <a:pt x="685" y="1439"/>
                      </a:cubicBezTo>
                      <a:cubicBezTo>
                        <a:pt x="699" y="1535"/>
                        <a:pt x="777" y="1597"/>
                        <a:pt x="855" y="1636"/>
                      </a:cubicBezTo>
                      <a:cubicBezTo>
                        <a:pt x="950" y="1684"/>
                        <a:pt x="1076" y="1693"/>
                        <a:pt x="1174" y="1634"/>
                      </a:cubicBezTo>
                      <a:cubicBezTo>
                        <a:pt x="1281" y="1570"/>
                        <a:pt x="1240" y="1426"/>
                        <a:pt x="1197" y="1344"/>
                      </a:cubicBezTo>
                      <a:cubicBezTo>
                        <a:pt x="1144" y="1246"/>
                        <a:pt x="1033" y="1271"/>
                        <a:pt x="945" y="1236"/>
                      </a:cubicBezTo>
                      <a:cubicBezTo>
                        <a:pt x="850" y="1198"/>
                        <a:pt x="745" y="1187"/>
                        <a:pt x="651" y="1145"/>
                      </a:cubicBezTo>
                      <a:cubicBezTo>
                        <a:pt x="559" y="1104"/>
                        <a:pt x="471" y="1055"/>
                        <a:pt x="380" y="1011"/>
                      </a:cubicBezTo>
                      <a:cubicBezTo>
                        <a:pt x="295" y="971"/>
                        <a:pt x="209" y="903"/>
                        <a:pt x="192" y="799"/>
                      </a:cubicBezTo>
                      <a:cubicBezTo>
                        <a:pt x="174" y="688"/>
                        <a:pt x="263" y="617"/>
                        <a:pt x="331" y="550"/>
                      </a:cubicBezTo>
                      <a:cubicBezTo>
                        <a:pt x="407" y="477"/>
                        <a:pt x="518" y="415"/>
                        <a:pt x="623" y="445"/>
                      </a:cubicBezTo>
                      <a:cubicBezTo>
                        <a:pt x="717" y="471"/>
                        <a:pt x="817" y="451"/>
                        <a:pt x="904" y="504"/>
                      </a:cubicBezTo>
                      <a:cubicBezTo>
                        <a:pt x="985" y="555"/>
                        <a:pt x="1052" y="626"/>
                        <a:pt x="1133" y="677"/>
                      </a:cubicBezTo>
                      <a:cubicBezTo>
                        <a:pt x="1207" y="725"/>
                        <a:pt x="1254" y="795"/>
                        <a:pt x="1323" y="849"/>
                      </a:cubicBezTo>
                      <a:cubicBezTo>
                        <a:pt x="1397" y="908"/>
                        <a:pt x="1468" y="974"/>
                        <a:pt x="1566" y="993"/>
                      </a:cubicBezTo>
                      <a:cubicBezTo>
                        <a:pt x="1715" y="1021"/>
                        <a:pt x="1705" y="835"/>
                        <a:pt x="1657" y="767"/>
                      </a:cubicBezTo>
                      <a:cubicBezTo>
                        <a:pt x="1609" y="699"/>
                        <a:pt x="1542" y="592"/>
                        <a:pt x="1448" y="631"/>
                      </a:cubicBezTo>
                      <a:cubicBezTo>
                        <a:pt x="1364" y="664"/>
                        <a:pt x="1295" y="746"/>
                        <a:pt x="1284" y="849"/>
                      </a:cubicBezTo>
                      <a:cubicBezTo>
                        <a:pt x="1272" y="957"/>
                        <a:pt x="1281" y="1065"/>
                        <a:pt x="1264" y="1172"/>
                      </a:cubicBezTo>
                      <a:cubicBezTo>
                        <a:pt x="1251" y="1259"/>
                        <a:pt x="1243" y="1366"/>
                        <a:pt x="1154" y="1423"/>
                      </a:cubicBezTo>
                      <a:cubicBezTo>
                        <a:pt x="1063" y="1480"/>
                        <a:pt x="947" y="1510"/>
                        <a:pt x="850" y="1468"/>
                      </a:cubicBezTo>
                      <a:cubicBezTo>
                        <a:pt x="769" y="1433"/>
                        <a:pt x="691" y="1379"/>
                        <a:pt x="644" y="1303"/>
                      </a:cubicBezTo>
                      <a:cubicBezTo>
                        <a:pt x="572" y="1189"/>
                        <a:pt x="602" y="1049"/>
                        <a:pt x="601" y="921"/>
                      </a:cubicBezTo>
                      <a:cubicBezTo>
                        <a:pt x="601" y="822"/>
                        <a:pt x="637" y="721"/>
                        <a:pt x="698" y="638"/>
                      </a:cubicBezTo>
                      <a:cubicBezTo>
                        <a:pt x="773" y="535"/>
                        <a:pt x="905" y="559"/>
                        <a:pt x="1008" y="547"/>
                      </a:cubicBezTo>
                      <a:cubicBezTo>
                        <a:pt x="1085" y="538"/>
                        <a:pt x="1297" y="639"/>
                        <a:pt x="1252" y="454"/>
                      </a:cubicBezTo>
                      <a:cubicBezTo>
                        <a:pt x="1230" y="366"/>
                        <a:pt x="1198" y="273"/>
                        <a:pt x="1116" y="212"/>
                      </a:cubicBezTo>
                      <a:cubicBezTo>
                        <a:pt x="1028" y="147"/>
                        <a:pt x="928" y="141"/>
                        <a:pt x="832" y="108"/>
                      </a:cubicBezTo>
                      <a:cubicBezTo>
                        <a:pt x="737" y="75"/>
                        <a:pt x="595" y="58"/>
                        <a:pt x="517" y="155"/>
                      </a:cubicBezTo>
                      <a:cubicBezTo>
                        <a:pt x="455" y="232"/>
                        <a:pt x="374" y="293"/>
                        <a:pt x="326" y="382"/>
                      </a:cubicBezTo>
                      <a:cubicBezTo>
                        <a:pt x="272" y="483"/>
                        <a:pt x="259" y="599"/>
                        <a:pt x="262" y="711"/>
                      </a:cubicBezTo>
                      <a:cubicBezTo>
                        <a:pt x="266" y="833"/>
                        <a:pt x="301" y="950"/>
                        <a:pt x="324" y="1069"/>
                      </a:cubicBezTo>
                      <a:cubicBezTo>
                        <a:pt x="351" y="1203"/>
                        <a:pt x="500" y="1141"/>
                        <a:pt x="575" y="1115"/>
                      </a:cubicBezTo>
                      <a:cubicBezTo>
                        <a:pt x="665" y="1085"/>
                        <a:pt x="735" y="1013"/>
                        <a:pt x="788" y="936"/>
                      </a:cubicBezTo>
                      <a:lnTo>
                        <a:pt x="843" y="866"/>
                      </a:lnTo>
                      <a:lnTo>
                        <a:pt x="898" y="798"/>
                      </a:lnTo>
                      <a:lnTo>
                        <a:pt x="956" y="762"/>
                      </a:lnTo>
                      <a:lnTo>
                        <a:pt x="973" y="765"/>
                      </a:lnTo>
                    </a:path>
                  </a:pathLst>
                </a:custGeom>
                <a:noFill/>
                <a:ln w="9360">
                  <a:solidFill>
                    <a:srgbClr val="23ff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65"/>
                <p:cNvGrpSpPr/>
                <p:nvPr/>
              </p:nvGrpSpPr>
              <p:grpSpPr>
                <a:xfrm>
                  <a:off x="6287400" y="8921160"/>
                  <a:ext cx="395280" cy="406080"/>
                  <a:chOff x="6287400" y="8921160"/>
                  <a:chExt cx="395280" cy="406080"/>
                </a:xfrm>
              </p:grpSpPr>
              <p:sp>
                <p:nvSpPr>
                  <p:cNvPr id="124" name="Oval 66"/>
                  <p:cNvSpPr/>
                  <p:nvPr/>
                </p:nvSpPr>
                <p:spPr>
                  <a:xfrm rot="19200000">
                    <a:off x="6365160" y="8959320"/>
                    <a:ext cx="239400" cy="329400"/>
                  </a:xfrm>
                  <a:prstGeom prst="ellipse">
                    <a:avLst/>
                  </a:prstGeom>
                  <a:noFill/>
                  <a:ln w="18000">
                    <a:solidFill>
                      <a:srgbClr val="ff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67"/>
                  <p:cNvSpPr/>
                  <p:nvPr/>
                </p:nvSpPr>
                <p:spPr>
                  <a:xfrm rot="19200000">
                    <a:off x="6371280" y="9114480"/>
                    <a:ext cx="2988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1255">
                        <a:moveTo>
                          <a:pt x="58" y="1254"/>
                        </a:moveTo>
                        <a:cubicBezTo>
                          <a:pt x="5" y="1042"/>
                          <a:pt x="25" y="1096"/>
                          <a:pt x="25" y="1096"/>
                        </a:cubicBezTo>
                        <a:lnTo>
                          <a:pt x="0" y="844"/>
                        </a:lnTo>
                        <a:lnTo>
                          <a:pt x="0" y="731"/>
                        </a:lnTo>
                        <a:lnTo>
                          <a:pt x="25" y="580"/>
                        </a:lnTo>
                        <a:lnTo>
                          <a:pt x="50" y="466"/>
                        </a:lnTo>
                        <a:lnTo>
                          <a:pt x="126" y="315"/>
                        </a:lnTo>
                        <a:lnTo>
                          <a:pt x="201" y="164"/>
                        </a:lnTo>
                        <a:lnTo>
                          <a:pt x="277" y="63"/>
                        </a:lnTo>
                        <a:lnTo>
                          <a:pt x="340" y="0"/>
                        </a:lnTo>
                      </a:path>
                    </a:pathLst>
                  </a:custGeom>
                  <a:noFill/>
                  <a:ln w="18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68"/>
                  <p:cNvSpPr/>
                  <p:nvPr/>
                </p:nvSpPr>
                <p:spPr>
                  <a:xfrm rot="19200000">
                    <a:off x="6420600" y="9255240"/>
                    <a:ext cx="8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41">
                        <a:moveTo>
                          <a:pt x="0" y="0"/>
                        </a:moveTo>
                        <a:lnTo>
                          <a:pt x="26" y="63"/>
                        </a:lnTo>
                        <a:cubicBezTo>
                          <a:pt x="52" y="126"/>
                          <a:pt x="51" y="177"/>
                          <a:pt x="38" y="177"/>
                        </a:cubicBezTo>
                        <a:cubicBezTo>
                          <a:pt x="25" y="177"/>
                          <a:pt x="101" y="240"/>
                          <a:pt x="101" y="240"/>
                        </a:cubicBezTo>
                      </a:path>
                    </a:pathLst>
                  </a:custGeom>
                  <a:noFill/>
                  <a:ln w="18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69"/>
                  <p:cNvSpPr/>
                  <p:nvPr/>
                </p:nvSpPr>
                <p:spPr>
                  <a:xfrm rot="19200000">
                    <a:off x="6354720" y="9114480"/>
                    <a:ext cx="104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4">
                        <a:moveTo>
                          <a:pt x="0" y="133"/>
                        </a:moveTo>
                        <a:lnTo>
                          <a:pt x="55" y="67"/>
                        </a:lnTo>
                        <a:cubicBezTo>
                          <a:pt x="110" y="1"/>
                          <a:pt x="121" y="0"/>
                          <a:pt x="121" y="0"/>
                        </a:cubicBezTo>
                      </a:path>
                    </a:pathLst>
                  </a:custGeom>
                  <a:noFill/>
                  <a:ln w="18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" name="Group 70"/>
              <p:cNvGrpSpPr/>
              <p:nvPr/>
            </p:nvGrpSpPr>
            <p:grpSpPr>
              <a:xfrm>
                <a:off x="5771520" y="8508960"/>
                <a:ext cx="673560" cy="850320"/>
                <a:chOff x="5771520" y="8508960"/>
                <a:chExt cx="673560" cy="850320"/>
              </a:xfrm>
            </p:grpSpPr>
            <p:sp>
              <p:nvSpPr>
                <p:cNvPr id="129" name="AutoShape 71"/>
                <p:cNvSpPr/>
                <p:nvPr/>
              </p:nvSpPr>
              <p:spPr>
                <a:xfrm rot="6720000">
                  <a:off x="5735520" y="8721360"/>
                  <a:ext cx="745560" cy="425160"/>
                </a:xfrm>
                <a:prstGeom prst="roundRect">
                  <a:avLst>
                    <a:gd name="adj" fmla="val 4975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72"/>
                <p:cNvSpPr/>
                <p:nvPr/>
              </p:nvSpPr>
              <p:spPr>
                <a:xfrm rot="4380000">
                  <a:off x="5872320" y="8862480"/>
                  <a:ext cx="333000" cy="432360"/>
                </a:xfrm>
                <a:custGeom>
                  <a:avLst/>
                  <a:gdLst/>
                  <a:ahLst/>
                  <a:rect l="l" t="t" r="r" b="b"/>
                  <a:pathLst>
                    <a:path w="1716" h="1694">
                      <a:moveTo>
                        <a:pt x="973" y="765"/>
                      </a:moveTo>
                      <a:cubicBezTo>
                        <a:pt x="1083" y="695"/>
                        <a:pt x="1191" y="781"/>
                        <a:pt x="1229" y="868"/>
                      </a:cubicBezTo>
                      <a:cubicBezTo>
                        <a:pt x="1271" y="962"/>
                        <a:pt x="1181" y="1084"/>
                        <a:pt x="1079" y="1106"/>
                      </a:cubicBezTo>
                      <a:cubicBezTo>
                        <a:pt x="967" y="1130"/>
                        <a:pt x="853" y="1128"/>
                        <a:pt x="740" y="1133"/>
                      </a:cubicBezTo>
                      <a:cubicBezTo>
                        <a:pt x="598" y="1140"/>
                        <a:pt x="681" y="1332"/>
                        <a:pt x="740" y="1370"/>
                      </a:cubicBezTo>
                      <a:cubicBezTo>
                        <a:pt x="820" y="1421"/>
                        <a:pt x="928" y="1465"/>
                        <a:pt x="1029" y="1406"/>
                      </a:cubicBezTo>
                      <a:cubicBezTo>
                        <a:pt x="1135" y="1344"/>
                        <a:pt x="1050" y="1217"/>
                        <a:pt x="1020" y="1142"/>
                      </a:cubicBezTo>
                      <a:cubicBezTo>
                        <a:pt x="981" y="1044"/>
                        <a:pt x="858" y="1050"/>
                        <a:pt x="808" y="973"/>
                      </a:cubicBezTo>
                      <a:cubicBezTo>
                        <a:pt x="756" y="892"/>
                        <a:pt x="741" y="795"/>
                        <a:pt x="720" y="697"/>
                      </a:cubicBezTo>
                      <a:cubicBezTo>
                        <a:pt x="698" y="594"/>
                        <a:pt x="762" y="452"/>
                        <a:pt x="875" y="491"/>
                      </a:cubicBezTo>
                      <a:cubicBezTo>
                        <a:pt x="932" y="511"/>
                        <a:pt x="1077" y="624"/>
                        <a:pt x="954" y="678"/>
                      </a:cubicBezTo>
                      <a:cubicBezTo>
                        <a:pt x="848" y="724"/>
                        <a:pt x="732" y="734"/>
                        <a:pt x="620" y="760"/>
                      </a:cubicBezTo>
                      <a:cubicBezTo>
                        <a:pt x="474" y="795"/>
                        <a:pt x="564" y="938"/>
                        <a:pt x="640" y="972"/>
                      </a:cubicBezTo>
                      <a:cubicBezTo>
                        <a:pt x="742" y="1017"/>
                        <a:pt x="826" y="938"/>
                        <a:pt x="907" y="897"/>
                      </a:cubicBezTo>
                      <a:cubicBezTo>
                        <a:pt x="1000" y="850"/>
                        <a:pt x="1123" y="906"/>
                        <a:pt x="1148" y="1008"/>
                      </a:cubicBezTo>
                      <a:cubicBezTo>
                        <a:pt x="1172" y="1110"/>
                        <a:pt x="1181" y="1222"/>
                        <a:pt x="1244" y="1310"/>
                      </a:cubicBezTo>
                      <a:cubicBezTo>
                        <a:pt x="1301" y="1390"/>
                        <a:pt x="1423" y="1409"/>
                        <a:pt x="1511" y="1360"/>
                      </a:cubicBezTo>
                      <a:cubicBezTo>
                        <a:pt x="1594" y="1314"/>
                        <a:pt x="1675" y="1202"/>
                        <a:pt x="1630" y="1125"/>
                      </a:cubicBezTo>
                      <a:cubicBezTo>
                        <a:pt x="1576" y="1037"/>
                        <a:pt x="1432" y="1084"/>
                        <a:pt x="1343" y="1122"/>
                      </a:cubicBezTo>
                      <a:cubicBezTo>
                        <a:pt x="1260" y="1159"/>
                        <a:pt x="1178" y="1200"/>
                        <a:pt x="1105" y="1261"/>
                      </a:cubicBezTo>
                      <a:cubicBezTo>
                        <a:pt x="1027" y="1325"/>
                        <a:pt x="954" y="1386"/>
                        <a:pt x="838" y="1396"/>
                      </a:cubicBezTo>
                      <a:cubicBezTo>
                        <a:pt x="737" y="1405"/>
                        <a:pt x="628" y="1428"/>
                        <a:pt x="549" y="1372"/>
                      </a:cubicBezTo>
                      <a:cubicBezTo>
                        <a:pt x="473" y="1317"/>
                        <a:pt x="434" y="1223"/>
                        <a:pt x="388" y="1140"/>
                      </a:cubicBezTo>
                      <a:cubicBezTo>
                        <a:pt x="331" y="1039"/>
                        <a:pt x="320" y="934"/>
                        <a:pt x="290" y="826"/>
                      </a:cubicBezTo>
                      <a:cubicBezTo>
                        <a:pt x="259" y="716"/>
                        <a:pt x="285" y="596"/>
                        <a:pt x="297" y="482"/>
                      </a:cubicBezTo>
                      <a:cubicBezTo>
                        <a:pt x="306" y="381"/>
                        <a:pt x="312" y="271"/>
                        <a:pt x="374" y="185"/>
                      </a:cubicBezTo>
                      <a:cubicBezTo>
                        <a:pt x="425" y="114"/>
                        <a:pt x="528" y="0"/>
                        <a:pt x="605" y="81"/>
                      </a:cubicBezTo>
                      <a:cubicBezTo>
                        <a:pt x="673" y="152"/>
                        <a:pt x="624" y="298"/>
                        <a:pt x="529" y="339"/>
                      </a:cubicBezTo>
                      <a:cubicBezTo>
                        <a:pt x="429" y="382"/>
                        <a:pt x="339" y="458"/>
                        <a:pt x="228" y="468"/>
                      </a:cubicBezTo>
                      <a:cubicBezTo>
                        <a:pt x="142" y="476"/>
                        <a:pt x="0" y="510"/>
                        <a:pt x="13" y="626"/>
                      </a:cubicBezTo>
                      <a:cubicBezTo>
                        <a:pt x="25" y="722"/>
                        <a:pt x="83" y="818"/>
                        <a:pt x="171" y="864"/>
                      </a:cubicBezTo>
                      <a:cubicBezTo>
                        <a:pt x="256" y="908"/>
                        <a:pt x="368" y="869"/>
                        <a:pt x="433" y="796"/>
                      </a:cubicBezTo>
                      <a:cubicBezTo>
                        <a:pt x="493" y="729"/>
                        <a:pt x="524" y="642"/>
                        <a:pt x="567" y="565"/>
                      </a:cubicBezTo>
                      <a:cubicBezTo>
                        <a:pt x="623" y="469"/>
                        <a:pt x="593" y="334"/>
                        <a:pt x="497" y="293"/>
                      </a:cubicBezTo>
                      <a:cubicBezTo>
                        <a:pt x="409" y="255"/>
                        <a:pt x="281" y="277"/>
                        <a:pt x="224" y="198"/>
                      </a:cubicBezTo>
                      <a:cubicBezTo>
                        <a:pt x="158" y="107"/>
                        <a:pt x="324" y="16"/>
                        <a:pt x="417" y="44"/>
                      </a:cubicBezTo>
                      <a:cubicBezTo>
                        <a:pt x="523" y="76"/>
                        <a:pt x="542" y="184"/>
                        <a:pt x="589" y="263"/>
                      </a:cubicBezTo>
                      <a:cubicBezTo>
                        <a:pt x="643" y="355"/>
                        <a:pt x="649" y="467"/>
                        <a:pt x="696" y="565"/>
                      </a:cubicBezTo>
                      <a:cubicBezTo>
                        <a:pt x="750" y="675"/>
                        <a:pt x="791" y="794"/>
                        <a:pt x="862" y="893"/>
                      </a:cubicBezTo>
                      <a:cubicBezTo>
                        <a:pt x="921" y="974"/>
                        <a:pt x="999" y="1041"/>
                        <a:pt x="1079" y="1106"/>
                      </a:cubicBezTo>
                      <a:cubicBezTo>
                        <a:pt x="1149" y="1164"/>
                        <a:pt x="1232" y="1217"/>
                        <a:pt x="1323" y="1210"/>
                      </a:cubicBezTo>
                      <a:cubicBezTo>
                        <a:pt x="1425" y="1201"/>
                        <a:pt x="1491" y="1098"/>
                        <a:pt x="1517" y="1004"/>
                      </a:cubicBezTo>
                      <a:cubicBezTo>
                        <a:pt x="1543" y="910"/>
                        <a:pt x="1491" y="800"/>
                        <a:pt x="1385" y="796"/>
                      </a:cubicBezTo>
                      <a:cubicBezTo>
                        <a:pt x="1261" y="792"/>
                        <a:pt x="1242" y="911"/>
                        <a:pt x="1135" y="936"/>
                      </a:cubicBezTo>
                      <a:cubicBezTo>
                        <a:pt x="1037" y="959"/>
                        <a:pt x="977" y="1055"/>
                        <a:pt x="900" y="1118"/>
                      </a:cubicBezTo>
                      <a:cubicBezTo>
                        <a:pt x="829" y="1176"/>
                        <a:pt x="766" y="1243"/>
                        <a:pt x="675" y="1277"/>
                      </a:cubicBezTo>
                      <a:cubicBezTo>
                        <a:pt x="561" y="1320"/>
                        <a:pt x="458" y="1286"/>
                        <a:pt x="369" y="1238"/>
                      </a:cubicBezTo>
                      <a:cubicBezTo>
                        <a:pt x="269" y="1185"/>
                        <a:pt x="262" y="1047"/>
                        <a:pt x="245" y="944"/>
                      </a:cubicBezTo>
                      <a:cubicBezTo>
                        <a:pt x="225" y="815"/>
                        <a:pt x="238" y="678"/>
                        <a:pt x="292" y="550"/>
                      </a:cubicBezTo>
                      <a:cubicBezTo>
                        <a:pt x="344" y="425"/>
                        <a:pt x="439" y="331"/>
                        <a:pt x="507" y="218"/>
                      </a:cubicBezTo>
                      <a:cubicBezTo>
                        <a:pt x="563" y="124"/>
                        <a:pt x="639" y="34"/>
                        <a:pt x="735" y="31"/>
                      </a:cubicBezTo>
                      <a:cubicBezTo>
                        <a:pt x="854" y="27"/>
                        <a:pt x="808" y="220"/>
                        <a:pt x="779" y="312"/>
                      </a:cubicBezTo>
                      <a:cubicBezTo>
                        <a:pt x="747" y="412"/>
                        <a:pt x="717" y="512"/>
                        <a:pt x="696" y="616"/>
                      </a:cubicBezTo>
                      <a:cubicBezTo>
                        <a:pt x="665" y="758"/>
                        <a:pt x="653" y="902"/>
                        <a:pt x="642" y="1045"/>
                      </a:cubicBezTo>
                      <a:cubicBezTo>
                        <a:pt x="630" y="1178"/>
                        <a:pt x="666" y="1308"/>
                        <a:pt x="685" y="1439"/>
                      </a:cubicBezTo>
                      <a:cubicBezTo>
                        <a:pt x="699" y="1535"/>
                        <a:pt x="777" y="1597"/>
                        <a:pt x="855" y="1636"/>
                      </a:cubicBezTo>
                      <a:cubicBezTo>
                        <a:pt x="950" y="1684"/>
                        <a:pt x="1076" y="1693"/>
                        <a:pt x="1174" y="1634"/>
                      </a:cubicBezTo>
                      <a:cubicBezTo>
                        <a:pt x="1281" y="1570"/>
                        <a:pt x="1240" y="1426"/>
                        <a:pt x="1197" y="1344"/>
                      </a:cubicBezTo>
                      <a:cubicBezTo>
                        <a:pt x="1144" y="1246"/>
                        <a:pt x="1033" y="1271"/>
                        <a:pt x="945" y="1236"/>
                      </a:cubicBezTo>
                      <a:cubicBezTo>
                        <a:pt x="850" y="1198"/>
                        <a:pt x="745" y="1187"/>
                        <a:pt x="651" y="1145"/>
                      </a:cubicBezTo>
                      <a:cubicBezTo>
                        <a:pt x="559" y="1104"/>
                        <a:pt x="471" y="1055"/>
                        <a:pt x="380" y="1011"/>
                      </a:cubicBezTo>
                      <a:cubicBezTo>
                        <a:pt x="295" y="971"/>
                        <a:pt x="209" y="903"/>
                        <a:pt x="192" y="799"/>
                      </a:cubicBezTo>
                      <a:cubicBezTo>
                        <a:pt x="174" y="688"/>
                        <a:pt x="263" y="617"/>
                        <a:pt x="331" y="550"/>
                      </a:cubicBezTo>
                      <a:cubicBezTo>
                        <a:pt x="407" y="477"/>
                        <a:pt x="518" y="415"/>
                        <a:pt x="623" y="445"/>
                      </a:cubicBezTo>
                      <a:cubicBezTo>
                        <a:pt x="717" y="471"/>
                        <a:pt x="817" y="451"/>
                        <a:pt x="904" y="504"/>
                      </a:cubicBezTo>
                      <a:cubicBezTo>
                        <a:pt x="985" y="555"/>
                        <a:pt x="1052" y="626"/>
                        <a:pt x="1133" y="677"/>
                      </a:cubicBezTo>
                      <a:cubicBezTo>
                        <a:pt x="1207" y="725"/>
                        <a:pt x="1254" y="795"/>
                        <a:pt x="1323" y="849"/>
                      </a:cubicBezTo>
                      <a:cubicBezTo>
                        <a:pt x="1397" y="908"/>
                        <a:pt x="1468" y="974"/>
                        <a:pt x="1566" y="993"/>
                      </a:cubicBezTo>
                      <a:cubicBezTo>
                        <a:pt x="1715" y="1021"/>
                        <a:pt x="1705" y="835"/>
                        <a:pt x="1657" y="767"/>
                      </a:cubicBezTo>
                      <a:cubicBezTo>
                        <a:pt x="1609" y="699"/>
                        <a:pt x="1542" y="592"/>
                        <a:pt x="1448" y="631"/>
                      </a:cubicBezTo>
                      <a:cubicBezTo>
                        <a:pt x="1364" y="664"/>
                        <a:pt x="1295" y="746"/>
                        <a:pt x="1284" y="849"/>
                      </a:cubicBezTo>
                      <a:cubicBezTo>
                        <a:pt x="1272" y="957"/>
                        <a:pt x="1281" y="1065"/>
                        <a:pt x="1264" y="1172"/>
                      </a:cubicBezTo>
                      <a:cubicBezTo>
                        <a:pt x="1251" y="1259"/>
                        <a:pt x="1243" y="1366"/>
                        <a:pt x="1154" y="1423"/>
                      </a:cubicBezTo>
                      <a:cubicBezTo>
                        <a:pt x="1063" y="1480"/>
                        <a:pt x="947" y="1510"/>
                        <a:pt x="850" y="1468"/>
                      </a:cubicBezTo>
                      <a:cubicBezTo>
                        <a:pt x="769" y="1433"/>
                        <a:pt x="691" y="1379"/>
                        <a:pt x="644" y="1303"/>
                      </a:cubicBezTo>
                      <a:cubicBezTo>
                        <a:pt x="572" y="1189"/>
                        <a:pt x="602" y="1049"/>
                        <a:pt x="601" y="921"/>
                      </a:cubicBezTo>
                      <a:cubicBezTo>
                        <a:pt x="601" y="822"/>
                        <a:pt x="637" y="721"/>
                        <a:pt x="698" y="638"/>
                      </a:cubicBezTo>
                      <a:cubicBezTo>
                        <a:pt x="773" y="535"/>
                        <a:pt x="905" y="559"/>
                        <a:pt x="1008" y="547"/>
                      </a:cubicBezTo>
                      <a:cubicBezTo>
                        <a:pt x="1085" y="538"/>
                        <a:pt x="1297" y="639"/>
                        <a:pt x="1252" y="454"/>
                      </a:cubicBezTo>
                      <a:cubicBezTo>
                        <a:pt x="1230" y="366"/>
                        <a:pt x="1198" y="273"/>
                        <a:pt x="1116" y="212"/>
                      </a:cubicBezTo>
                      <a:cubicBezTo>
                        <a:pt x="1028" y="147"/>
                        <a:pt x="928" y="141"/>
                        <a:pt x="832" y="108"/>
                      </a:cubicBezTo>
                      <a:cubicBezTo>
                        <a:pt x="737" y="75"/>
                        <a:pt x="595" y="58"/>
                        <a:pt x="517" y="155"/>
                      </a:cubicBezTo>
                      <a:cubicBezTo>
                        <a:pt x="455" y="232"/>
                        <a:pt x="374" y="293"/>
                        <a:pt x="326" y="382"/>
                      </a:cubicBezTo>
                      <a:cubicBezTo>
                        <a:pt x="272" y="483"/>
                        <a:pt x="259" y="599"/>
                        <a:pt x="262" y="711"/>
                      </a:cubicBezTo>
                      <a:cubicBezTo>
                        <a:pt x="266" y="833"/>
                        <a:pt x="301" y="950"/>
                        <a:pt x="324" y="1069"/>
                      </a:cubicBezTo>
                      <a:cubicBezTo>
                        <a:pt x="351" y="1203"/>
                        <a:pt x="500" y="1141"/>
                        <a:pt x="575" y="1115"/>
                      </a:cubicBezTo>
                      <a:cubicBezTo>
                        <a:pt x="665" y="1085"/>
                        <a:pt x="735" y="1013"/>
                        <a:pt x="788" y="936"/>
                      </a:cubicBezTo>
                      <a:lnTo>
                        <a:pt x="843" y="866"/>
                      </a:lnTo>
                      <a:lnTo>
                        <a:pt x="898" y="798"/>
                      </a:lnTo>
                      <a:lnTo>
                        <a:pt x="956" y="762"/>
                      </a:lnTo>
                      <a:lnTo>
                        <a:pt x="973" y="765"/>
                      </a:lnTo>
                    </a:path>
                  </a:pathLst>
                </a:custGeom>
                <a:noFill/>
                <a:ln w="9360">
                  <a:solidFill>
                    <a:srgbClr val="23ff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Group 73"/>
                <p:cNvGrpSpPr/>
                <p:nvPr/>
              </p:nvGrpSpPr>
              <p:grpSpPr>
                <a:xfrm>
                  <a:off x="6017760" y="8596080"/>
                  <a:ext cx="362520" cy="317160"/>
                  <a:chOff x="6017760" y="8596080"/>
                  <a:chExt cx="362520" cy="317160"/>
                </a:xfrm>
              </p:grpSpPr>
              <p:sp>
                <p:nvSpPr>
                  <p:cNvPr id="132" name="Oval 74"/>
                  <p:cNvSpPr/>
                  <p:nvPr/>
                </p:nvSpPr>
                <p:spPr>
                  <a:xfrm rot="4380000">
                    <a:off x="6080040" y="8601120"/>
                    <a:ext cx="237960" cy="306360"/>
                  </a:xfrm>
                  <a:prstGeom prst="ellipse">
                    <a:avLst/>
                  </a:prstGeom>
                  <a:noFill/>
                  <a:ln w="36000">
                    <a:solidFill>
                      <a:srgbClr val="ff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5"/>
                  <p:cNvSpPr/>
                  <p:nvPr/>
                </p:nvSpPr>
                <p:spPr>
                  <a:xfrm rot="4380000">
                    <a:off x="6193080" y="8586720"/>
                    <a:ext cx="29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1255">
                        <a:moveTo>
                          <a:pt x="58" y="1254"/>
                        </a:moveTo>
                        <a:cubicBezTo>
                          <a:pt x="5" y="1042"/>
                          <a:pt x="25" y="1096"/>
                          <a:pt x="25" y="1096"/>
                        </a:cubicBezTo>
                        <a:lnTo>
                          <a:pt x="0" y="844"/>
                        </a:lnTo>
                        <a:lnTo>
                          <a:pt x="0" y="731"/>
                        </a:lnTo>
                        <a:lnTo>
                          <a:pt x="25" y="580"/>
                        </a:lnTo>
                        <a:lnTo>
                          <a:pt x="50" y="466"/>
                        </a:lnTo>
                        <a:lnTo>
                          <a:pt x="126" y="315"/>
                        </a:lnTo>
                        <a:lnTo>
                          <a:pt x="201" y="164"/>
                        </a:lnTo>
                        <a:lnTo>
                          <a:pt x="277" y="63"/>
                        </a:lnTo>
                        <a:lnTo>
                          <a:pt x="340" y="0"/>
                        </a:lnTo>
                      </a:path>
                    </a:pathLst>
                  </a:custGeom>
                  <a:noFill/>
                  <a:ln w="36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76"/>
                  <p:cNvSpPr/>
                  <p:nvPr/>
                </p:nvSpPr>
                <p:spPr>
                  <a:xfrm rot="4380000">
                    <a:off x="6095520" y="8659800"/>
                    <a:ext cx="8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41">
                        <a:moveTo>
                          <a:pt x="0" y="0"/>
                        </a:moveTo>
                        <a:lnTo>
                          <a:pt x="26" y="63"/>
                        </a:lnTo>
                        <a:cubicBezTo>
                          <a:pt x="52" y="126"/>
                          <a:pt x="51" y="177"/>
                          <a:pt x="38" y="177"/>
                        </a:cubicBezTo>
                        <a:cubicBezTo>
                          <a:pt x="25" y="177"/>
                          <a:pt x="101" y="240"/>
                          <a:pt x="101" y="240"/>
                        </a:cubicBezTo>
                      </a:path>
                    </a:pathLst>
                  </a:custGeom>
                  <a:noFill/>
                  <a:ln w="36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77"/>
                  <p:cNvSpPr/>
                  <p:nvPr/>
                </p:nvSpPr>
                <p:spPr>
                  <a:xfrm rot="4380000">
                    <a:off x="6277320" y="8636040"/>
                    <a:ext cx="104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4">
                        <a:moveTo>
                          <a:pt x="0" y="133"/>
                        </a:moveTo>
                        <a:lnTo>
                          <a:pt x="55" y="67"/>
                        </a:lnTo>
                        <a:cubicBezTo>
                          <a:pt x="110" y="1"/>
                          <a:pt x="121" y="0"/>
                          <a:pt x="121" y="0"/>
                        </a:cubicBezTo>
                      </a:path>
                    </a:pathLst>
                  </a:custGeom>
                  <a:noFill/>
                  <a:ln w="36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Freeform 78"/>
                <p:cNvSpPr/>
                <p:nvPr/>
              </p:nvSpPr>
              <p:spPr>
                <a:xfrm rot="4380000">
                  <a:off x="5872320" y="8862480"/>
                  <a:ext cx="333000" cy="432360"/>
                </a:xfrm>
                <a:custGeom>
                  <a:avLst/>
                  <a:gdLst/>
                  <a:ahLst/>
                  <a:rect l="l" t="t" r="r" b="b"/>
                  <a:pathLst>
                    <a:path w="1716" h="1694">
                      <a:moveTo>
                        <a:pt x="973" y="765"/>
                      </a:moveTo>
                      <a:cubicBezTo>
                        <a:pt x="1083" y="695"/>
                        <a:pt x="1191" y="781"/>
                        <a:pt x="1229" y="868"/>
                      </a:cubicBezTo>
                      <a:cubicBezTo>
                        <a:pt x="1271" y="962"/>
                        <a:pt x="1181" y="1084"/>
                        <a:pt x="1079" y="1106"/>
                      </a:cubicBezTo>
                      <a:cubicBezTo>
                        <a:pt x="967" y="1130"/>
                        <a:pt x="853" y="1128"/>
                        <a:pt x="740" y="1133"/>
                      </a:cubicBezTo>
                      <a:cubicBezTo>
                        <a:pt x="598" y="1140"/>
                        <a:pt x="681" y="1332"/>
                        <a:pt x="740" y="1370"/>
                      </a:cubicBezTo>
                      <a:cubicBezTo>
                        <a:pt x="820" y="1421"/>
                        <a:pt x="928" y="1465"/>
                        <a:pt x="1029" y="1406"/>
                      </a:cubicBezTo>
                      <a:cubicBezTo>
                        <a:pt x="1135" y="1344"/>
                        <a:pt x="1050" y="1217"/>
                        <a:pt x="1020" y="1142"/>
                      </a:cubicBezTo>
                      <a:cubicBezTo>
                        <a:pt x="981" y="1044"/>
                        <a:pt x="858" y="1050"/>
                        <a:pt x="808" y="973"/>
                      </a:cubicBezTo>
                      <a:cubicBezTo>
                        <a:pt x="756" y="892"/>
                        <a:pt x="741" y="795"/>
                        <a:pt x="720" y="697"/>
                      </a:cubicBezTo>
                      <a:cubicBezTo>
                        <a:pt x="698" y="594"/>
                        <a:pt x="762" y="452"/>
                        <a:pt x="875" y="491"/>
                      </a:cubicBezTo>
                      <a:cubicBezTo>
                        <a:pt x="932" y="511"/>
                        <a:pt x="1077" y="624"/>
                        <a:pt x="954" y="678"/>
                      </a:cubicBezTo>
                      <a:cubicBezTo>
                        <a:pt x="848" y="724"/>
                        <a:pt x="732" y="734"/>
                        <a:pt x="620" y="760"/>
                      </a:cubicBezTo>
                      <a:cubicBezTo>
                        <a:pt x="474" y="795"/>
                        <a:pt x="564" y="938"/>
                        <a:pt x="640" y="972"/>
                      </a:cubicBezTo>
                      <a:cubicBezTo>
                        <a:pt x="742" y="1017"/>
                        <a:pt x="826" y="938"/>
                        <a:pt x="907" y="897"/>
                      </a:cubicBezTo>
                      <a:cubicBezTo>
                        <a:pt x="1000" y="850"/>
                        <a:pt x="1123" y="906"/>
                        <a:pt x="1148" y="1008"/>
                      </a:cubicBezTo>
                      <a:cubicBezTo>
                        <a:pt x="1172" y="1110"/>
                        <a:pt x="1181" y="1222"/>
                        <a:pt x="1244" y="1310"/>
                      </a:cubicBezTo>
                      <a:cubicBezTo>
                        <a:pt x="1301" y="1390"/>
                        <a:pt x="1423" y="1409"/>
                        <a:pt x="1511" y="1360"/>
                      </a:cubicBezTo>
                      <a:cubicBezTo>
                        <a:pt x="1594" y="1314"/>
                        <a:pt x="1675" y="1202"/>
                        <a:pt x="1630" y="1125"/>
                      </a:cubicBezTo>
                      <a:cubicBezTo>
                        <a:pt x="1576" y="1037"/>
                        <a:pt x="1432" y="1084"/>
                        <a:pt x="1343" y="1122"/>
                      </a:cubicBezTo>
                      <a:cubicBezTo>
                        <a:pt x="1260" y="1159"/>
                        <a:pt x="1178" y="1200"/>
                        <a:pt x="1105" y="1261"/>
                      </a:cubicBezTo>
                      <a:cubicBezTo>
                        <a:pt x="1027" y="1325"/>
                        <a:pt x="954" y="1386"/>
                        <a:pt x="838" y="1396"/>
                      </a:cubicBezTo>
                      <a:cubicBezTo>
                        <a:pt x="737" y="1405"/>
                        <a:pt x="628" y="1428"/>
                        <a:pt x="549" y="1372"/>
                      </a:cubicBezTo>
                      <a:cubicBezTo>
                        <a:pt x="473" y="1317"/>
                        <a:pt x="434" y="1223"/>
                        <a:pt x="388" y="1140"/>
                      </a:cubicBezTo>
                      <a:cubicBezTo>
                        <a:pt x="331" y="1039"/>
                        <a:pt x="320" y="934"/>
                        <a:pt x="290" y="826"/>
                      </a:cubicBezTo>
                      <a:cubicBezTo>
                        <a:pt x="259" y="716"/>
                        <a:pt x="285" y="596"/>
                        <a:pt x="297" y="482"/>
                      </a:cubicBezTo>
                      <a:cubicBezTo>
                        <a:pt x="306" y="381"/>
                        <a:pt x="312" y="271"/>
                        <a:pt x="374" y="185"/>
                      </a:cubicBezTo>
                      <a:cubicBezTo>
                        <a:pt x="425" y="114"/>
                        <a:pt x="528" y="0"/>
                        <a:pt x="605" y="81"/>
                      </a:cubicBezTo>
                      <a:cubicBezTo>
                        <a:pt x="673" y="152"/>
                        <a:pt x="624" y="298"/>
                        <a:pt x="529" y="339"/>
                      </a:cubicBezTo>
                      <a:cubicBezTo>
                        <a:pt x="429" y="382"/>
                        <a:pt x="339" y="458"/>
                        <a:pt x="228" y="468"/>
                      </a:cubicBezTo>
                      <a:cubicBezTo>
                        <a:pt x="142" y="476"/>
                        <a:pt x="0" y="510"/>
                        <a:pt x="13" y="626"/>
                      </a:cubicBezTo>
                      <a:cubicBezTo>
                        <a:pt x="25" y="722"/>
                        <a:pt x="83" y="818"/>
                        <a:pt x="171" y="864"/>
                      </a:cubicBezTo>
                      <a:cubicBezTo>
                        <a:pt x="256" y="908"/>
                        <a:pt x="368" y="869"/>
                        <a:pt x="433" y="796"/>
                      </a:cubicBezTo>
                      <a:cubicBezTo>
                        <a:pt x="493" y="729"/>
                        <a:pt x="524" y="642"/>
                        <a:pt x="567" y="565"/>
                      </a:cubicBezTo>
                      <a:cubicBezTo>
                        <a:pt x="623" y="469"/>
                        <a:pt x="593" y="334"/>
                        <a:pt x="497" y="293"/>
                      </a:cubicBezTo>
                      <a:cubicBezTo>
                        <a:pt x="409" y="255"/>
                        <a:pt x="281" y="277"/>
                        <a:pt x="224" y="198"/>
                      </a:cubicBezTo>
                      <a:cubicBezTo>
                        <a:pt x="158" y="107"/>
                        <a:pt x="324" y="16"/>
                        <a:pt x="417" y="44"/>
                      </a:cubicBezTo>
                      <a:cubicBezTo>
                        <a:pt x="523" y="76"/>
                        <a:pt x="542" y="184"/>
                        <a:pt x="589" y="263"/>
                      </a:cubicBezTo>
                      <a:cubicBezTo>
                        <a:pt x="643" y="355"/>
                        <a:pt x="649" y="467"/>
                        <a:pt x="696" y="565"/>
                      </a:cubicBezTo>
                      <a:cubicBezTo>
                        <a:pt x="750" y="675"/>
                        <a:pt x="791" y="794"/>
                        <a:pt x="862" y="893"/>
                      </a:cubicBezTo>
                      <a:cubicBezTo>
                        <a:pt x="921" y="974"/>
                        <a:pt x="999" y="1041"/>
                        <a:pt x="1079" y="1106"/>
                      </a:cubicBezTo>
                      <a:cubicBezTo>
                        <a:pt x="1149" y="1164"/>
                        <a:pt x="1232" y="1217"/>
                        <a:pt x="1323" y="1210"/>
                      </a:cubicBezTo>
                      <a:cubicBezTo>
                        <a:pt x="1425" y="1201"/>
                        <a:pt x="1491" y="1098"/>
                        <a:pt x="1517" y="1004"/>
                      </a:cubicBezTo>
                      <a:cubicBezTo>
                        <a:pt x="1543" y="910"/>
                        <a:pt x="1491" y="800"/>
                        <a:pt x="1385" y="796"/>
                      </a:cubicBezTo>
                      <a:cubicBezTo>
                        <a:pt x="1261" y="792"/>
                        <a:pt x="1242" y="911"/>
                        <a:pt x="1135" y="936"/>
                      </a:cubicBezTo>
                      <a:cubicBezTo>
                        <a:pt x="1037" y="959"/>
                        <a:pt x="977" y="1055"/>
                        <a:pt x="900" y="1118"/>
                      </a:cubicBezTo>
                      <a:cubicBezTo>
                        <a:pt x="829" y="1176"/>
                        <a:pt x="766" y="1243"/>
                        <a:pt x="675" y="1277"/>
                      </a:cubicBezTo>
                      <a:cubicBezTo>
                        <a:pt x="561" y="1320"/>
                        <a:pt x="458" y="1286"/>
                        <a:pt x="369" y="1238"/>
                      </a:cubicBezTo>
                      <a:cubicBezTo>
                        <a:pt x="269" y="1185"/>
                        <a:pt x="262" y="1047"/>
                        <a:pt x="245" y="944"/>
                      </a:cubicBezTo>
                      <a:cubicBezTo>
                        <a:pt x="225" y="815"/>
                        <a:pt x="238" y="678"/>
                        <a:pt x="292" y="550"/>
                      </a:cubicBezTo>
                      <a:cubicBezTo>
                        <a:pt x="344" y="425"/>
                        <a:pt x="439" y="331"/>
                        <a:pt x="507" y="218"/>
                      </a:cubicBezTo>
                      <a:cubicBezTo>
                        <a:pt x="563" y="124"/>
                        <a:pt x="639" y="34"/>
                        <a:pt x="735" y="31"/>
                      </a:cubicBezTo>
                      <a:cubicBezTo>
                        <a:pt x="854" y="27"/>
                        <a:pt x="808" y="220"/>
                        <a:pt x="779" y="312"/>
                      </a:cubicBezTo>
                      <a:cubicBezTo>
                        <a:pt x="747" y="412"/>
                        <a:pt x="717" y="512"/>
                        <a:pt x="696" y="616"/>
                      </a:cubicBezTo>
                      <a:cubicBezTo>
                        <a:pt x="665" y="758"/>
                        <a:pt x="653" y="902"/>
                        <a:pt x="642" y="1045"/>
                      </a:cubicBezTo>
                      <a:cubicBezTo>
                        <a:pt x="630" y="1178"/>
                        <a:pt x="666" y="1308"/>
                        <a:pt x="685" y="1439"/>
                      </a:cubicBezTo>
                      <a:cubicBezTo>
                        <a:pt x="699" y="1535"/>
                        <a:pt x="777" y="1597"/>
                        <a:pt x="855" y="1636"/>
                      </a:cubicBezTo>
                      <a:cubicBezTo>
                        <a:pt x="950" y="1684"/>
                        <a:pt x="1076" y="1693"/>
                        <a:pt x="1174" y="1634"/>
                      </a:cubicBezTo>
                      <a:cubicBezTo>
                        <a:pt x="1281" y="1570"/>
                        <a:pt x="1240" y="1426"/>
                        <a:pt x="1197" y="1344"/>
                      </a:cubicBezTo>
                      <a:cubicBezTo>
                        <a:pt x="1144" y="1246"/>
                        <a:pt x="1033" y="1271"/>
                        <a:pt x="945" y="1236"/>
                      </a:cubicBezTo>
                      <a:cubicBezTo>
                        <a:pt x="850" y="1198"/>
                        <a:pt x="745" y="1187"/>
                        <a:pt x="651" y="1145"/>
                      </a:cubicBezTo>
                      <a:cubicBezTo>
                        <a:pt x="559" y="1104"/>
                        <a:pt x="471" y="1055"/>
                        <a:pt x="380" y="1011"/>
                      </a:cubicBezTo>
                      <a:cubicBezTo>
                        <a:pt x="295" y="971"/>
                        <a:pt x="209" y="903"/>
                        <a:pt x="192" y="799"/>
                      </a:cubicBezTo>
                      <a:cubicBezTo>
                        <a:pt x="174" y="688"/>
                        <a:pt x="263" y="617"/>
                        <a:pt x="331" y="550"/>
                      </a:cubicBezTo>
                      <a:cubicBezTo>
                        <a:pt x="407" y="477"/>
                        <a:pt x="518" y="415"/>
                        <a:pt x="623" y="445"/>
                      </a:cubicBezTo>
                      <a:cubicBezTo>
                        <a:pt x="717" y="471"/>
                        <a:pt x="817" y="451"/>
                        <a:pt x="904" y="504"/>
                      </a:cubicBezTo>
                      <a:cubicBezTo>
                        <a:pt x="985" y="555"/>
                        <a:pt x="1052" y="626"/>
                        <a:pt x="1133" y="677"/>
                      </a:cubicBezTo>
                      <a:cubicBezTo>
                        <a:pt x="1207" y="725"/>
                        <a:pt x="1254" y="795"/>
                        <a:pt x="1323" y="849"/>
                      </a:cubicBezTo>
                      <a:cubicBezTo>
                        <a:pt x="1397" y="908"/>
                        <a:pt x="1468" y="974"/>
                        <a:pt x="1566" y="993"/>
                      </a:cubicBezTo>
                      <a:cubicBezTo>
                        <a:pt x="1715" y="1021"/>
                        <a:pt x="1705" y="835"/>
                        <a:pt x="1657" y="767"/>
                      </a:cubicBezTo>
                      <a:cubicBezTo>
                        <a:pt x="1609" y="699"/>
                        <a:pt x="1542" y="592"/>
                        <a:pt x="1448" y="631"/>
                      </a:cubicBezTo>
                      <a:cubicBezTo>
                        <a:pt x="1364" y="664"/>
                        <a:pt x="1295" y="746"/>
                        <a:pt x="1284" y="849"/>
                      </a:cubicBezTo>
                      <a:cubicBezTo>
                        <a:pt x="1272" y="957"/>
                        <a:pt x="1281" y="1065"/>
                        <a:pt x="1264" y="1172"/>
                      </a:cubicBezTo>
                      <a:cubicBezTo>
                        <a:pt x="1251" y="1259"/>
                        <a:pt x="1243" y="1366"/>
                        <a:pt x="1154" y="1423"/>
                      </a:cubicBezTo>
                      <a:cubicBezTo>
                        <a:pt x="1063" y="1480"/>
                        <a:pt x="947" y="1510"/>
                        <a:pt x="850" y="1468"/>
                      </a:cubicBezTo>
                      <a:cubicBezTo>
                        <a:pt x="769" y="1433"/>
                        <a:pt x="691" y="1379"/>
                        <a:pt x="644" y="1303"/>
                      </a:cubicBezTo>
                      <a:cubicBezTo>
                        <a:pt x="572" y="1189"/>
                        <a:pt x="602" y="1049"/>
                        <a:pt x="601" y="921"/>
                      </a:cubicBezTo>
                      <a:cubicBezTo>
                        <a:pt x="601" y="822"/>
                        <a:pt x="637" y="721"/>
                        <a:pt x="698" y="638"/>
                      </a:cubicBezTo>
                      <a:cubicBezTo>
                        <a:pt x="773" y="535"/>
                        <a:pt x="905" y="559"/>
                        <a:pt x="1008" y="547"/>
                      </a:cubicBezTo>
                      <a:cubicBezTo>
                        <a:pt x="1085" y="538"/>
                        <a:pt x="1297" y="639"/>
                        <a:pt x="1252" y="454"/>
                      </a:cubicBezTo>
                      <a:cubicBezTo>
                        <a:pt x="1230" y="366"/>
                        <a:pt x="1198" y="273"/>
                        <a:pt x="1116" y="212"/>
                      </a:cubicBezTo>
                      <a:cubicBezTo>
                        <a:pt x="1028" y="147"/>
                        <a:pt x="928" y="141"/>
                        <a:pt x="832" y="108"/>
                      </a:cubicBezTo>
                      <a:cubicBezTo>
                        <a:pt x="737" y="75"/>
                        <a:pt x="595" y="58"/>
                        <a:pt x="517" y="155"/>
                      </a:cubicBezTo>
                      <a:cubicBezTo>
                        <a:pt x="455" y="232"/>
                        <a:pt x="374" y="293"/>
                        <a:pt x="326" y="382"/>
                      </a:cubicBezTo>
                      <a:cubicBezTo>
                        <a:pt x="272" y="483"/>
                        <a:pt x="259" y="599"/>
                        <a:pt x="262" y="711"/>
                      </a:cubicBezTo>
                      <a:cubicBezTo>
                        <a:pt x="266" y="833"/>
                        <a:pt x="301" y="950"/>
                        <a:pt x="324" y="1069"/>
                      </a:cubicBezTo>
                      <a:cubicBezTo>
                        <a:pt x="351" y="1203"/>
                        <a:pt x="500" y="1141"/>
                        <a:pt x="575" y="1115"/>
                      </a:cubicBezTo>
                      <a:cubicBezTo>
                        <a:pt x="665" y="1085"/>
                        <a:pt x="735" y="1013"/>
                        <a:pt x="788" y="936"/>
                      </a:cubicBezTo>
                      <a:lnTo>
                        <a:pt x="843" y="866"/>
                      </a:lnTo>
                      <a:lnTo>
                        <a:pt x="898" y="798"/>
                      </a:lnTo>
                      <a:lnTo>
                        <a:pt x="956" y="762"/>
                      </a:lnTo>
                      <a:lnTo>
                        <a:pt x="973" y="765"/>
                      </a:lnTo>
                    </a:path>
                  </a:pathLst>
                </a:custGeom>
                <a:noFill/>
                <a:ln w="9360">
                  <a:solidFill>
                    <a:srgbClr val="23ff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79"/>
                <p:cNvGrpSpPr/>
                <p:nvPr/>
              </p:nvGrpSpPr>
              <p:grpSpPr>
                <a:xfrm>
                  <a:off x="6018120" y="8601480"/>
                  <a:ext cx="362160" cy="315000"/>
                  <a:chOff x="6018120" y="8601480"/>
                  <a:chExt cx="362160" cy="315000"/>
                </a:xfrm>
              </p:grpSpPr>
              <p:sp>
                <p:nvSpPr>
                  <p:cNvPr id="138" name="Oval 80"/>
                  <p:cNvSpPr/>
                  <p:nvPr/>
                </p:nvSpPr>
                <p:spPr>
                  <a:xfrm rot="4380000">
                    <a:off x="6081120" y="8605800"/>
                    <a:ext cx="235800" cy="306360"/>
                  </a:xfrm>
                  <a:prstGeom prst="ellipse">
                    <a:avLst/>
                  </a:prstGeom>
                  <a:noFill/>
                  <a:ln w="18000">
                    <a:solidFill>
                      <a:srgbClr val="ff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81"/>
                  <p:cNvSpPr/>
                  <p:nvPr/>
                </p:nvSpPr>
                <p:spPr>
                  <a:xfrm rot="4380000">
                    <a:off x="6193440" y="8589600"/>
                    <a:ext cx="29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1255">
                        <a:moveTo>
                          <a:pt x="58" y="1254"/>
                        </a:moveTo>
                        <a:cubicBezTo>
                          <a:pt x="5" y="1042"/>
                          <a:pt x="25" y="1096"/>
                          <a:pt x="25" y="1096"/>
                        </a:cubicBezTo>
                        <a:lnTo>
                          <a:pt x="0" y="844"/>
                        </a:lnTo>
                        <a:lnTo>
                          <a:pt x="0" y="731"/>
                        </a:lnTo>
                        <a:lnTo>
                          <a:pt x="25" y="580"/>
                        </a:lnTo>
                        <a:lnTo>
                          <a:pt x="50" y="466"/>
                        </a:lnTo>
                        <a:lnTo>
                          <a:pt x="126" y="315"/>
                        </a:lnTo>
                        <a:lnTo>
                          <a:pt x="201" y="164"/>
                        </a:lnTo>
                        <a:lnTo>
                          <a:pt x="277" y="63"/>
                        </a:lnTo>
                        <a:lnTo>
                          <a:pt x="340" y="0"/>
                        </a:lnTo>
                      </a:path>
                    </a:pathLst>
                  </a:custGeom>
                  <a:noFill/>
                  <a:ln w="180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82"/>
                  <p:cNvSpPr/>
                  <p:nvPr/>
                </p:nvSpPr>
                <p:spPr>
                  <a:xfrm rot="4380000">
                    <a:off x="6095520" y="8660520"/>
                    <a:ext cx="828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41">
                        <a:moveTo>
                          <a:pt x="0" y="0"/>
                        </a:moveTo>
                        <a:lnTo>
                          <a:pt x="26" y="63"/>
                        </a:lnTo>
                        <a:cubicBezTo>
                          <a:pt x="52" y="126"/>
                          <a:pt x="51" y="177"/>
                          <a:pt x="38" y="177"/>
                        </a:cubicBezTo>
                        <a:cubicBezTo>
                          <a:pt x="25" y="177"/>
                          <a:pt x="101" y="240"/>
                          <a:pt x="101" y="240"/>
                        </a:cubicBezTo>
                      </a:path>
                    </a:pathLst>
                  </a:custGeom>
                  <a:noFill/>
                  <a:ln w="18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83"/>
                  <p:cNvSpPr/>
                  <p:nvPr/>
                </p:nvSpPr>
                <p:spPr>
                  <a:xfrm rot="4380000">
                    <a:off x="6277320" y="8637480"/>
                    <a:ext cx="104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4">
                        <a:moveTo>
                          <a:pt x="0" y="133"/>
                        </a:moveTo>
                        <a:lnTo>
                          <a:pt x="55" y="67"/>
                        </a:lnTo>
                        <a:cubicBezTo>
                          <a:pt x="110" y="1"/>
                          <a:pt x="121" y="0"/>
                          <a:pt x="121" y="0"/>
                        </a:cubicBezTo>
                      </a:path>
                    </a:pathLst>
                  </a:custGeom>
                  <a:noFill/>
                  <a:ln w="1800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2" name="Group 84"/>
            <p:cNvGrpSpPr/>
            <p:nvPr/>
          </p:nvGrpSpPr>
          <p:grpSpPr>
            <a:xfrm>
              <a:off x="5661000" y="1301760"/>
              <a:ext cx="1348920" cy="1005840"/>
              <a:chOff x="5661000" y="1301760"/>
              <a:chExt cx="1348920" cy="1005840"/>
            </a:xfrm>
          </p:grpSpPr>
          <p:sp>
            <p:nvSpPr>
              <p:cNvPr id="143" name="Text Box 85"/>
              <p:cNvSpPr/>
              <p:nvPr/>
            </p:nvSpPr>
            <p:spPr>
              <a:xfrm>
                <a:off x="5931720" y="1630800"/>
                <a:ext cx="1078200" cy="30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gewünschtes Protei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AutoShape 86"/>
              <p:cNvSpPr/>
              <p:nvPr/>
            </p:nvSpPr>
            <p:spPr>
              <a:xfrm>
                <a:off x="5725800" y="1477800"/>
                <a:ext cx="172800" cy="791640"/>
              </a:xfrm>
              <a:custGeom>
                <a:avLst/>
                <a:gdLst/>
                <a:ahLst/>
                <a:rect l="l" t="t" r="r" b="b"/>
                <a:pathLst>
                  <a:path w="21600" h="98794">
                    <a:moveTo>
                      <a:pt x="152" y="0"/>
                    </a:moveTo>
                    <a:arcTo wR="152" hR="152" stAng="16200000" swAng="-5400000"/>
                    <a:lnTo>
                      <a:pt x="0" y="98642"/>
                    </a:lnTo>
                    <a:arcTo wR="152" hR="152" stAng="10800000" swAng="-5400000"/>
                    <a:lnTo>
                      <a:pt x="21448" y="98794"/>
                    </a:lnTo>
                    <a:arcTo wR="152" hR="152" stAng="5400000" swAng="-5400000"/>
                    <a:lnTo>
                      <a:pt x="21600" y="152"/>
                    </a:lnTo>
                    <a:arcTo wR="152" hR="152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87"/>
              <p:cNvSpPr/>
              <p:nvPr/>
            </p:nvSpPr>
            <p:spPr>
              <a:xfrm rot="21480000">
                <a:off x="5730480" y="2169360"/>
                <a:ext cx="168120" cy="13500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88"/>
              <p:cNvSpPr/>
              <p:nvPr/>
            </p:nvSpPr>
            <p:spPr>
              <a:xfrm rot="21480000">
                <a:off x="5745960" y="1544400"/>
                <a:ext cx="42480" cy="3312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89"/>
              <p:cNvSpPr/>
              <p:nvPr/>
            </p:nvSpPr>
            <p:spPr>
              <a:xfrm rot="21480000">
                <a:off x="5752440" y="1764000"/>
                <a:ext cx="4068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90"/>
              <p:cNvSpPr/>
              <p:nvPr/>
            </p:nvSpPr>
            <p:spPr>
              <a:xfrm rot="21480000">
                <a:off x="5754240" y="1832400"/>
                <a:ext cx="4248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91"/>
              <p:cNvSpPr/>
              <p:nvPr/>
            </p:nvSpPr>
            <p:spPr>
              <a:xfrm rot="21480000">
                <a:off x="5757120" y="1921320"/>
                <a:ext cx="4104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92"/>
              <p:cNvSpPr/>
              <p:nvPr/>
            </p:nvSpPr>
            <p:spPr>
              <a:xfrm rot="21480000">
                <a:off x="5817600" y="1840680"/>
                <a:ext cx="4068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93"/>
              <p:cNvSpPr/>
              <p:nvPr/>
            </p:nvSpPr>
            <p:spPr>
              <a:xfrm rot="21480000">
                <a:off x="5760360" y="2011680"/>
                <a:ext cx="41040" cy="334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94"/>
              <p:cNvSpPr/>
              <p:nvPr/>
            </p:nvSpPr>
            <p:spPr>
              <a:xfrm rot="21480000">
                <a:off x="5815800" y="1962360"/>
                <a:ext cx="41040" cy="3204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95"/>
              <p:cNvSpPr/>
              <p:nvPr/>
            </p:nvSpPr>
            <p:spPr>
              <a:xfrm rot="21480000">
                <a:off x="5784480" y="1662120"/>
                <a:ext cx="4248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6"/>
              <p:cNvSpPr/>
              <p:nvPr/>
            </p:nvSpPr>
            <p:spPr>
              <a:xfrm rot="21480000">
                <a:off x="5731920" y="1624320"/>
                <a:ext cx="4068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97"/>
              <p:cNvSpPr/>
              <p:nvPr/>
            </p:nvSpPr>
            <p:spPr>
              <a:xfrm rot="21480000">
                <a:off x="5812560" y="2105640"/>
                <a:ext cx="4104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98"/>
              <p:cNvSpPr/>
              <p:nvPr/>
            </p:nvSpPr>
            <p:spPr>
              <a:xfrm rot="21480000">
                <a:off x="5753880" y="2167560"/>
                <a:ext cx="41040" cy="334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99"/>
              <p:cNvSpPr/>
              <p:nvPr/>
            </p:nvSpPr>
            <p:spPr>
              <a:xfrm rot="21480000">
                <a:off x="5809680" y="2213640"/>
                <a:ext cx="42480" cy="334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100"/>
              <p:cNvSpPr/>
              <p:nvPr/>
            </p:nvSpPr>
            <p:spPr>
              <a:xfrm rot="21480000">
                <a:off x="5811480" y="1517400"/>
                <a:ext cx="42480" cy="316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101"/>
              <p:cNvSpPr/>
              <p:nvPr/>
            </p:nvSpPr>
            <p:spPr>
              <a:xfrm flipH="1">
                <a:off x="5805000" y="1748160"/>
                <a:ext cx="22032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Group 102"/>
              <p:cNvGrpSpPr/>
              <p:nvPr/>
            </p:nvGrpSpPr>
            <p:grpSpPr>
              <a:xfrm>
                <a:off x="5661000" y="1301760"/>
                <a:ext cx="297360" cy="1000440"/>
                <a:chOff x="5661000" y="1301760"/>
                <a:chExt cx="297360" cy="1000440"/>
              </a:xfrm>
            </p:grpSpPr>
            <p:sp>
              <p:nvSpPr>
                <p:cNvPr id="161" name="Line 103"/>
                <p:cNvSpPr/>
                <p:nvPr/>
              </p:nvSpPr>
              <p:spPr>
                <a:xfrm>
                  <a:off x="5728680" y="1334880"/>
                  <a:ext cx="1080" cy="900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4"/>
                <p:cNvSpPr/>
                <p:nvPr/>
              </p:nvSpPr>
              <p:spPr>
                <a:xfrm>
                  <a:off x="5893920" y="1334880"/>
                  <a:ext cx="1080" cy="900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AutoShape 105"/>
                <p:cNvSpPr/>
                <p:nvPr/>
              </p:nvSpPr>
              <p:spPr>
                <a:xfrm flipH="1" flipV="1">
                  <a:off x="5726880" y="2172600"/>
                  <a:ext cx="130320" cy="128160"/>
                </a:xfrm>
                <a:custGeom>
                  <a:avLst/>
                  <a:gdLst>
                    <a:gd name="textAreaLeft" fmla="*/ 64440 w 130320"/>
                    <a:gd name="textAreaRight" fmla="*/ 130680 w 130320"/>
                    <a:gd name="textAreaTop" fmla="*/ 0 h 128160"/>
                    <a:gd name="textAreaBottom" fmla="*/ 63360 h 1281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106"/>
                <p:cNvSpPr/>
                <p:nvPr/>
              </p:nvSpPr>
              <p:spPr>
                <a:xfrm flipV="1">
                  <a:off x="5694120" y="2171880"/>
                  <a:ext cx="196560" cy="129960"/>
                </a:xfrm>
                <a:custGeom>
                  <a:avLst/>
                  <a:gdLst>
                    <a:gd name="textAreaLeft" fmla="*/ 97560 w 196560"/>
                    <a:gd name="textAreaRight" fmla="*/ 196920 w 196560"/>
                    <a:gd name="textAreaTop" fmla="*/ 0 h 129960"/>
                    <a:gd name="textAreaBottom" fmla="*/ 65160 h 129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107"/>
                <p:cNvSpPr/>
                <p:nvPr/>
              </p:nvSpPr>
              <p:spPr>
                <a:xfrm flipH="1">
                  <a:off x="5892120" y="1301760"/>
                  <a:ext cx="66240" cy="66240"/>
                </a:xfrm>
                <a:custGeom>
                  <a:avLst/>
                  <a:gdLst>
                    <a:gd name="textAreaLeft" fmla="*/ 33480 w 66240"/>
                    <a:gd name="textAreaRight" fmla="*/ 66960 w 66240"/>
                    <a:gd name="textAreaTop" fmla="*/ 0 h 66240"/>
                    <a:gd name="textAreaBottom" fmla="*/ 33120 h 66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108"/>
                <p:cNvSpPr/>
                <p:nvPr/>
              </p:nvSpPr>
              <p:spPr>
                <a:xfrm>
                  <a:off x="5661000" y="1301760"/>
                  <a:ext cx="65880" cy="66240"/>
                </a:xfrm>
                <a:custGeom>
                  <a:avLst/>
                  <a:gdLst>
                    <a:gd name="textAreaLeft" fmla="*/ 33120 w 65880"/>
                    <a:gd name="textAreaRight" fmla="*/ 66240 w 65880"/>
                    <a:gd name="textAreaTop" fmla="*/ 0 h 66240"/>
                    <a:gd name="textAreaBottom" fmla="*/ 33120 h 66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Line 109"/>
                <p:cNvSpPr/>
                <p:nvPr/>
              </p:nvSpPr>
              <p:spPr>
                <a:xfrm>
                  <a:off x="5695560" y="1301760"/>
                  <a:ext cx="231120" cy="1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69920" y="200160"/>
            <a:ext cx="7164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Lösung: Die Methode der Gentechnik (Beispiel: Bakteri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365200" y="8050320"/>
            <a:ext cx="2905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98520" y="752400"/>
            <a:ext cx="6867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neide die Bilder aus und klebe sie in die logische Reihenfolge, so dass du ein gentechnisch hergestelltes Protein erhältst. Beschreibe dazu die einzelnen Schritte möglichst genau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3"/>
          <p:cNvSpPr/>
          <p:nvPr/>
        </p:nvSpPr>
        <p:spPr>
          <a:xfrm>
            <a:off x="2771640" y="1619280"/>
            <a:ext cx="2700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us dem Spenderorganismu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wird die DNA gewonnen.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4"/>
          <p:cNvSpPr/>
          <p:nvPr/>
        </p:nvSpPr>
        <p:spPr>
          <a:xfrm>
            <a:off x="2700360" y="2700360"/>
            <a:ext cx="377964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in Plasmidring und die Spender-D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werden mit den gleichen Restriktions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nzymen geschnitten und anschließe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kombiniert wieder verkleb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5"/>
          <p:cNvSpPr/>
          <p:nvPr/>
        </p:nvSpPr>
        <p:spPr>
          <a:xfrm>
            <a:off x="2700360" y="4319640"/>
            <a:ext cx="37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as gewünschte Gen ist jetz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in dem Plasmidr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6"/>
          <p:cNvSpPr/>
          <p:nvPr/>
        </p:nvSpPr>
        <p:spPr>
          <a:xfrm>
            <a:off x="2700360" y="5580000"/>
            <a:ext cx="3779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er rekombinierte Plasmidring wi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in eine Bakterienzelle eingeschleus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2700360" y="6840360"/>
            <a:ext cx="32400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ie neuen Bakterienzellen wer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vermehrt und produzieren d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gewünschte Eiweiß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88"/>
          <p:cNvSpPr/>
          <p:nvPr/>
        </p:nvSpPr>
        <p:spPr>
          <a:xfrm>
            <a:off x="2700360" y="8459640"/>
            <a:ext cx="3240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as Eiweiß wird von den Bakteri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bgetrennt und gereinig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20"/>
          <p:cNvGrpSpPr/>
          <p:nvPr/>
        </p:nvGrpSpPr>
        <p:grpSpPr>
          <a:xfrm>
            <a:off x="378000" y="1547640"/>
            <a:ext cx="1958400" cy="8037360"/>
            <a:chOff x="378000" y="1547640"/>
            <a:chExt cx="1958400" cy="8037360"/>
          </a:xfrm>
        </p:grpSpPr>
        <p:pic>
          <p:nvPicPr>
            <p:cNvPr id="178" name="Picture 121" descr=""/>
            <p:cNvPicPr/>
            <p:nvPr/>
          </p:nvPicPr>
          <p:blipFill>
            <a:blip r:embed="rId1"/>
            <a:stretch/>
          </p:blipFill>
          <p:spPr>
            <a:xfrm>
              <a:off x="378000" y="1547640"/>
              <a:ext cx="1956960" cy="67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22" descr=""/>
            <p:cNvPicPr/>
            <p:nvPr/>
          </p:nvPicPr>
          <p:blipFill>
            <a:blip r:embed="rId2"/>
            <a:stretch/>
          </p:blipFill>
          <p:spPr>
            <a:xfrm>
              <a:off x="379080" y="2883960"/>
              <a:ext cx="1957320" cy="67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23"/>
          <p:cNvGrpSpPr/>
          <p:nvPr/>
        </p:nvGrpSpPr>
        <p:grpSpPr>
          <a:xfrm>
            <a:off x="776160" y="4316400"/>
            <a:ext cx="990360" cy="950760"/>
            <a:chOff x="776160" y="4316400"/>
            <a:chExt cx="990360" cy="950760"/>
          </a:xfrm>
        </p:grpSpPr>
        <p:sp>
          <p:nvSpPr>
            <p:cNvPr id="181" name="Oval 124"/>
            <p:cNvSpPr/>
            <p:nvPr/>
          </p:nvSpPr>
          <p:spPr>
            <a:xfrm>
              <a:off x="777600" y="4316400"/>
              <a:ext cx="988920" cy="950760"/>
            </a:xfrm>
            <a:prstGeom prst="ellipse">
              <a:avLst/>
            </a:prstGeom>
            <a:noFill/>
            <a:ln w="72000">
              <a:solidFill>
                <a:srgbClr val="ff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25"/>
            <p:cNvSpPr/>
            <p:nvPr/>
          </p:nvSpPr>
          <p:spPr>
            <a:xfrm>
              <a:off x="776160" y="4484160"/>
              <a:ext cx="122040" cy="451440"/>
            </a:xfrm>
            <a:custGeom>
              <a:avLst/>
              <a:gdLst/>
              <a:ahLst/>
              <a:rect l="l" t="t" r="r" b="b"/>
              <a:pathLst>
                <a:path w="341" h="1255">
                  <a:moveTo>
                    <a:pt x="58" y="1254"/>
                  </a:moveTo>
                  <a:cubicBezTo>
                    <a:pt x="5" y="1042"/>
                    <a:pt x="25" y="1096"/>
                    <a:pt x="25" y="1096"/>
                  </a:cubicBezTo>
                  <a:lnTo>
                    <a:pt x="0" y="844"/>
                  </a:lnTo>
                  <a:lnTo>
                    <a:pt x="0" y="731"/>
                  </a:lnTo>
                  <a:lnTo>
                    <a:pt x="25" y="580"/>
                  </a:lnTo>
                  <a:lnTo>
                    <a:pt x="50" y="466"/>
                  </a:lnTo>
                  <a:lnTo>
                    <a:pt x="126" y="315"/>
                  </a:lnTo>
                  <a:lnTo>
                    <a:pt x="201" y="164"/>
                  </a:lnTo>
                  <a:lnTo>
                    <a:pt x="277" y="63"/>
                  </a:lnTo>
                  <a:lnTo>
                    <a:pt x="340" y="0"/>
                  </a:lnTo>
                </a:path>
              </a:pathLst>
            </a:custGeom>
            <a:noFill/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6"/>
            <p:cNvSpPr/>
            <p:nvPr/>
          </p:nvSpPr>
          <p:spPr>
            <a:xfrm>
              <a:off x="802800" y="4937400"/>
              <a:ext cx="36360" cy="86760"/>
            </a:xfrm>
            <a:custGeom>
              <a:avLst/>
              <a:gdLst/>
              <a:ahLst/>
              <a:rect l="l" t="t" r="r" b="b"/>
              <a:pathLst>
                <a:path w="102" h="241">
                  <a:moveTo>
                    <a:pt x="0" y="0"/>
                  </a:moveTo>
                  <a:lnTo>
                    <a:pt x="26" y="63"/>
                  </a:lnTo>
                  <a:cubicBezTo>
                    <a:pt x="52" y="126"/>
                    <a:pt x="51" y="177"/>
                    <a:pt x="38" y="177"/>
                  </a:cubicBezTo>
                  <a:cubicBezTo>
                    <a:pt x="25" y="177"/>
                    <a:pt x="101" y="240"/>
                    <a:pt x="101" y="240"/>
                  </a:cubicBezTo>
                </a:path>
              </a:pathLst>
            </a:custGeom>
            <a:noFill/>
            <a:ln w="72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7"/>
            <p:cNvSpPr/>
            <p:nvPr/>
          </p:nvSpPr>
          <p:spPr>
            <a:xfrm>
              <a:off x="893520" y="4435200"/>
              <a:ext cx="43920" cy="471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3"/>
                  </a:moveTo>
                  <a:lnTo>
                    <a:pt x="55" y="67"/>
                  </a:lnTo>
                  <a:cubicBezTo>
                    <a:pt x="110" y="1"/>
                    <a:pt x="121" y="0"/>
                    <a:pt x="121" y="0"/>
                  </a:cubicBezTo>
                </a:path>
              </a:pathLst>
            </a:custGeom>
            <a:noFill/>
            <a:ln w="72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28"/>
          <p:cNvGrpSpPr/>
          <p:nvPr/>
        </p:nvGrpSpPr>
        <p:grpSpPr>
          <a:xfrm>
            <a:off x="693720" y="1573200"/>
            <a:ext cx="1284480" cy="1244160"/>
            <a:chOff x="693720" y="1573200"/>
            <a:chExt cx="1284480" cy="1244160"/>
          </a:xfrm>
        </p:grpSpPr>
        <p:sp>
          <p:nvSpPr>
            <p:cNvPr id="186" name="Freeform 129"/>
            <p:cNvSpPr/>
            <p:nvPr/>
          </p:nvSpPr>
          <p:spPr>
            <a:xfrm>
              <a:off x="693720" y="1573200"/>
              <a:ext cx="1284480" cy="1027080"/>
            </a:xfrm>
            <a:custGeom>
              <a:avLst/>
              <a:gdLst/>
              <a:ahLst/>
              <a:rect l="l" t="t" r="r" b="b"/>
              <a:pathLst>
                <a:path w="3573" h="2859">
                  <a:moveTo>
                    <a:pt x="1464" y="194"/>
                  </a:moveTo>
                  <a:cubicBezTo>
                    <a:pt x="1351" y="179"/>
                    <a:pt x="1244" y="215"/>
                    <a:pt x="1132" y="223"/>
                  </a:cubicBezTo>
                  <a:cubicBezTo>
                    <a:pt x="1014" y="230"/>
                    <a:pt x="851" y="174"/>
                    <a:pt x="772" y="289"/>
                  </a:cubicBezTo>
                  <a:cubicBezTo>
                    <a:pt x="708" y="382"/>
                    <a:pt x="684" y="486"/>
                    <a:pt x="620" y="592"/>
                  </a:cubicBezTo>
                  <a:cubicBezTo>
                    <a:pt x="551" y="707"/>
                    <a:pt x="495" y="819"/>
                    <a:pt x="421" y="924"/>
                  </a:cubicBezTo>
                  <a:cubicBezTo>
                    <a:pt x="345" y="1032"/>
                    <a:pt x="230" y="1107"/>
                    <a:pt x="118" y="1180"/>
                  </a:cubicBezTo>
                  <a:cubicBezTo>
                    <a:pt x="0" y="1255"/>
                    <a:pt x="63" y="1383"/>
                    <a:pt x="71" y="1492"/>
                  </a:cubicBezTo>
                  <a:cubicBezTo>
                    <a:pt x="79" y="1603"/>
                    <a:pt x="164" y="1695"/>
                    <a:pt x="213" y="1795"/>
                  </a:cubicBezTo>
                  <a:cubicBezTo>
                    <a:pt x="260" y="1893"/>
                    <a:pt x="269" y="2000"/>
                    <a:pt x="317" y="2099"/>
                  </a:cubicBezTo>
                  <a:cubicBezTo>
                    <a:pt x="372" y="2211"/>
                    <a:pt x="386" y="2357"/>
                    <a:pt x="497" y="2430"/>
                  </a:cubicBezTo>
                  <a:cubicBezTo>
                    <a:pt x="598" y="2497"/>
                    <a:pt x="707" y="2549"/>
                    <a:pt x="819" y="2601"/>
                  </a:cubicBezTo>
                  <a:cubicBezTo>
                    <a:pt x="922" y="2648"/>
                    <a:pt x="1024" y="2685"/>
                    <a:pt x="1132" y="2705"/>
                  </a:cubicBezTo>
                  <a:cubicBezTo>
                    <a:pt x="1231" y="2723"/>
                    <a:pt x="1326" y="2754"/>
                    <a:pt x="1426" y="2771"/>
                  </a:cubicBezTo>
                  <a:cubicBezTo>
                    <a:pt x="1544" y="2792"/>
                    <a:pt x="1658" y="2814"/>
                    <a:pt x="1777" y="2818"/>
                  </a:cubicBezTo>
                  <a:cubicBezTo>
                    <a:pt x="1896" y="2823"/>
                    <a:pt x="2020" y="2798"/>
                    <a:pt x="2137" y="2828"/>
                  </a:cubicBezTo>
                  <a:cubicBezTo>
                    <a:pt x="2253" y="2858"/>
                    <a:pt x="2351" y="2776"/>
                    <a:pt x="2459" y="2762"/>
                  </a:cubicBezTo>
                  <a:cubicBezTo>
                    <a:pt x="2582" y="2745"/>
                    <a:pt x="2664" y="2652"/>
                    <a:pt x="2800" y="2667"/>
                  </a:cubicBezTo>
                  <a:cubicBezTo>
                    <a:pt x="2930" y="2681"/>
                    <a:pt x="3047" y="2608"/>
                    <a:pt x="3160" y="2553"/>
                  </a:cubicBezTo>
                  <a:cubicBezTo>
                    <a:pt x="3283" y="2494"/>
                    <a:pt x="3330" y="2350"/>
                    <a:pt x="3416" y="2250"/>
                  </a:cubicBezTo>
                  <a:cubicBezTo>
                    <a:pt x="3497" y="2158"/>
                    <a:pt x="3572" y="2034"/>
                    <a:pt x="3540" y="1918"/>
                  </a:cubicBezTo>
                  <a:cubicBezTo>
                    <a:pt x="3507" y="1803"/>
                    <a:pt x="3432" y="1704"/>
                    <a:pt x="3379" y="1596"/>
                  </a:cubicBezTo>
                  <a:cubicBezTo>
                    <a:pt x="3329" y="1496"/>
                    <a:pt x="3378" y="1384"/>
                    <a:pt x="3350" y="1284"/>
                  </a:cubicBezTo>
                  <a:cubicBezTo>
                    <a:pt x="3319" y="1175"/>
                    <a:pt x="3264" y="1070"/>
                    <a:pt x="3274" y="952"/>
                  </a:cubicBezTo>
                  <a:cubicBezTo>
                    <a:pt x="3284" y="835"/>
                    <a:pt x="3236" y="712"/>
                    <a:pt x="3151" y="630"/>
                  </a:cubicBezTo>
                  <a:cubicBezTo>
                    <a:pt x="3062" y="544"/>
                    <a:pt x="3031" y="418"/>
                    <a:pt x="2942" y="336"/>
                  </a:cubicBezTo>
                  <a:cubicBezTo>
                    <a:pt x="2834" y="237"/>
                    <a:pt x="2693" y="177"/>
                    <a:pt x="2582" y="80"/>
                  </a:cubicBezTo>
                  <a:cubicBezTo>
                    <a:pt x="2489" y="0"/>
                    <a:pt x="2388" y="35"/>
                    <a:pt x="2288" y="24"/>
                  </a:cubicBezTo>
                  <a:cubicBezTo>
                    <a:pt x="2185" y="13"/>
                    <a:pt x="2087" y="58"/>
                    <a:pt x="1985" y="71"/>
                  </a:cubicBezTo>
                  <a:cubicBezTo>
                    <a:pt x="1880" y="84"/>
                    <a:pt x="1788" y="129"/>
                    <a:pt x="1682" y="118"/>
                  </a:cubicBezTo>
                  <a:lnTo>
                    <a:pt x="1578" y="137"/>
                  </a:lnTo>
                  <a:lnTo>
                    <a:pt x="1483" y="147"/>
                  </a:lnTo>
                  <a:lnTo>
                    <a:pt x="1473" y="194"/>
                  </a:lnTo>
                  <a:lnTo>
                    <a:pt x="1464" y="194"/>
                  </a:ln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30"/>
            <p:cNvSpPr/>
            <p:nvPr/>
          </p:nvSpPr>
          <p:spPr>
            <a:xfrm>
              <a:off x="933120" y="1986840"/>
              <a:ext cx="370800" cy="354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31"/>
            <p:cNvSpPr/>
            <p:nvPr/>
          </p:nvSpPr>
          <p:spPr>
            <a:xfrm>
              <a:off x="958320" y="1993320"/>
              <a:ext cx="311040" cy="349920"/>
            </a:xfrm>
            <a:custGeom>
              <a:avLst/>
              <a:gdLst/>
              <a:ahLst/>
              <a:rect l="l" t="t" r="r" b="b"/>
              <a:pathLst>
                <a:path w="864" h="973">
                  <a:moveTo>
                    <a:pt x="365" y="135"/>
                  </a:moveTo>
                  <a:cubicBezTo>
                    <a:pt x="319" y="140"/>
                    <a:pt x="271" y="141"/>
                    <a:pt x="233" y="175"/>
                  </a:cubicBezTo>
                  <a:cubicBezTo>
                    <a:pt x="196" y="208"/>
                    <a:pt x="179" y="253"/>
                    <a:pt x="173" y="299"/>
                  </a:cubicBezTo>
                  <a:cubicBezTo>
                    <a:pt x="166" y="349"/>
                    <a:pt x="200" y="398"/>
                    <a:pt x="245" y="414"/>
                  </a:cubicBezTo>
                  <a:cubicBezTo>
                    <a:pt x="287" y="430"/>
                    <a:pt x="336" y="415"/>
                    <a:pt x="377" y="434"/>
                  </a:cubicBezTo>
                  <a:cubicBezTo>
                    <a:pt x="424" y="457"/>
                    <a:pt x="459" y="500"/>
                    <a:pt x="488" y="546"/>
                  </a:cubicBezTo>
                  <a:cubicBezTo>
                    <a:pt x="518" y="592"/>
                    <a:pt x="491" y="636"/>
                    <a:pt x="468" y="670"/>
                  </a:cubicBezTo>
                  <a:cubicBezTo>
                    <a:pt x="438" y="715"/>
                    <a:pt x="379" y="715"/>
                    <a:pt x="333" y="702"/>
                  </a:cubicBezTo>
                  <a:cubicBezTo>
                    <a:pt x="276" y="686"/>
                    <a:pt x="251" y="600"/>
                    <a:pt x="305" y="570"/>
                  </a:cubicBezTo>
                  <a:cubicBezTo>
                    <a:pt x="346" y="548"/>
                    <a:pt x="396" y="545"/>
                    <a:pt x="444" y="546"/>
                  </a:cubicBezTo>
                  <a:cubicBezTo>
                    <a:pt x="492" y="548"/>
                    <a:pt x="550" y="559"/>
                    <a:pt x="584" y="514"/>
                  </a:cubicBezTo>
                  <a:cubicBezTo>
                    <a:pt x="619" y="469"/>
                    <a:pt x="590" y="415"/>
                    <a:pt x="584" y="367"/>
                  </a:cubicBezTo>
                  <a:cubicBezTo>
                    <a:pt x="579" y="322"/>
                    <a:pt x="524" y="249"/>
                    <a:pt x="476" y="291"/>
                  </a:cubicBezTo>
                  <a:cubicBezTo>
                    <a:pt x="436" y="326"/>
                    <a:pt x="401" y="370"/>
                    <a:pt x="381" y="422"/>
                  </a:cubicBezTo>
                  <a:cubicBezTo>
                    <a:pt x="361" y="475"/>
                    <a:pt x="316" y="518"/>
                    <a:pt x="269" y="546"/>
                  </a:cubicBezTo>
                  <a:cubicBezTo>
                    <a:pt x="234" y="567"/>
                    <a:pt x="167" y="600"/>
                    <a:pt x="145" y="558"/>
                  </a:cubicBezTo>
                  <a:cubicBezTo>
                    <a:pt x="121" y="514"/>
                    <a:pt x="132" y="454"/>
                    <a:pt x="157" y="407"/>
                  </a:cubicBezTo>
                  <a:cubicBezTo>
                    <a:pt x="188" y="349"/>
                    <a:pt x="265" y="377"/>
                    <a:pt x="289" y="426"/>
                  </a:cubicBezTo>
                  <a:cubicBezTo>
                    <a:pt x="315" y="479"/>
                    <a:pt x="339" y="533"/>
                    <a:pt x="373" y="582"/>
                  </a:cubicBezTo>
                  <a:cubicBezTo>
                    <a:pt x="407" y="632"/>
                    <a:pt x="451" y="677"/>
                    <a:pt x="500" y="714"/>
                  </a:cubicBezTo>
                  <a:cubicBezTo>
                    <a:pt x="546" y="748"/>
                    <a:pt x="597" y="788"/>
                    <a:pt x="656" y="789"/>
                  </a:cubicBezTo>
                  <a:cubicBezTo>
                    <a:pt x="715" y="791"/>
                    <a:pt x="736" y="720"/>
                    <a:pt x="780" y="690"/>
                  </a:cubicBezTo>
                  <a:cubicBezTo>
                    <a:pt x="840" y="648"/>
                    <a:pt x="783" y="589"/>
                    <a:pt x="756" y="554"/>
                  </a:cubicBezTo>
                  <a:cubicBezTo>
                    <a:pt x="714" y="499"/>
                    <a:pt x="767" y="452"/>
                    <a:pt x="796" y="418"/>
                  </a:cubicBezTo>
                  <a:cubicBezTo>
                    <a:pt x="826" y="383"/>
                    <a:pt x="863" y="332"/>
                    <a:pt x="844" y="283"/>
                  </a:cubicBezTo>
                  <a:cubicBezTo>
                    <a:pt x="822" y="228"/>
                    <a:pt x="752" y="223"/>
                    <a:pt x="708" y="191"/>
                  </a:cubicBezTo>
                  <a:cubicBezTo>
                    <a:pt x="651" y="151"/>
                    <a:pt x="600" y="228"/>
                    <a:pt x="624" y="275"/>
                  </a:cubicBezTo>
                  <a:cubicBezTo>
                    <a:pt x="646" y="318"/>
                    <a:pt x="671" y="363"/>
                    <a:pt x="684" y="410"/>
                  </a:cubicBezTo>
                  <a:cubicBezTo>
                    <a:pt x="696" y="454"/>
                    <a:pt x="701" y="500"/>
                    <a:pt x="700" y="546"/>
                  </a:cubicBezTo>
                  <a:cubicBezTo>
                    <a:pt x="699" y="589"/>
                    <a:pt x="694" y="633"/>
                    <a:pt x="660" y="670"/>
                  </a:cubicBezTo>
                  <a:cubicBezTo>
                    <a:pt x="623" y="709"/>
                    <a:pt x="568" y="710"/>
                    <a:pt x="532" y="674"/>
                  </a:cubicBezTo>
                  <a:cubicBezTo>
                    <a:pt x="491" y="633"/>
                    <a:pt x="469" y="576"/>
                    <a:pt x="484" y="526"/>
                  </a:cubicBezTo>
                  <a:cubicBezTo>
                    <a:pt x="502" y="470"/>
                    <a:pt x="562" y="442"/>
                    <a:pt x="612" y="418"/>
                  </a:cubicBezTo>
                  <a:cubicBezTo>
                    <a:pt x="649" y="401"/>
                    <a:pt x="729" y="371"/>
                    <a:pt x="688" y="315"/>
                  </a:cubicBezTo>
                  <a:cubicBezTo>
                    <a:pt x="655" y="269"/>
                    <a:pt x="640" y="212"/>
                    <a:pt x="604" y="167"/>
                  </a:cubicBezTo>
                  <a:cubicBezTo>
                    <a:pt x="571" y="127"/>
                    <a:pt x="529" y="37"/>
                    <a:pt x="480" y="67"/>
                  </a:cubicBezTo>
                  <a:cubicBezTo>
                    <a:pt x="442" y="92"/>
                    <a:pt x="462" y="157"/>
                    <a:pt x="444" y="199"/>
                  </a:cubicBezTo>
                  <a:cubicBezTo>
                    <a:pt x="424" y="247"/>
                    <a:pt x="401" y="297"/>
                    <a:pt x="400" y="351"/>
                  </a:cubicBezTo>
                  <a:cubicBezTo>
                    <a:pt x="400" y="395"/>
                    <a:pt x="404" y="439"/>
                    <a:pt x="392" y="482"/>
                  </a:cubicBezTo>
                  <a:cubicBezTo>
                    <a:pt x="380" y="531"/>
                    <a:pt x="365" y="585"/>
                    <a:pt x="321" y="614"/>
                  </a:cubicBezTo>
                  <a:cubicBezTo>
                    <a:pt x="272" y="647"/>
                    <a:pt x="225" y="587"/>
                    <a:pt x="205" y="550"/>
                  </a:cubicBezTo>
                  <a:cubicBezTo>
                    <a:pt x="171" y="489"/>
                    <a:pt x="191" y="404"/>
                    <a:pt x="249" y="367"/>
                  </a:cubicBezTo>
                  <a:cubicBezTo>
                    <a:pt x="306" y="329"/>
                    <a:pt x="377" y="319"/>
                    <a:pt x="440" y="335"/>
                  </a:cubicBezTo>
                  <a:cubicBezTo>
                    <a:pt x="515" y="353"/>
                    <a:pt x="495" y="260"/>
                    <a:pt x="484" y="235"/>
                  </a:cubicBezTo>
                  <a:cubicBezTo>
                    <a:pt x="460" y="181"/>
                    <a:pt x="418" y="137"/>
                    <a:pt x="384" y="88"/>
                  </a:cubicBezTo>
                  <a:cubicBezTo>
                    <a:pt x="325" y="0"/>
                    <a:pt x="317" y="111"/>
                    <a:pt x="317" y="143"/>
                  </a:cubicBezTo>
                  <a:cubicBezTo>
                    <a:pt x="317" y="192"/>
                    <a:pt x="341" y="235"/>
                    <a:pt x="345" y="283"/>
                  </a:cubicBezTo>
                  <a:cubicBezTo>
                    <a:pt x="348" y="332"/>
                    <a:pt x="355" y="381"/>
                    <a:pt x="353" y="430"/>
                  </a:cubicBezTo>
                  <a:cubicBezTo>
                    <a:pt x="351" y="482"/>
                    <a:pt x="350" y="534"/>
                    <a:pt x="353" y="586"/>
                  </a:cubicBezTo>
                  <a:cubicBezTo>
                    <a:pt x="356" y="641"/>
                    <a:pt x="320" y="702"/>
                    <a:pt x="269" y="710"/>
                  </a:cubicBezTo>
                  <a:cubicBezTo>
                    <a:pt x="213" y="719"/>
                    <a:pt x="154" y="673"/>
                    <a:pt x="133" y="622"/>
                  </a:cubicBezTo>
                  <a:cubicBezTo>
                    <a:pt x="114" y="576"/>
                    <a:pt x="112" y="519"/>
                    <a:pt x="133" y="474"/>
                  </a:cubicBezTo>
                  <a:cubicBezTo>
                    <a:pt x="155" y="430"/>
                    <a:pt x="179" y="379"/>
                    <a:pt x="233" y="359"/>
                  </a:cubicBezTo>
                  <a:cubicBezTo>
                    <a:pt x="275" y="342"/>
                    <a:pt x="329" y="361"/>
                    <a:pt x="337" y="410"/>
                  </a:cubicBezTo>
                  <a:cubicBezTo>
                    <a:pt x="345" y="460"/>
                    <a:pt x="374" y="509"/>
                    <a:pt x="429" y="530"/>
                  </a:cubicBezTo>
                  <a:cubicBezTo>
                    <a:pt x="479" y="549"/>
                    <a:pt x="529" y="516"/>
                    <a:pt x="548" y="470"/>
                  </a:cubicBezTo>
                  <a:cubicBezTo>
                    <a:pt x="568" y="422"/>
                    <a:pt x="567" y="371"/>
                    <a:pt x="560" y="323"/>
                  </a:cubicBezTo>
                  <a:cubicBezTo>
                    <a:pt x="553" y="269"/>
                    <a:pt x="531" y="218"/>
                    <a:pt x="512" y="167"/>
                  </a:cubicBezTo>
                  <a:cubicBezTo>
                    <a:pt x="494" y="118"/>
                    <a:pt x="441" y="74"/>
                    <a:pt x="384" y="123"/>
                  </a:cubicBezTo>
                  <a:cubicBezTo>
                    <a:pt x="332" y="168"/>
                    <a:pt x="292" y="213"/>
                    <a:pt x="269" y="271"/>
                  </a:cubicBezTo>
                  <a:cubicBezTo>
                    <a:pt x="251" y="317"/>
                    <a:pt x="257" y="374"/>
                    <a:pt x="285" y="422"/>
                  </a:cubicBezTo>
                  <a:cubicBezTo>
                    <a:pt x="315" y="477"/>
                    <a:pt x="352" y="524"/>
                    <a:pt x="388" y="574"/>
                  </a:cubicBezTo>
                  <a:cubicBezTo>
                    <a:pt x="418" y="614"/>
                    <a:pt x="446" y="654"/>
                    <a:pt x="468" y="698"/>
                  </a:cubicBezTo>
                  <a:cubicBezTo>
                    <a:pt x="493" y="746"/>
                    <a:pt x="440" y="806"/>
                    <a:pt x="388" y="785"/>
                  </a:cubicBezTo>
                  <a:cubicBezTo>
                    <a:pt x="349" y="770"/>
                    <a:pt x="309" y="758"/>
                    <a:pt x="269" y="742"/>
                  </a:cubicBezTo>
                  <a:cubicBezTo>
                    <a:pt x="217" y="720"/>
                    <a:pt x="191" y="672"/>
                    <a:pt x="149" y="642"/>
                  </a:cubicBezTo>
                  <a:cubicBezTo>
                    <a:pt x="110" y="614"/>
                    <a:pt x="61" y="582"/>
                    <a:pt x="53" y="530"/>
                  </a:cubicBezTo>
                  <a:cubicBezTo>
                    <a:pt x="47" y="487"/>
                    <a:pt x="56" y="435"/>
                    <a:pt x="89" y="407"/>
                  </a:cubicBezTo>
                  <a:cubicBezTo>
                    <a:pt x="128" y="374"/>
                    <a:pt x="175" y="349"/>
                    <a:pt x="221" y="327"/>
                  </a:cubicBezTo>
                  <a:cubicBezTo>
                    <a:pt x="264" y="306"/>
                    <a:pt x="312" y="296"/>
                    <a:pt x="361" y="295"/>
                  </a:cubicBezTo>
                  <a:cubicBezTo>
                    <a:pt x="414" y="294"/>
                    <a:pt x="465" y="308"/>
                    <a:pt x="508" y="335"/>
                  </a:cubicBezTo>
                  <a:cubicBezTo>
                    <a:pt x="549" y="360"/>
                    <a:pt x="592" y="340"/>
                    <a:pt x="632" y="331"/>
                  </a:cubicBezTo>
                  <a:cubicBezTo>
                    <a:pt x="682" y="318"/>
                    <a:pt x="688" y="257"/>
                    <a:pt x="708" y="215"/>
                  </a:cubicBezTo>
                  <a:cubicBezTo>
                    <a:pt x="731" y="168"/>
                    <a:pt x="704" y="114"/>
                    <a:pt x="664" y="95"/>
                  </a:cubicBezTo>
                  <a:cubicBezTo>
                    <a:pt x="603" y="66"/>
                    <a:pt x="576" y="145"/>
                    <a:pt x="564" y="183"/>
                  </a:cubicBezTo>
                  <a:cubicBezTo>
                    <a:pt x="552" y="223"/>
                    <a:pt x="547" y="265"/>
                    <a:pt x="544" y="307"/>
                  </a:cubicBezTo>
                  <a:cubicBezTo>
                    <a:pt x="541" y="356"/>
                    <a:pt x="532" y="406"/>
                    <a:pt x="524" y="454"/>
                  </a:cubicBezTo>
                  <a:cubicBezTo>
                    <a:pt x="515" y="509"/>
                    <a:pt x="498" y="562"/>
                    <a:pt x="480" y="614"/>
                  </a:cubicBezTo>
                  <a:cubicBezTo>
                    <a:pt x="465" y="660"/>
                    <a:pt x="443" y="703"/>
                    <a:pt x="425" y="750"/>
                  </a:cubicBezTo>
                  <a:cubicBezTo>
                    <a:pt x="408" y="791"/>
                    <a:pt x="379" y="860"/>
                    <a:pt x="325" y="845"/>
                  </a:cubicBezTo>
                  <a:cubicBezTo>
                    <a:pt x="278" y="833"/>
                    <a:pt x="248" y="788"/>
                    <a:pt x="201" y="770"/>
                  </a:cubicBezTo>
                  <a:cubicBezTo>
                    <a:pt x="155" y="751"/>
                    <a:pt x="118" y="715"/>
                    <a:pt x="81" y="682"/>
                  </a:cubicBezTo>
                  <a:cubicBezTo>
                    <a:pt x="48" y="652"/>
                    <a:pt x="20" y="610"/>
                    <a:pt x="21" y="558"/>
                  </a:cubicBezTo>
                  <a:cubicBezTo>
                    <a:pt x="22" y="514"/>
                    <a:pt x="30" y="452"/>
                    <a:pt x="77" y="446"/>
                  </a:cubicBezTo>
                  <a:cubicBezTo>
                    <a:pt x="130" y="441"/>
                    <a:pt x="176" y="413"/>
                    <a:pt x="209" y="379"/>
                  </a:cubicBezTo>
                  <a:cubicBezTo>
                    <a:pt x="239" y="347"/>
                    <a:pt x="280" y="304"/>
                    <a:pt x="265" y="259"/>
                  </a:cubicBezTo>
                  <a:cubicBezTo>
                    <a:pt x="232" y="165"/>
                    <a:pt x="165" y="266"/>
                    <a:pt x="125" y="287"/>
                  </a:cubicBezTo>
                  <a:cubicBezTo>
                    <a:pt x="80" y="311"/>
                    <a:pt x="36" y="355"/>
                    <a:pt x="33" y="410"/>
                  </a:cubicBezTo>
                  <a:cubicBezTo>
                    <a:pt x="31" y="459"/>
                    <a:pt x="0" y="506"/>
                    <a:pt x="25" y="554"/>
                  </a:cubicBezTo>
                  <a:cubicBezTo>
                    <a:pt x="51" y="603"/>
                    <a:pt x="100" y="647"/>
                    <a:pt x="157" y="654"/>
                  </a:cubicBezTo>
                  <a:cubicBezTo>
                    <a:pt x="207" y="660"/>
                    <a:pt x="257" y="655"/>
                    <a:pt x="309" y="662"/>
                  </a:cubicBezTo>
                  <a:cubicBezTo>
                    <a:pt x="368" y="670"/>
                    <a:pt x="422" y="693"/>
                    <a:pt x="476" y="714"/>
                  </a:cubicBezTo>
                  <a:cubicBezTo>
                    <a:pt x="527" y="733"/>
                    <a:pt x="559" y="778"/>
                    <a:pt x="600" y="809"/>
                  </a:cubicBezTo>
                  <a:cubicBezTo>
                    <a:pt x="631" y="833"/>
                    <a:pt x="593" y="972"/>
                    <a:pt x="640" y="845"/>
                  </a:cubicBezTo>
                  <a:cubicBezTo>
                    <a:pt x="656" y="803"/>
                    <a:pt x="685" y="768"/>
                    <a:pt x="684" y="718"/>
                  </a:cubicBezTo>
                  <a:cubicBezTo>
                    <a:pt x="683" y="661"/>
                    <a:pt x="735" y="617"/>
                    <a:pt x="780" y="586"/>
                  </a:cubicBezTo>
                  <a:cubicBezTo>
                    <a:pt x="817" y="560"/>
                    <a:pt x="859" y="505"/>
                    <a:pt x="835" y="463"/>
                  </a:cubicBezTo>
                  <a:cubicBezTo>
                    <a:pt x="806" y="408"/>
                    <a:pt x="741" y="381"/>
                    <a:pt x="684" y="355"/>
                  </a:cubicBezTo>
                  <a:cubicBezTo>
                    <a:pt x="642" y="336"/>
                    <a:pt x="599" y="360"/>
                    <a:pt x="564" y="327"/>
                  </a:cubicBezTo>
                  <a:lnTo>
                    <a:pt x="524" y="307"/>
                  </a:lnTo>
                  <a:lnTo>
                    <a:pt x="480" y="279"/>
                  </a:lnTo>
                  <a:lnTo>
                    <a:pt x="464" y="271"/>
                  </a:lnTo>
                </a:path>
              </a:pathLst>
            </a:custGeom>
            <a:noFill/>
            <a:ln w="9360">
              <a:solidFill>
                <a:srgbClr val="23ff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977400" y="2227680"/>
              <a:ext cx="26640" cy="252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0" y="0"/>
                  </a:moveTo>
                  <a:lnTo>
                    <a:pt x="40" y="32"/>
                  </a:lnTo>
                  <a:lnTo>
                    <a:pt x="76" y="68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33"/>
            <p:cNvSpPr/>
            <p:nvPr/>
          </p:nvSpPr>
          <p:spPr>
            <a:xfrm>
              <a:off x="885600" y="2585880"/>
              <a:ext cx="464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34"/>
            <p:cNvSpPr/>
            <p:nvPr/>
          </p:nvSpPr>
          <p:spPr>
            <a:xfrm flipV="1">
              <a:off x="991800" y="2256120"/>
              <a:ext cx="7416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135"/>
          <p:cNvGrpSpPr/>
          <p:nvPr/>
        </p:nvGrpSpPr>
        <p:grpSpPr>
          <a:xfrm>
            <a:off x="662040" y="3154320"/>
            <a:ext cx="1382400" cy="887040"/>
            <a:chOff x="662040" y="3154320"/>
            <a:chExt cx="1382400" cy="887040"/>
          </a:xfrm>
        </p:grpSpPr>
        <p:sp>
          <p:nvSpPr>
            <p:cNvPr id="193" name="Oval 136"/>
            <p:cNvSpPr/>
            <p:nvPr/>
          </p:nvSpPr>
          <p:spPr>
            <a:xfrm>
              <a:off x="738000" y="3385440"/>
              <a:ext cx="418320" cy="402120"/>
            </a:xfrm>
            <a:prstGeom prst="ellipse">
              <a:avLst/>
            </a:prstGeom>
            <a:noFill/>
            <a:ln w="72000">
              <a:solidFill>
                <a:srgbClr val="ff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37"/>
            <p:cNvSpPr/>
            <p:nvPr/>
          </p:nvSpPr>
          <p:spPr>
            <a:xfrm>
              <a:off x="1370520" y="3214440"/>
              <a:ext cx="457920" cy="516240"/>
            </a:xfrm>
            <a:custGeom>
              <a:avLst/>
              <a:gdLst/>
              <a:ahLst/>
              <a:rect l="l" t="t" r="r" b="b"/>
              <a:pathLst>
                <a:path w="1273" h="1436">
                  <a:moveTo>
                    <a:pt x="538" y="200"/>
                  </a:moveTo>
                  <a:cubicBezTo>
                    <a:pt x="470" y="207"/>
                    <a:pt x="399" y="208"/>
                    <a:pt x="343" y="259"/>
                  </a:cubicBezTo>
                  <a:cubicBezTo>
                    <a:pt x="289" y="307"/>
                    <a:pt x="263" y="374"/>
                    <a:pt x="255" y="441"/>
                  </a:cubicBezTo>
                  <a:cubicBezTo>
                    <a:pt x="245" y="514"/>
                    <a:pt x="295" y="587"/>
                    <a:pt x="361" y="611"/>
                  </a:cubicBezTo>
                  <a:cubicBezTo>
                    <a:pt x="422" y="634"/>
                    <a:pt x="496" y="612"/>
                    <a:pt x="555" y="641"/>
                  </a:cubicBezTo>
                  <a:cubicBezTo>
                    <a:pt x="625" y="674"/>
                    <a:pt x="677" y="738"/>
                    <a:pt x="720" y="806"/>
                  </a:cubicBezTo>
                  <a:cubicBezTo>
                    <a:pt x="763" y="873"/>
                    <a:pt x="724" y="939"/>
                    <a:pt x="691" y="988"/>
                  </a:cubicBezTo>
                  <a:cubicBezTo>
                    <a:pt x="646" y="1054"/>
                    <a:pt x="559" y="1054"/>
                    <a:pt x="490" y="1035"/>
                  </a:cubicBezTo>
                  <a:cubicBezTo>
                    <a:pt x="406" y="1012"/>
                    <a:pt x="370" y="885"/>
                    <a:pt x="449" y="841"/>
                  </a:cubicBezTo>
                  <a:cubicBezTo>
                    <a:pt x="510" y="808"/>
                    <a:pt x="584" y="804"/>
                    <a:pt x="655" y="806"/>
                  </a:cubicBezTo>
                  <a:cubicBezTo>
                    <a:pt x="725" y="808"/>
                    <a:pt x="811" y="825"/>
                    <a:pt x="861" y="759"/>
                  </a:cubicBezTo>
                  <a:cubicBezTo>
                    <a:pt x="913" y="693"/>
                    <a:pt x="870" y="612"/>
                    <a:pt x="861" y="541"/>
                  </a:cubicBezTo>
                  <a:cubicBezTo>
                    <a:pt x="854" y="475"/>
                    <a:pt x="773" y="368"/>
                    <a:pt x="702" y="429"/>
                  </a:cubicBezTo>
                  <a:cubicBezTo>
                    <a:pt x="643" y="481"/>
                    <a:pt x="591" y="546"/>
                    <a:pt x="561" y="623"/>
                  </a:cubicBezTo>
                  <a:cubicBezTo>
                    <a:pt x="532" y="701"/>
                    <a:pt x="466" y="764"/>
                    <a:pt x="396" y="806"/>
                  </a:cubicBezTo>
                  <a:cubicBezTo>
                    <a:pt x="345" y="837"/>
                    <a:pt x="247" y="885"/>
                    <a:pt x="214" y="824"/>
                  </a:cubicBezTo>
                  <a:cubicBezTo>
                    <a:pt x="178" y="759"/>
                    <a:pt x="194" y="671"/>
                    <a:pt x="231" y="600"/>
                  </a:cubicBezTo>
                  <a:cubicBezTo>
                    <a:pt x="276" y="515"/>
                    <a:pt x="390" y="557"/>
                    <a:pt x="425" y="629"/>
                  </a:cubicBezTo>
                  <a:cubicBezTo>
                    <a:pt x="464" y="707"/>
                    <a:pt x="500" y="787"/>
                    <a:pt x="549" y="859"/>
                  </a:cubicBezTo>
                  <a:cubicBezTo>
                    <a:pt x="600" y="933"/>
                    <a:pt x="665" y="999"/>
                    <a:pt x="738" y="1053"/>
                  </a:cubicBezTo>
                  <a:cubicBezTo>
                    <a:pt x="806" y="1104"/>
                    <a:pt x="881" y="1162"/>
                    <a:pt x="967" y="1165"/>
                  </a:cubicBezTo>
                  <a:cubicBezTo>
                    <a:pt x="1054" y="1167"/>
                    <a:pt x="1086" y="1062"/>
                    <a:pt x="1150" y="1018"/>
                  </a:cubicBezTo>
                  <a:cubicBezTo>
                    <a:pt x="1239" y="956"/>
                    <a:pt x="1154" y="870"/>
                    <a:pt x="1115" y="818"/>
                  </a:cubicBezTo>
                  <a:cubicBezTo>
                    <a:pt x="1053" y="737"/>
                    <a:pt x="1131" y="667"/>
                    <a:pt x="1174" y="617"/>
                  </a:cubicBezTo>
                  <a:cubicBezTo>
                    <a:pt x="1218" y="565"/>
                    <a:pt x="1272" y="489"/>
                    <a:pt x="1244" y="417"/>
                  </a:cubicBezTo>
                  <a:cubicBezTo>
                    <a:pt x="1212" y="336"/>
                    <a:pt x="1109" y="329"/>
                    <a:pt x="1044" y="282"/>
                  </a:cubicBezTo>
                  <a:cubicBezTo>
                    <a:pt x="960" y="223"/>
                    <a:pt x="885" y="336"/>
                    <a:pt x="920" y="406"/>
                  </a:cubicBezTo>
                  <a:cubicBezTo>
                    <a:pt x="953" y="470"/>
                    <a:pt x="989" y="535"/>
                    <a:pt x="1009" y="606"/>
                  </a:cubicBezTo>
                  <a:cubicBezTo>
                    <a:pt x="1026" y="670"/>
                    <a:pt x="1034" y="738"/>
                    <a:pt x="1032" y="806"/>
                  </a:cubicBezTo>
                  <a:cubicBezTo>
                    <a:pt x="1030" y="870"/>
                    <a:pt x="1024" y="934"/>
                    <a:pt x="973" y="988"/>
                  </a:cubicBezTo>
                  <a:cubicBezTo>
                    <a:pt x="919" y="1046"/>
                    <a:pt x="837" y="1047"/>
                    <a:pt x="785" y="994"/>
                  </a:cubicBezTo>
                  <a:cubicBezTo>
                    <a:pt x="724" y="934"/>
                    <a:pt x="691" y="849"/>
                    <a:pt x="714" y="776"/>
                  </a:cubicBezTo>
                  <a:cubicBezTo>
                    <a:pt x="740" y="694"/>
                    <a:pt x="828" y="652"/>
                    <a:pt x="902" y="617"/>
                  </a:cubicBezTo>
                  <a:cubicBezTo>
                    <a:pt x="957" y="591"/>
                    <a:pt x="1075" y="548"/>
                    <a:pt x="1015" y="464"/>
                  </a:cubicBezTo>
                  <a:cubicBezTo>
                    <a:pt x="966" y="397"/>
                    <a:pt x="944" y="312"/>
                    <a:pt x="891" y="247"/>
                  </a:cubicBezTo>
                  <a:cubicBezTo>
                    <a:pt x="842" y="188"/>
                    <a:pt x="780" y="55"/>
                    <a:pt x="708" y="100"/>
                  </a:cubicBezTo>
                  <a:cubicBezTo>
                    <a:pt x="652" y="135"/>
                    <a:pt x="681" y="232"/>
                    <a:pt x="655" y="294"/>
                  </a:cubicBezTo>
                  <a:cubicBezTo>
                    <a:pt x="625" y="365"/>
                    <a:pt x="592" y="438"/>
                    <a:pt x="590" y="518"/>
                  </a:cubicBezTo>
                  <a:cubicBezTo>
                    <a:pt x="590" y="582"/>
                    <a:pt x="595" y="647"/>
                    <a:pt x="579" y="712"/>
                  </a:cubicBezTo>
                  <a:cubicBezTo>
                    <a:pt x="560" y="783"/>
                    <a:pt x="538" y="863"/>
                    <a:pt x="473" y="906"/>
                  </a:cubicBezTo>
                  <a:cubicBezTo>
                    <a:pt x="400" y="955"/>
                    <a:pt x="332" y="866"/>
                    <a:pt x="302" y="812"/>
                  </a:cubicBezTo>
                  <a:cubicBezTo>
                    <a:pt x="252" y="722"/>
                    <a:pt x="282" y="597"/>
                    <a:pt x="367" y="541"/>
                  </a:cubicBezTo>
                  <a:cubicBezTo>
                    <a:pt x="451" y="486"/>
                    <a:pt x="556" y="471"/>
                    <a:pt x="649" y="494"/>
                  </a:cubicBezTo>
                  <a:cubicBezTo>
                    <a:pt x="759" y="521"/>
                    <a:pt x="730" y="383"/>
                    <a:pt x="714" y="347"/>
                  </a:cubicBezTo>
                  <a:cubicBezTo>
                    <a:pt x="679" y="267"/>
                    <a:pt x="616" y="202"/>
                    <a:pt x="567" y="129"/>
                  </a:cubicBezTo>
                  <a:cubicBezTo>
                    <a:pt x="479" y="0"/>
                    <a:pt x="467" y="164"/>
                    <a:pt x="467" y="211"/>
                  </a:cubicBezTo>
                  <a:cubicBezTo>
                    <a:pt x="466" y="283"/>
                    <a:pt x="502" y="347"/>
                    <a:pt x="508" y="417"/>
                  </a:cubicBezTo>
                  <a:cubicBezTo>
                    <a:pt x="513" y="489"/>
                    <a:pt x="523" y="562"/>
                    <a:pt x="520" y="635"/>
                  </a:cubicBezTo>
                  <a:cubicBezTo>
                    <a:pt x="517" y="711"/>
                    <a:pt x="516" y="788"/>
                    <a:pt x="520" y="865"/>
                  </a:cubicBezTo>
                  <a:cubicBezTo>
                    <a:pt x="524" y="945"/>
                    <a:pt x="472" y="1035"/>
                    <a:pt x="396" y="1047"/>
                  </a:cubicBezTo>
                  <a:cubicBezTo>
                    <a:pt x="313" y="1060"/>
                    <a:pt x="227" y="993"/>
                    <a:pt x="196" y="918"/>
                  </a:cubicBezTo>
                  <a:cubicBezTo>
                    <a:pt x="167" y="850"/>
                    <a:pt x="164" y="765"/>
                    <a:pt x="196" y="700"/>
                  </a:cubicBezTo>
                  <a:cubicBezTo>
                    <a:pt x="228" y="634"/>
                    <a:pt x="264" y="560"/>
                    <a:pt x="343" y="529"/>
                  </a:cubicBezTo>
                  <a:cubicBezTo>
                    <a:pt x="406" y="505"/>
                    <a:pt x="484" y="533"/>
                    <a:pt x="496" y="606"/>
                  </a:cubicBezTo>
                  <a:cubicBezTo>
                    <a:pt x="508" y="679"/>
                    <a:pt x="551" y="751"/>
                    <a:pt x="632" y="782"/>
                  </a:cubicBezTo>
                  <a:cubicBezTo>
                    <a:pt x="707" y="811"/>
                    <a:pt x="781" y="762"/>
                    <a:pt x="808" y="694"/>
                  </a:cubicBezTo>
                  <a:cubicBezTo>
                    <a:pt x="837" y="622"/>
                    <a:pt x="836" y="548"/>
                    <a:pt x="826" y="476"/>
                  </a:cubicBezTo>
                  <a:cubicBezTo>
                    <a:pt x="815" y="397"/>
                    <a:pt x="783" y="322"/>
                    <a:pt x="755" y="247"/>
                  </a:cubicBezTo>
                  <a:cubicBezTo>
                    <a:pt x="729" y="174"/>
                    <a:pt x="651" y="109"/>
                    <a:pt x="567" y="182"/>
                  </a:cubicBezTo>
                  <a:cubicBezTo>
                    <a:pt x="490" y="248"/>
                    <a:pt x="430" y="314"/>
                    <a:pt x="396" y="400"/>
                  </a:cubicBezTo>
                  <a:cubicBezTo>
                    <a:pt x="370" y="468"/>
                    <a:pt x="379" y="552"/>
                    <a:pt x="420" y="623"/>
                  </a:cubicBezTo>
                  <a:cubicBezTo>
                    <a:pt x="465" y="703"/>
                    <a:pt x="518" y="773"/>
                    <a:pt x="573" y="847"/>
                  </a:cubicBezTo>
                  <a:cubicBezTo>
                    <a:pt x="616" y="906"/>
                    <a:pt x="657" y="965"/>
                    <a:pt x="691" y="1029"/>
                  </a:cubicBezTo>
                  <a:cubicBezTo>
                    <a:pt x="727" y="1100"/>
                    <a:pt x="649" y="1189"/>
                    <a:pt x="573" y="1159"/>
                  </a:cubicBezTo>
                  <a:cubicBezTo>
                    <a:pt x="515" y="1136"/>
                    <a:pt x="455" y="1119"/>
                    <a:pt x="396" y="1094"/>
                  </a:cubicBezTo>
                  <a:cubicBezTo>
                    <a:pt x="320" y="1062"/>
                    <a:pt x="282" y="991"/>
                    <a:pt x="219" y="947"/>
                  </a:cubicBezTo>
                  <a:cubicBezTo>
                    <a:pt x="161" y="906"/>
                    <a:pt x="90" y="858"/>
                    <a:pt x="78" y="782"/>
                  </a:cubicBezTo>
                  <a:cubicBezTo>
                    <a:pt x="69" y="718"/>
                    <a:pt x="82" y="642"/>
                    <a:pt x="131" y="600"/>
                  </a:cubicBezTo>
                  <a:cubicBezTo>
                    <a:pt x="189" y="551"/>
                    <a:pt x="257" y="515"/>
                    <a:pt x="326" y="482"/>
                  </a:cubicBezTo>
                  <a:cubicBezTo>
                    <a:pt x="389" y="452"/>
                    <a:pt x="459" y="437"/>
                    <a:pt x="532" y="435"/>
                  </a:cubicBezTo>
                  <a:cubicBezTo>
                    <a:pt x="610" y="434"/>
                    <a:pt x="686" y="455"/>
                    <a:pt x="749" y="494"/>
                  </a:cubicBezTo>
                  <a:cubicBezTo>
                    <a:pt x="810" y="531"/>
                    <a:pt x="873" y="502"/>
                    <a:pt x="932" y="488"/>
                  </a:cubicBezTo>
                  <a:cubicBezTo>
                    <a:pt x="1006" y="470"/>
                    <a:pt x="1014" y="379"/>
                    <a:pt x="1044" y="317"/>
                  </a:cubicBezTo>
                  <a:cubicBezTo>
                    <a:pt x="1078" y="248"/>
                    <a:pt x="1038" y="169"/>
                    <a:pt x="979" y="141"/>
                  </a:cubicBezTo>
                  <a:cubicBezTo>
                    <a:pt x="889" y="98"/>
                    <a:pt x="849" y="214"/>
                    <a:pt x="832" y="270"/>
                  </a:cubicBezTo>
                  <a:cubicBezTo>
                    <a:pt x="814" y="329"/>
                    <a:pt x="806" y="391"/>
                    <a:pt x="802" y="453"/>
                  </a:cubicBezTo>
                  <a:cubicBezTo>
                    <a:pt x="798" y="526"/>
                    <a:pt x="785" y="598"/>
                    <a:pt x="773" y="671"/>
                  </a:cubicBezTo>
                  <a:cubicBezTo>
                    <a:pt x="760" y="751"/>
                    <a:pt x="735" y="829"/>
                    <a:pt x="708" y="906"/>
                  </a:cubicBezTo>
                  <a:cubicBezTo>
                    <a:pt x="685" y="975"/>
                    <a:pt x="653" y="1038"/>
                    <a:pt x="626" y="1106"/>
                  </a:cubicBezTo>
                  <a:cubicBezTo>
                    <a:pt x="602" y="1167"/>
                    <a:pt x="558" y="1269"/>
                    <a:pt x="479" y="1247"/>
                  </a:cubicBezTo>
                  <a:cubicBezTo>
                    <a:pt x="410" y="1229"/>
                    <a:pt x="365" y="1163"/>
                    <a:pt x="296" y="1136"/>
                  </a:cubicBezTo>
                  <a:cubicBezTo>
                    <a:pt x="228" y="1109"/>
                    <a:pt x="173" y="1055"/>
                    <a:pt x="119" y="1006"/>
                  </a:cubicBezTo>
                  <a:cubicBezTo>
                    <a:pt x="70" y="961"/>
                    <a:pt x="30" y="900"/>
                    <a:pt x="31" y="824"/>
                  </a:cubicBezTo>
                  <a:cubicBezTo>
                    <a:pt x="32" y="758"/>
                    <a:pt x="44" y="666"/>
                    <a:pt x="113" y="659"/>
                  </a:cubicBezTo>
                  <a:cubicBezTo>
                    <a:pt x="191" y="650"/>
                    <a:pt x="259" y="609"/>
                    <a:pt x="308" y="559"/>
                  </a:cubicBezTo>
                  <a:cubicBezTo>
                    <a:pt x="352" y="513"/>
                    <a:pt x="413" y="448"/>
                    <a:pt x="390" y="382"/>
                  </a:cubicBezTo>
                  <a:cubicBezTo>
                    <a:pt x="342" y="243"/>
                    <a:pt x="242" y="393"/>
                    <a:pt x="184" y="423"/>
                  </a:cubicBezTo>
                  <a:cubicBezTo>
                    <a:pt x="118" y="458"/>
                    <a:pt x="52" y="524"/>
                    <a:pt x="49" y="606"/>
                  </a:cubicBezTo>
                  <a:cubicBezTo>
                    <a:pt x="45" y="677"/>
                    <a:pt x="0" y="747"/>
                    <a:pt x="37" y="818"/>
                  </a:cubicBezTo>
                  <a:cubicBezTo>
                    <a:pt x="75" y="890"/>
                    <a:pt x="146" y="955"/>
                    <a:pt x="231" y="965"/>
                  </a:cubicBezTo>
                  <a:cubicBezTo>
                    <a:pt x="305" y="973"/>
                    <a:pt x="379" y="966"/>
                    <a:pt x="455" y="977"/>
                  </a:cubicBezTo>
                  <a:cubicBezTo>
                    <a:pt x="542" y="988"/>
                    <a:pt x="622" y="1023"/>
                    <a:pt x="702" y="1053"/>
                  </a:cubicBezTo>
                  <a:cubicBezTo>
                    <a:pt x="777" y="1081"/>
                    <a:pt x="824" y="1148"/>
                    <a:pt x="885" y="1194"/>
                  </a:cubicBezTo>
                  <a:cubicBezTo>
                    <a:pt x="930" y="1229"/>
                    <a:pt x="875" y="1435"/>
                    <a:pt x="944" y="1247"/>
                  </a:cubicBezTo>
                  <a:cubicBezTo>
                    <a:pt x="967" y="1185"/>
                    <a:pt x="1010" y="1133"/>
                    <a:pt x="1009" y="1059"/>
                  </a:cubicBezTo>
                  <a:cubicBezTo>
                    <a:pt x="1007" y="975"/>
                    <a:pt x="1083" y="911"/>
                    <a:pt x="1150" y="865"/>
                  </a:cubicBezTo>
                  <a:cubicBezTo>
                    <a:pt x="1205" y="826"/>
                    <a:pt x="1267" y="745"/>
                    <a:pt x="1232" y="682"/>
                  </a:cubicBezTo>
                  <a:cubicBezTo>
                    <a:pt x="1188" y="603"/>
                    <a:pt x="1093" y="562"/>
                    <a:pt x="1009" y="524"/>
                  </a:cubicBezTo>
                  <a:cubicBezTo>
                    <a:pt x="946" y="495"/>
                    <a:pt x="884" y="531"/>
                    <a:pt x="832" y="482"/>
                  </a:cubicBezTo>
                  <a:lnTo>
                    <a:pt x="773" y="453"/>
                  </a:lnTo>
                  <a:lnTo>
                    <a:pt x="708" y="412"/>
                  </a:lnTo>
                  <a:lnTo>
                    <a:pt x="685" y="400"/>
                  </a:lnTo>
                </a:path>
              </a:pathLst>
            </a:custGeom>
            <a:noFill/>
            <a:ln w="9360">
              <a:solidFill>
                <a:srgbClr val="23ff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38"/>
            <p:cNvSpPr/>
            <p:nvPr/>
          </p:nvSpPr>
          <p:spPr>
            <a:xfrm>
              <a:off x="1398960" y="3561120"/>
              <a:ext cx="41040" cy="36360"/>
            </a:xfrm>
            <a:custGeom>
              <a:avLst/>
              <a:gdLst/>
              <a:ahLst/>
              <a:rect l="l" t="t" r="r" b="b"/>
              <a:pathLst>
                <a:path w="113" h="101">
                  <a:moveTo>
                    <a:pt x="0" y="0"/>
                  </a:moveTo>
                  <a:lnTo>
                    <a:pt x="59" y="47"/>
                  </a:lnTo>
                  <a:lnTo>
                    <a:pt x="112" y="100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39"/>
            <p:cNvSpPr/>
            <p:nvPr/>
          </p:nvSpPr>
          <p:spPr>
            <a:xfrm>
              <a:off x="1092960" y="3672360"/>
              <a:ext cx="9514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ewünschtes G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40"/>
            <p:cNvSpPr/>
            <p:nvPr/>
          </p:nvSpPr>
          <p:spPr>
            <a:xfrm flipV="1">
              <a:off x="1370520" y="3571920"/>
              <a:ext cx="4572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141"/>
            <p:cNvSpPr/>
            <p:nvPr/>
          </p:nvSpPr>
          <p:spPr>
            <a:xfrm>
              <a:off x="662040" y="3154320"/>
              <a:ext cx="1322640" cy="858600"/>
            </a:xfrm>
            <a:prstGeom prst="roundRect">
              <a:avLst>
                <a:gd name="adj" fmla="val 1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142"/>
          <p:cNvGrpSpPr/>
          <p:nvPr/>
        </p:nvGrpSpPr>
        <p:grpSpPr>
          <a:xfrm>
            <a:off x="524520" y="5293440"/>
            <a:ext cx="1707840" cy="1629000"/>
            <a:chOff x="524520" y="5293440"/>
            <a:chExt cx="1707840" cy="1629000"/>
          </a:xfrm>
        </p:grpSpPr>
        <p:sp>
          <p:nvSpPr>
            <p:cNvPr id="200" name="AutoShape 143"/>
            <p:cNvSpPr/>
            <p:nvPr/>
          </p:nvSpPr>
          <p:spPr>
            <a:xfrm rot="2340000">
              <a:off x="652320" y="5647680"/>
              <a:ext cx="1452240" cy="920160"/>
            </a:xfrm>
            <a:prstGeom prst="roundRect">
              <a:avLst>
                <a:gd name="adj" fmla="val 4975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44"/>
            <p:cNvSpPr/>
            <p:nvPr/>
          </p:nvSpPr>
          <p:spPr>
            <a:xfrm>
              <a:off x="1291320" y="5892120"/>
              <a:ext cx="646920" cy="936720"/>
            </a:xfrm>
            <a:custGeom>
              <a:avLst/>
              <a:gdLst/>
              <a:ahLst/>
              <a:rect l="l" t="t" r="r" b="b"/>
              <a:pathLst>
                <a:path w="1716" h="1694">
                  <a:moveTo>
                    <a:pt x="973" y="765"/>
                  </a:moveTo>
                  <a:cubicBezTo>
                    <a:pt x="1083" y="695"/>
                    <a:pt x="1191" y="781"/>
                    <a:pt x="1229" y="868"/>
                  </a:cubicBezTo>
                  <a:cubicBezTo>
                    <a:pt x="1271" y="962"/>
                    <a:pt x="1181" y="1084"/>
                    <a:pt x="1079" y="1106"/>
                  </a:cubicBezTo>
                  <a:cubicBezTo>
                    <a:pt x="967" y="1130"/>
                    <a:pt x="853" y="1128"/>
                    <a:pt x="740" y="1133"/>
                  </a:cubicBezTo>
                  <a:cubicBezTo>
                    <a:pt x="598" y="1140"/>
                    <a:pt x="681" y="1332"/>
                    <a:pt x="740" y="1370"/>
                  </a:cubicBezTo>
                  <a:cubicBezTo>
                    <a:pt x="820" y="1421"/>
                    <a:pt x="928" y="1465"/>
                    <a:pt x="1029" y="1406"/>
                  </a:cubicBezTo>
                  <a:cubicBezTo>
                    <a:pt x="1135" y="1344"/>
                    <a:pt x="1050" y="1217"/>
                    <a:pt x="1020" y="1142"/>
                  </a:cubicBezTo>
                  <a:cubicBezTo>
                    <a:pt x="981" y="1044"/>
                    <a:pt x="858" y="1050"/>
                    <a:pt x="808" y="973"/>
                  </a:cubicBezTo>
                  <a:cubicBezTo>
                    <a:pt x="756" y="892"/>
                    <a:pt x="741" y="795"/>
                    <a:pt x="720" y="697"/>
                  </a:cubicBezTo>
                  <a:cubicBezTo>
                    <a:pt x="698" y="594"/>
                    <a:pt x="762" y="452"/>
                    <a:pt x="875" y="491"/>
                  </a:cubicBezTo>
                  <a:cubicBezTo>
                    <a:pt x="932" y="511"/>
                    <a:pt x="1077" y="624"/>
                    <a:pt x="954" y="678"/>
                  </a:cubicBezTo>
                  <a:cubicBezTo>
                    <a:pt x="848" y="724"/>
                    <a:pt x="732" y="734"/>
                    <a:pt x="620" y="760"/>
                  </a:cubicBezTo>
                  <a:cubicBezTo>
                    <a:pt x="474" y="795"/>
                    <a:pt x="564" y="938"/>
                    <a:pt x="640" y="972"/>
                  </a:cubicBezTo>
                  <a:cubicBezTo>
                    <a:pt x="742" y="1017"/>
                    <a:pt x="826" y="938"/>
                    <a:pt x="907" y="897"/>
                  </a:cubicBezTo>
                  <a:cubicBezTo>
                    <a:pt x="1000" y="850"/>
                    <a:pt x="1123" y="906"/>
                    <a:pt x="1148" y="1008"/>
                  </a:cubicBezTo>
                  <a:cubicBezTo>
                    <a:pt x="1172" y="1110"/>
                    <a:pt x="1181" y="1222"/>
                    <a:pt x="1244" y="1310"/>
                  </a:cubicBezTo>
                  <a:cubicBezTo>
                    <a:pt x="1301" y="1390"/>
                    <a:pt x="1423" y="1409"/>
                    <a:pt x="1511" y="1360"/>
                  </a:cubicBezTo>
                  <a:cubicBezTo>
                    <a:pt x="1594" y="1314"/>
                    <a:pt x="1675" y="1202"/>
                    <a:pt x="1630" y="1125"/>
                  </a:cubicBezTo>
                  <a:cubicBezTo>
                    <a:pt x="1576" y="1037"/>
                    <a:pt x="1432" y="1084"/>
                    <a:pt x="1343" y="1122"/>
                  </a:cubicBezTo>
                  <a:cubicBezTo>
                    <a:pt x="1260" y="1159"/>
                    <a:pt x="1178" y="1200"/>
                    <a:pt x="1105" y="1261"/>
                  </a:cubicBezTo>
                  <a:cubicBezTo>
                    <a:pt x="1027" y="1325"/>
                    <a:pt x="954" y="1386"/>
                    <a:pt x="838" y="1396"/>
                  </a:cubicBezTo>
                  <a:cubicBezTo>
                    <a:pt x="737" y="1405"/>
                    <a:pt x="628" y="1428"/>
                    <a:pt x="549" y="1372"/>
                  </a:cubicBezTo>
                  <a:cubicBezTo>
                    <a:pt x="473" y="1317"/>
                    <a:pt x="434" y="1223"/>
                    <a:pt x="388" y="1140"/>
                  </a:cubicBezTo>
                  <a:cubicBezTo>
                    <a:pt x="331" y="1039"/>
                    <a:pt x="320" y="934"/>
                    <a:pt x="290" y="826"/>
                  </a:cubicBezTo>
                  <a:cubicBezTo>
                    <a:pt x="259" y="716"/>
                    <a:pt x="285" y="596"/>
                    <a:pt x="297" y="482"/>
                  </a:cubicBezTo>
                  <a:cubicBezTo>
                    <a:pt x="306" y="381"/>
                    <a:pt x="312" y="271"/>
                    <a:pt x="374" y="185"/>
                  </a:cubicBezTo>
                  <a:cubicBezTo>
                    <a:pt x="425" y="114"/>
                    <a:pt x="528" y="0"/>
                    <a:pt x="605" y="81"/>
                  </a:cubicBezTo>
                  <a:cubicBezTo>
                    <a:pt x="673" y="152"/>
                    <a:pt x="624" y="298"/>
                    <a:pt x="529" y="339"/>
                  </a:cubicBezTo>
                  <a:cubicBezTo>
                    <a:pt x="429" y="382"/>
                    <a:pt x="339" y="458"/>
                    <a:pt x="228" y="468"/>
                  </a:cubicBezTo>
                  <a:cubicBezTo>
                    <a:pt x="142" y="476"/>
                    <a:pt x="0" y="510"/>
                    <a:pt x="13" y="626"/>
                  </a:cubicBezTo>
                  <a:cubicBezTo>
                    <a:pt x="25" y="722"/>
                    <a:pt x="83" y="818"/>
                    <a:pt x="171" y="864"/>
                  </a:cubicBezTo>
                  <a:cubicBezTo>
                    <a:pt x="256" y="908"/>
                    <a:pt x="368" y="869"/>
                    <a:pt x="433" y="796"/>
                  </a:cubicBezTo>
                  <a:cubicBezTo>
                    <a:pt x="493" y="729"/>
                    <a:pt x="524" y="642"/>
                    <a:pt x="567" y="565"/>
                  </a:cubicBezTo>
                  <a:cubicBezTo>
                    <a:pt x="623" y="469"/>
                    <a:pt x="593" y="334"/>
                    <a:pt x="497" y="293"/>
                  </a:cubicBezTo>
                  <a:cubicBezTo>
                    <a:pt x="409" y="255"/>
                    <a:pt x="281" y="277"/>
                    <a:pt x="224" y="198"/>
                  </a:cubicBezTo>
                  <a:cubicBezTo>
                    <a:pt x="158" y="107"/>
                    <a:pt x="324" y="16"/>
                    <a:pt x="417" y="44"/>
                  </a:cubicBezTo>
                  <a:cubicBezTo>
                    <a:pt x="523" y="76"/>
                    <a:pt x="542" y="184"/>
                    <a:pt x="589" y="263"/>
                  </a:cubicBezTo>
                  <a:cubicBezTo>
                    <a:pt x="643" y="355"/>
                    <a:pt x="649" y="467"/>
                    <a:pt x="696" y="565"/>
                  </a:cubicBezTo>
                  <a:cubicBezTo>
                    <a:pt x="750" y="675"/>
                    <a:pt x="791" y="794"/>
                    <a:pt x="862" y="893"/>
                  </a:cubicBezTo>
                  <a:cubicBezTo>
                    <a:pt x="921" y="974"/>
                    <a:pt x="999" y="1041"/>
                    <a:pt x="1079" y="1106"/>
                  </a:cubicBezTo>
                  <a:cubicBezTo>
                    <a:pt x="1149" y="1164"/>
                    <a:pt x="1232" y="1217"/>
                    <a:pt x="1323" y="1210"/>
                  </a:cubicBezTo>
                  <a:cubicBezTo>
                    <a:pt x="1425" y="1201"/>
                    <a:pt x="1491" y="1098"/>
                    <a:pt x="1517" y="1004"/>
                  </a:cubicBezTo>
                  <a:cubicBezTo>
                    <a:pt x="1543" y="910"/>
                    <a:pt x="1491" y="800"/>
                    <a:pt x="1385" y="796"/>
                  </a:cubicBezTo>
                  <a:cubicBezTo>
                    <a:pt x="1261" y="792"/>
                    <a:pt x="1242" y="911"/>
                    <a:pt x="1135" y="936"/>
                  </a:cubicBezTo>
                  <a:cubicBezTo>
                    <a:pt x="1037" y="959"/>
                    <a:pt x="977" y="1055"/>
                    <a:pt x="900" y="1118"/>
                  </a:cubicBezTo>
                  <a:cubicBezTo>
                    <a:pt x="829" y="1176"/>
                    <a:pt x="766" y="1243"/>
                    <a:pt x="675" y="1277"/>
                  </a:cubicBezTo>
                  <a:cubicBezTo>
                    <a:pt x="561" y="1320"/>
                    <a:pt x="458" y="1286"/>
                    <a:pt x="369" y="1238"/>
                  </a:cubicBezTo>
                  <a:cubicBezTo>
                    <a:pt x="269" y="1185"/>
                    <a:pt x="262" y="1047"/>
                    <a:pt x="245" y="944"/>
                  </a:cubicBezTo>
                  <a:cubicBezTo>
                    <a:pt x="225" y="815"/>
                    <a:pt x="238" y="678"/>
                    <a:pt x="292" y="550"/>
                  </a:cubicBezTo>
                  <a:cubicBezTo>
                    <a:pt x="344" y="425"/>
                    <a:pt x="439" y="331"/>
                    <a:pt x="507" y="218"/>
                  </a:cubicBezTo>
                  <a:cubicBezTo>
                    <a:pt x="563" y="124"/>
                    <a:pt x="639" y="34"/>
                    <a:pt x="735" y="31"/>
                  </a:cubicBezTo>
                  <a:cubicBezTo>
                    <a:pt x="854" y="27"/>
                    <a:pt x="808" y="220"/>
                    <a:pt x="779" y="312"/>
                  </a:cubicBezTo>
                  <a:cubicBezTo>
                    <a:pt x="747" y="412"/>
                    <a:pt x="717" y="512"/>
                    <a:pt x="696" y="616"/>
                  </a:cubicBezTo>
                  <a:cubicBezTo>
                    <a:pt x="665" y="758"/>
                    <a:pt x="653" y="902"/>
                    <a:pt x="642" y="1045"/>
                  </a:cubicBezTo>
                  <a:cubicBezTo>
                    <a:pt x="630" y="1178"/>
                    <a:pt x="666" y="1308"/>
                    <a:pt x="685" y="1439"/>
                  </a:cubicBezTo>
                  <a:cubicBezTo>
                    <a:pt x="699" y="1535"/>
                    <a:pt x="777" y="1597"/>
                    <a:pt x="855" y="1636"/>
                  </a:cubicBezTo>
                  <a:cubicBezTo>
                    <a:pt x="950" y="1684"/>
                    <a:pt x="1076" y="1693"/>
                    <a:pt x="1174" y="1634"/>
                  </a:cubicBezTo>
                  <a:cubicBezTo>
                    <a:pt x="1281" y="1570"/>
                    <a:pt x="1240" y="1426"/>
                    <a:pt x="1197" y="1344"/>
                  </a:cubicBezTo>
                  <a:cubicBezTo>
                    <a:pt x="1144" y="1246"/>
                    <a:pt x="1033" y="1271"/>
                    <a:pt x="945" y="1236"/>
                  </a:cubicBezTo>
                  <a:cubicBezTo>
                    <a:pt x="850" y="1198"/>
                    <a:pt x="745" y="1187"/>
                    <a:pt x="651" y="1145"/>
                  </a:cubicBezTo>
                  <a:cubicBezTo>
                    <a:pt x="559" y="1104"/>
                    <a:pt x="471" y="1055"/>
                    <a:pt x="380" y="1011"/>
                  </a:cubicBezTo>
                  <a:cubicBezTo>
                    <a:pt x="295" y="971"/>
                    <a:pt x="209" y="903"/>
                    <a:pt x="192" y="799"/>
                  </a:cubicBezTo>
                  <a:cubicBezTo>
                    <a:pt x="174" y="688"/>
                    <a:pt x="263" y="617"/>
                    <a:pt x="331" y="550"/>
                  </a:cubicBezTo>
                  <a:cubicBezTo>
                    <a:pt x="407" y="477"/>
                    <a:pt x="518" y="415"/>
                    <a:pt x="623" y="445"/>
                  </a:cubicBezTo>
                  <a:cubicBezTo>
                    <a:pt x="717" y="471"/>
                    <a:pt x="817" y="451"/>
                    <a:pt x="904" y="504"/>
                  </a:cubicBezTo>
                  <a:cubicBezTo>
                    <a:pt x="985" y="555"/>
                    <a:pt x="1052" y="626"/>
                    <a:pt x="1133" y="677"/>
                  </a:cubicBezTo>
                  <a:cubicBezTo>
                    <a:pt x="1207" y="725"/>
                    <a:pt x="1254" y="795"/>
                    <a:pt x="1323" y="849"/>
                  </a:cubicBezTo>
                  <a:cubicBezTo>
                    <a:pt x="1397" y="908"/>
                    <a:pt x="1468" y="974"/>
                    <a:pt x="1566" y="993"/>
                  </a:cubicBezTo>
                  <a:cubicBezTo>
                    <a:pt x="1715" y="1021"/>
                    <a:pt x="1705" y="835"/>
                    <a:pt x="1657" y="767"/>
                  </a:cubicBezTo>
                  <a:cubicBezTo>
                    <a:pt x="1609" y="699"/>
                    <a:pt x="1542" y="592"/>
                    <a:pt x="1448" y="631"/>
                  </a:cubicBezTo>
                  <a:cubicBezTo>
                    <a:pt x="1364" y="664"/>
                    <a:pt x="1295" y="746"/>
                    <a:pt x="1284" y="849"/>
                  </a:cubicBezTo>
                  <a:cubicBezTo>
                    <a:pt x="1272" y="957"/>
                    <a:pt x="1281" y="1065"/>
                    <a:pt x="1264" y="1172"/>
                  </a:cubicBezTo>
                  <a:cubicBezTo>
                    <a:pt x="1251" y="1259"/>
                    <a:pt x="1243" y="1366"/>
                    <a:pt x="1154" y="1423"/>
                  </a:cubicBezTo>
                  <a:cubicBezTo>
                    <a:pt x="1063" y="1480"/>
                    <a:pt x="947" y="1510"/>
                    <a:pt x="850" y="1468"/>
                  </a:cubicBezTo>
                  <a:cubicBezTo>
                    <a:pt x="769" y="1433"/>
                    <a:pt x="691" y="1379"/>
                    <a:pt x="644" y="1303"/>
                  </a:cubicBezTo>
                  <a:cubicBezTo>
                    <a:pt x="572" y="1189"/>
                    <a:pt x="602" y="1049"/>
                    <a:pt x="601" y="921"/>
                  </a:cubicBezTo>
                  <a:cubicBezTo>
                    <a:pt x="601" y="822"/>
                    <a:pt x="637" y="721"/>
                    <a:pt x="698" y="638"/>
                  </a:cubicBezTo>
                  <a:cubicBezTo>
                    <a:pt x="773" y="535"/>
                    <a:pt x="905" y="559"/>
                    <a:pt x="1008" y="547"/>
                  </a:cubicBezTo>
                  <a:cubicBezTo>
                    <a:pt x="1085" y="538"/>
                    <a:pt x="1297" y="639"/>
                    <a:pt x="1252" y="454"/>
                  </a:cubicBezTo>
                  <a:cubicBezTo>
                    <a:pt x="1230" y="366"/>
                    <a:pt x="1198" y="273"/>
                    <a:pt x="1116" y="212"/>
                  </a:cubicBezTo>
                  <a:cubicBezTo>
                    <a:pt x="1028" y="147"/>
                    <a:pt x="928" y="141"/>
                    <a:pt x="832" y="108"/>
                  </a:cubicBezTo>
                  <a:cubicBezTo>
                    <a:pt x="737" y="75"/>
                    <a:pt x="595" y="58"/>
                    <a:pt x="517" y="155"/>
                  </a:cubicBezTo>
                  <a:cubicBezTo>
                    <a:pt x="455" y="232"/>
                    <a:pt x="374" y="293"/>
                    <a:pt x="326" y="382"/>
                  </a:cubicBezTo>
                  <a:cubicBezTo>
                    <a:pt x="272" y="483"/>
                    <a:pt x="259" y="599"/>
                    <a:pt x="262" y="711"/>
                  </a:cubicBezTo>
                  <a:cubicBezTo>
                    <a:pt x="266" y="833"/>
                    <a:pt x="301" y="950"/>
                    <a:pt x="324" y="1069"/>
                  </a:cubicBezTo>
                  <a:cubicBezTo>
                    <a:pt x="351" y="1203"/>
                    <a:pt x="500" y="1141"/>
                    <a:pt x="575" y="1115"/>
                  </a:cubicBezTo>
                  <a:cubicBezTo>
                    <a:pt x="665" y="1085"/>
                    <a:pt x="735" y="1013"/>
                    <a:pt x="788" y="936"/>
                  </a:cubicBezTo>
                  <a:lnTo>
                    <a:pt x="843" y="866"/>
                  </a:lnTo>
                  <a:lnTo>
                    <a:pt x="898" y="798"/>
                  </a:lnTo>
                  <a:lnTo>
                    <a:pt x="956" y="762"/>
                  </a:lnTo>
                  <a:lnTo>
                    <a:pt x="973" y="765"/>
                  </a:lnTo>
                </a:path>
              </a:pathLst>
            </a:custGeom>
            <a:noFill/>
            <a:ln w="9360">
              <a:solidFill>
                <a:srgbClr val="23ff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145"/>
            <p:cNvGrpSpPr/>
            <p:nvPr/>
          </p:nvGrpSpPr>
          <p:grpSpPr>
            <a:xfrm>
              <a:off x="890280" y="5494320"/>
              <a:ext cx="375480" cy="529200"/>
              <a:chOff x="890280" y="5494320"/>
              <a:chExt cx="375480" cy="529200"/>
            </a:xfrm>
          </p:grpSpPr>
          <p:sp>
            <p:nvSpPr>
              <p:cNvPr id="203" name="Oval 146"/>
              <p:cNvSpPr/>
              <p:nvPr/>
            </p:nvSpPr>
            <p:spPr>
              <a:xfrm>
                <a:off x="891720" y="5494320"/>
                <a:ext cx="374040" cy="529200"/>
              </a:xfrm>
              <a:prstGeom prst="ellipse">
                <a:avLst/>
              </a:prstGeom>
              <a:noFill/>
              <a:ln w="36000">
                <a:solidFill>
                  <a:srgbClr val="ff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47"/>
              <p:cNvSpPr/>
              <p:nvPr/>
            </p:nvSpPr>
            <p:spPr>
              <a:xfrm>
                <a:off x="890280" y="5586480"/>
                <a:ext cx="46080" cy="249480"/>
              </a:xfrm>
              <a:custGeom>
                <a:avLst/>
                <a:gdLst/>
                <a:ahLst/>
                <a:rect l="l" t="t" r="r" b="b"/>
                <a:pathLst>
                  <a:path w="341" h="1255">
                    <a:moveTo>
                      <a:pt x="58" y="1254"/>
                    </a:moveTo>
                    <a:cubicBezTo>
                      <a:pt x="5" y="1042"/>
                      <a:pt x="25" y="1096"/>
                      <a:pt x="25" y="1096"/>
                    </a:cubicBezTo>
                    <a:lnTo>
                      <a:pt x="0" y="844"/>
                    </a:lnTo>
                    <a:lnTo>
                      <a:pt x="0" y="731"/>
                    </a:lnTo>
                    <a:lnTo>
                      <a:pt x="25" y="580"/>
                    </a:lnTo>
                    <a:lnTo>
                      <a:pt x="50" y="466"/>
                    </a:lnTo>
                    <a:lnTo>
                      <a:pt x="126" y="315"/>
                    </a:lnTo>
                    <a:lnTo>
                      <a:pt x="201" y="164"/>
                    </a:lnTo>
                    <a:lnTo>
                      <a:pt x="277" y="63"/>
                    </a:lnTo>
                    <a:lnTo>
                      <a:pt x="340" y="0"/>
                    </a:lnTo>
                  </a:path>
                </a:pathLst>
              </a:custGeom>
              <a:noFill/>
              <a:ln w="36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8"/>
              <p:cNvSpPr/>
              <p:nvPr/>
            </p:nvSpPr>
            <p:spPr>
              <a:xfrm>
                <a:off x="901800" y="5838480"/>
                <a:ext cx="12960" cy="4896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0" y="0"/>
                    </a:moveTo>
                    <a:lnTo>
                      <a:pt x="26" y="63"/>
                    </a:lnTo>
                    <a:cubicBezTo>
                      <a:pt x="52" y="126"/>
                      <a:pt x="51" y="177"/>
                      <a:pt x="38" y="177"/>
                    </a:cubicBezTo>
                    <a:cubicBezTo>
                      <a:pt x="25" y="177"/>
                      <a:pt x="101" y="240"/>
                      <a:pt x="101" y="240"/>
                    </a:cubicBezTo>
                  </a:path>
                </a:pathLst>
              </a:custGeom>
              <a:noFill/>
              <a:ln w="360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49"/>
              <p:cNvSpPr/>
              <p:nvPr/>
            </p:nvSpPr>
            <p:spPr>
              <a:xfrm>
                <a:off x="934920" y="5559480"/>
                <a:ext cx="16200" cy="26640"/>
              </a:xfrm>
              <a:custGeom>
                <a:avLst/>
                <a:gdLst/>
                <a:ahLst/>
                <a:rect l="l" t="t" r="r" b="b"/>
                <a:pathLst>
                  <a:path w="122" h="134">
                    <a:moveTo>
                      <a:pt x="0" y="133"/>
                    </a:moveTo>
                    <a:lnTo>
                      <a:pt x="55" y="67"/>
                    </a:lnTo>
                    <a:cubicBezTo>
                      <a:pt x="110" y="1"/>
                      <a:pt x="121" y="0"/>
                      <a:pt x="121" y="0"/>
                    </a:cubicBezTo>
                  </a:path>
                </a:pathLst>
              </a:custGeom>
              <a:noFill/>
              <a:ln w="360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Freeform 150"/>
            <p:cNvSpPr/>
            <p:nvPr/>
          </p:nvSpPr>
          <p:spPr>
            <a:xfrm>
              <a:off x="1291320" y="5892120"/>
              <a:ext cx="646920" cy="936720"/>
            </a:xfrm>
            <a:custGeom>
              <a:avLst/>
              <a:gdLst/>
              <a:ahLst/>
              <a:rect l="l" t="t" r="r" b="b"/>
              <a:pathLst>
                <a:path w="1716" h="1694">
                  <a:moveTo>
                    <a:pt x="973" y="765"/>
                  </a:moveTo>
                  <a:cubicBezTo>
                    <a:pt x="1083" y="695"/>
                    <a:pt x="1191" y="781"/>
                    <a:pt x="1229" y="868"/>
                  </a:cubicBezTo>
                  <a:cubicBezTo>
                    <a:pt x="1271" y="962"/>
                    <a:pt x="1181" y="1084"/>
                    <a:pt x="1079" y="1106"/>
                  </a:cubicBezTo>
                  <a:cubicBezTo>
                    <a:pt x="967" y="1130"/>
                    <a:pt x="853" y="1128"/>
                    <a:pt x="740" y="1133"/>
                  </a:cubicBezTo>
                  <a:cubicBezTo>
                    <a:pt x="598" y="1140"/>
                    <a:pt x="681" y="1332"/>
                    <a:pt x="740" y="1370"/>
                  </a:cubicBezTo>
                  <a:cubicBezTo>
                    <a:pt x="820" y="1421"/>
                    <a:pt x="928" y="1465"/>
                    <a:pt x="1029" y="1406"/>
                  </a:cubicBezTo>
                  <a:cubicBezTo>
                    <a:pt x="1135" y="1344"/>
                    <a:pt x="1050" y="1217"/>
                    <a:pt x="1020" y="1142"/>
                  </a:cubicBezTo>
                  <a:cubicBezTo>
                    <a:pt x="981" y="1044"/>
                    <a:pt x="858" y="1050"/>
                    <a:pt x="808" y="973"/>
                  </a:cubicBezTo>
                  <a:cubicBezTo>
                    <a:pt x="756" y="892"/>
                    <a:pt x="741" y="795"/>
                    <a:pt x="720" y="697"/>
                  </a:cubicBezTo>
                  <a:cubicBezTo>
                    <a:pt x="698" y="594"/>
                    <a:pt x="762" y="452"/>
                    <a:pt x="875" y="491"/>
                  </a:cubicBezTo>
                  <a:cubicBezTo>
                    <a:pt x="932" y="511"/>
                    <a:pt x="1077" y="624"/>
                    <a:pt x="954" y="678"/>
                  </a:cubicBezTo>
                  <a:cubicBezTo>
                    <a:pt x="848" y="724"/>
                    <a:pt x="732" y="734"/>
                    <a:pt x="620" y="760"/>
                  </a:cubicBezTo>
                  <a:cubicBezTo>
                    <a:pt x="474" y="795"/>
                    <a:pt x="564" y="938"/>
                    <a:pt x="640" y="972"/>
                  </a:cubicBezTo>
                  <a:cubicBezTo>
                    <a:pt x="742" y="1017"/>
                    <a:pt x="826" y="938"/>
                    <a:pt x="907" y="897"/>
                  </a:cubicBezTo>
                  <a:cubicBezTo>
                    <a:pt x="1000" y="850"/>
                    <a:pt x="1123" y="906"/>
                    <a:pt x="1148" y="1008"/>
                  </a:cubicBezTo>
                  <a:cubicBezTo>
                    <a:pt x="1172" y="1110"/>
                    <a:pt x="1181" y="1222"/>
                    <a:pt x="1244" y="1310"/>
                  </a:cubicBezTo>
                  <a:cubicBezTo>
                    <a:pt x="1301" y="1390"/>
                    <a:pt x="1423" y="1409"/>
                    <a:pt x="1511" y="1360"/>
                  </a:cubicBezTo>
                  <a:cubicBezTo>
                    <a:pt x="1594" y="1314"/>
                    <a:pt x="1675" y="1202"/>
                    <a:pt x="1630" y="1125"/>
                  </a:cubicBezTo>
                  <a:cubicBezTo>
                    <a:pt x="1576" y="1037"/>
                    <a:pt x="1432" y="1084"/>
                    <a:pt x="1343" y="1122"/>
                  </a:cubicBezTo>
                  <a:cubicBezTo>
                    <a:pt x="1260" y="1159"/>
                    <a:pt x="1178" y="1200"/>
                    <a:pt x="1105" y="1261"/>
                  </a:cubicBezTo>
                  <a:cubicBezTo>
                    <a:pt x="1027" y="1325"/>
                    <a:pt x="954" y="1386"/>
                    <a:pt x="838" y="1396"/>
                  </a:cubicBezTo>
                  <a:cubicBezTo>
                    <a:pt x="737" y="1405"/>
                    <a:pt x="628" y="1428"/>
                    <a:pt x="549" y="1372"/>
                  </a:cubicBezTo>
                  <a:cubicBezTo>
                    <a:pt x="473" y="1317"/>
                    <a:pt x="434" y="1223"/>
                    <a:pt x="388" y="1140"/>
                  </a:cubicBezTo>
                  <a:cubicBezTo>
                    <a:pt x="331" y="1039"/>
                    <a:pt x="320" y="934"/>
                    <a:pt x="290" y="826"/>
                  </a:cubicBezTo>
                  <a:cubicBezTo>
                    <a:pt x="259" y="716"/>
                    <a:pt x="285" y="596"/>
                    <a:pt x="297" y="482"/>
                  </a:cubicBezTo>
                  <a:cubicBezTo>
                    <a:pt x="306" y="381"/>
                    <a:pt x="312" y="271"/>
                    <a:pt x="374" y="185"/>
                  </a:cubicBezTo>
                  <a:cubicBezTo>
                    <a:pt x="425" y="114"/>
                    <a:pt x="528" y="0"/>
                    <a:pt x="605" y="81"/>
                  </a:cubicBezTo>
                  <a:cubicBezTo>
                    <a:pt x="673" y="152"/>
                    <a:pt x="624" y="298"/>
                    <a:pt x="529" y="339"/>
                  </a:cubicBezTo>
                  <a:cubicBezTo>
                    <a:pt x="429" y="382"/>
                    <a:pt x="339" y="458"/>
                    <a:pt x="228" y="468"/>
                  </a:cubicBezTo>
                  <a:cubicBezTo>
                    <a:pt x="142" y="476"/>
                    <a:pt x="0" y="510"/>
                    <a:pt x="13" y="626"/>
                  </a:cubicBezTo>
                  <a:cubicBezTo>
                    <a:pt x="25" y="722"/>
                    <a:pt x="83" y="818"/>
                    <a:pt x="171" y="864"/>
                  </a:cubicBezTo>
                  <a:cubicBezTo>
                    <a:pt x="256" y="908"/>
                    <a:pt x="368" y="869"/>
                    <a:pt x="433" y="796"/>
                  </a:cubicBezTo>
                  <a:cubicBezTo>
                    <a:pt x="493" y="729"/>
                    <a:pt x="524" y="642"/>
                    <a:pt x="567" y="565"/>
                  </a:cubicBezTo>
                  <a:cubicBezTo>
                    <a:pt x="623" y="469"/>
                    <a:pt x="593" y="334"/>
                    <a:pt x="497" y="293"/>
                  </a:cubicBezTo>
                  <a:cubicBezTo>
                    <a:pt x="409" y="255"/>
                    <a:pt x="281" y="277"/>
                    <a:pt x="224" y="198"/>
                  </a:cubicBezTo>
                  <a:cubicBezTo>
                    <a:pt x="158" y="107"/>
                    <a:pt x="324" y="16"/>
                    <a:pt x="417" y="44"/>
                  </a:cubicBezTo>
                  <a:cubicBezTo>
                    <a:pt x="523" y="76"/>
                    <a:pt x="542" y="184"/>
                    <a:pt x="589" y="263"/>
                  </a:cubicBezTo>
                  <a:cubicBezTo>
                    <a:pt x="643" y="355"/>
                    <a:pt x="649" y="467"/>
                    <a:pt x="696" y="565"/>
                  </a:cubicBezTo>
                  <a:cubicBezTo>
                    <a:pt x="750" y="675"/>
                    <a:pt x="791" y="794"/>
                    <a:pt x="862" y="893"/>
                  </a:cubicBezTo>
                  <a:cubicBezTo>
                    <a:pt x="921" y="974"/>
                    <a:pt x="999" y="1041"/>
                    <a:pt x="1079" y="1106"/>
                  </a:cubicBezTo>
                  <a:cubicBezTo>
                    <a:pt x="1149" y="1164"/>
                    <a:pt x="1232" y="1217"/>
                    <a:pt x="1323" y="1210"/>
                  </a:cubicBezTo>
                  <a:cubicBezTo>
                    <a:pt x="1425" y="1201"/>
                    <a:pt x="1491" y="1098"/>
                    <a:pt x="1517" y="1004"/>
                  </a:cubicBezTo>
                  <a:cubicBezTo>
                    <a:pt x="1543" y="910"/>
                    <a:pt x="1491" y="800"/>
                    <a:pt x="1385" y="796"/>
                  </a:cubicBezTo>
                  <a:cubicBezTo>
                    <a:pt x="1261" y="792"/>
                    <a:pt x="1242" y="911"/>
                    <a:pt x="1135" y="936"/>
                  </a:cubicBezTo>
                  <a:cubicBezTo>
                    <a:pt x="1037" y="959"/>
                    <a:pt x="977" y="1055"/>
                    <a:pt x="900" y="1118"/>
                  </a:cubicBezTo>
                  <a:cubicBezTo>
                    <a:pt x="829" y="1176"/>
                    <a:pt x="766" y="1243"/>
                    <a:pt x="675" y="1277"/>
                  </a:cubicBezTo>
                  <a:cubicBezTo>
                    <a:pt x="561" y="1320"/>
                    <a:pt x="458" y="1286"/>
                    <a:pt x="369" y="1238"/>
                  </a:cubicBezTo>
                  <a:cubicBezTo>
                    <a:pt x="269" y="1185"/>
                    <a:pt x="262" y="1047"/>
                    <a:pt x="245" y="944"/>
                  </a:cubicBezTo>
                  <a:cubicBezTo>
                    <a:pt x="225" y="815"/>
                    <a:pt x="238" y="678"/>
                    <a:pt x="292" y="550"/>
                  </a:cubicBezTo>
                  <a:cubicBezTo>
                    <a:pt x="344" y="425"/>
                    <a:pt x="439" y="331"/>
                    <a:pt x="507" y="218"/>
                  </a:cubicBezTo>
                  <a:cubicBezTo>
                    <a:pt x="563" y="124"/>
                    <a:pt x="639" y="34"/>
                    <a:pt x="735" y="31"/>
                  </a:cubicBezTo>
                  <a:cubicBezTo>
                    <a:pt x="854" y="27"/>
                    <a:pt x="808" y="220"/>
                    <a:pt x="779" y="312"/>
                  </a:cubicBezTo>
                  <a:cubicBezTo>
                    <a:pt x="747" y="412"/>
                    <a:pt x="717" y="512"/>
                    <a:pt x="696" y="616"/>
                  </a:cubicBezTo>
                  <a:cubicBezTo>
                    <a:pt x="665" y="758"/>
                    <a:pt x="653" y="902"/>
                    <a:pt x="642" y="1045"/>
                  </a:cubicBezTo>
                  <a:cubicBezTo>
                    <a:pt x="630" y="1178"/>
                    <a:pt x="666" y="1308"/>
                    <a:pt x="685" y="1439"/>
                  </a:cubicBezTo>
                  <a:cubicBezTo>
                    <a:pt x="699" y="1535"/>
                    <a:pt x="777" y="1597"/>
                    <a:pt x="855" y="1636"/>
                  </a:cubicBezTo>
                  <a:cubicBezTo>
                    <a:pt x="950" y="1684"/>
                    <a:pt x="1076" y="1693"/>
                    <a:pt x="1174" y="1634"/>
                  </a:cubicBezTo>
                  <a:cubicBezTo>
                    <a:pt x="1281" y="1570"/>
                    <a:pt x="1240" y="1426"/>
                    <a:pt x="1197" y="1344"/>
                  </a:cubicBezTo>
                  <a:cubicBezTo>
                    <a:pt x="1144" y="1246"/>
                    <a:pt x="1033" y="1271"/>
                    <a:pt x="945" y="1236"/>
                  </a:cubicBezTo>
                  <a:cubicBezTo>
                    <a:pt x="850" y="1198"/>
                    <a:pt x="745" y="1187"/>
                    <a:pt x="651" y="1145"/>
                  </a:cubicBezTo>
                  <a:cubicBezTo>
                    <a:pt x="559" y="1104"/>
                    <a:pt x="471" y="1055"/>
                    <a:pt x="380" y="1011"/>
                  </a:cubicBezTo>
                  <a:cubicBezTo>
                    <a:pt x="295" y="971"/>
                    <a:pt x="209" y="903"/>
                    <a:pt x="192" y="799"/>
                  </a:cubicBezTo>
                  <a:cubicBezTo>
                    <a:pt x="174" y="688"/>
                    <a:pt x="263" y="617"/>
                    <a:pt x="331" y="550"/>
                  </a:cubicBezTo>
                  <a:cubicBezTo>
                    <a:pt x="407" y="477"/>
                    <a:pt x="518" y="415"/>
                    <a:pt x="623" y="445"/>
                  </a:cubicBezTo>
                  <a:cubicBezTo>
                    <a:pt x="717" y="471"/>
                    <a:pt x="817" y="451"/>
                    <a:pt x="904" y="504"/>
                  </a:cubicBezTo>
                  <a:cubicBezTo>
                    <a:pt x="985" y="555"/>
                    <a:pt x="1052" y="626"/>
                    <a:pt x="1133" y="677"/>
                  </a:cubicBezTo>
                  <a:cubicBezTo>
                    <a:pt x="1207" y="725"/>
                    <a:pt x="1254" y="795"/>
                    <a:pt x="1323" y="849"/>
                  </a:cubicBezTo>
                  <a:cubicBezTo>
                    <a:pt x="1397" y="908"/>
                    <a:pt x="1468" y="974"/>
                    <a:pt x="1566" y="993"/>
                  </a:cubicBezTo>
                  <a:cubicBezTo>
                    <a:pt x="1715" y="1021"/>
                    <a:pt x="1705" y="835"/>
                    <a:pt x="1657" y="767"/>
                  </a:cubicBezTo>
                  <a:cubicBezTo>
                    <a:pt x="1609" y="699"/>
                    <a:pt x="1542" y="592"/>
                    <a:pt x="1448" y="631"/>
                  </a:cubicBezTo>
                  <a:cubicBezTo>
                    <a:pt x="1364" y="664"/>
                    <a:pt x="1295" y="746"/>
                    <a:pt x="1284" y="849"/>
                  </a:cubicBezTo>
                  <a:cubicBezTo>
                    <a:pt x="1272" y="957"/>
                    <a:pt x="1281" y="1065"/>
                    <a:pt x="1264" y="1172"/>
                  </a:cubicBezTo>
                  <a:cubicBezTo>
                    <a:pt x="1251" y="1259"/>
                    <a:pt x="1243" y="1366"/>
                    <a:pt x="1154" y="1423"/>
                  </a:cubicBezTo>
                  <a:cubicBezTo>
                    <a:pt x="1063" y="1480"/>
                    <a:pt x="947" y="1510"/>
                    <a:pt x="850" y="1468"/>
                  </a:cubicBezTo>
                  <a:cubicBezTo>
                    <a:pt x="769" y="1433"/>
                    <a:pt x="691" y="1379"/>
                    <a:pt x="644" y="1303"/>
                  </a:cubicBezTo>
                  <a:cubicBezTo>
                    <a:pt x="572" y="1189"/>
                    <a:pt x="602" y="1049"/>
                    <a:pt x="601" y="921"/>
                  </a:cubicBezTo>
                  <a:cubicBezTo>
                    <a:pt x="601" y="822"/>
                    <a:pt x="637" y="721"/>
                    <a:pt x="698" y="638"/>
                  </a:cubicBezTo>
                  <a:cubicBezTo>
                    <a:pt x="773" y="535"/>
                    <a:pt x="905" y="559"/>
                    <a:pt x="1008" y="547"/>
                  </a:cubicBezTo>
                  <a:cubicBezTo>
                    <a:pt x="1085" y="538"/>
                    <a:pt x="1297" y="639"/>
                    <a:pt x="1252" y="454"/>
                  </a:cubicBezTo>
                  <a:cubicBezTo>
                    <a:pt x="1230" y="366"/>
                    <a:pt x="1198" y="273"/>
                    <a:pt x="1116" y="212"/>
                  </a:cubicBezTo>
                  <a:cubicBezTo>
                    <a:pt x="1028" y="147"/>
                    <a:pt x="928" y="141"/>
                    <a:pt x="832" y="108"/>
                  </a:cubicBezTo>
                  <a:cubicBezTo>
                    <a:pt x="737" y="75"/>
                    <a:pt x="595" y="58"/>
                    <a:pt x="517" y="155"/>
                  </a:cubicBezTo>
                  <a:cubicBezTo>
                    <a:pt x="455" y="232"/>
                    <a:pt x="374" y="293"/>
                    <a:pt x="326" y="382"/>
                  </a:cubicBezTo>
                  <a:cubicBezTo>
                    <a:pt x="272" y="483"/>
                    <a:pt x="259" y="599"/>
                    <a:pt x="262" y="711"/>
                  </a:cubicBezTo>
                  <a:cubicBezTo>
                    <a:pt x="266" y="833"/>
                    <a:pt x="301" y="950"/>
                    <a:pt x="324" y="1069"/>
                  </a:cubicBezTo>
                  <a:cubicBezTo>
                    <a:pt x="351" y="1203"/>
                    <a:pt x="500" y="1141"/>
                    <a:pt x="575" y="1115"/>
                  </a:cubicBezTo>
                  <a:cubicBezTo>
                    <a:pt x="665" y="1085"/>
                    <a:pt x="735" y="1013"/>
                    <a:pt x="788" y="936"/>
                  </a:cubicBezTo>
                  <a:lnTo>
                    <a:pt x="843" y="866"/>
                  </a:lnTo>
                  <a:lnTo>
                    <a:pt x="898" y="798"/>
                  </a:lnTo>
                  <a:lnTo>
                    <a:pt x="956" y="762"/>
                  </a:lnTo>
                  <a:lnTo>
                    <a:pt x="973" y="765"/>
                  </a:lnTo>
                </a:path>
              </a:pathLst>
            </a:custGeom>
            <a:noFill/>
            <a:ln w="9360">
              <a:solidFill>
                <a:srgbClr val="23ff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1"/>
            <p:cNvGrpSpPr/>
            <p:nvPr/>
          </p:nvGrpSpPr>
          <p:grpSpPr>
            <a:xfrm>
              <a:off x="891720" y="5494320"/>
              <a:ext cx="374040" cy="529200"/>
              <a:chOff x="891720" y="5494320"/>
              <a:chExt cx="374040" cy="529200"/>
            </a:xfrm>
          </p:grpSpPr>
          <p:sp>
            <p:nvSpPr>
              <p:cNvPr id="209" name="Oval 152"/>
              <p:cNvSpPr/>
              <p:nvPr/>
            </p:nvSpPr>
            <p:spPr>
              <a:xfrm>
                <a:off x="891720" y="5494320"/>
                <a:ext cx="374040" cy="529200"/>
              </a:xfrm>
              <a:prstGeom prst="ellipse">
                <a:avLst/>
              </a:prstGeom>
              <a:noFill/>
              <a:ln w="36000">
                <a:solidFill>
                  <a:srgbClr val="ff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53"/>
              <p:cNvSpPr/>
              <p:nvPr/>
            </p:nvSpPr>
            <p:spPr>
              <a:xfrm>
                <a:off x="891720" y="5586480"/>
                <a:ext cx="46440" cy="249480"/>
              </a:xfrm>
              <a:custGeom>
                <a:avLst/>
                <a:gdLst/>
                <a:ahLst/>
                <a:rect l="l" t="t" r="r" b="b"/>
                <a:pathLst>
                  <a:path w="341" h="1255">
                    <a:moveTo>
                      <a:pt x="58" y="1254"/>
                    </a:moveTo>
                    <a:cubicBezTo>
                      <a:pt x="5" y="1042"/>
                      <a:pt x="25" y="1096"/>
                      <a:pt x="25" y="1096"/>
                    </a:cubicBezTo>
                    <a:lnTo>
                      <a:pt x="0" y="844"/>
                    </a:lnTo>
                    <a:lnTo>
                      <a:pt x="0" y="731"/>
                    </a:lnTo>
                    <a:lnTo>
                      <a:pt x="25" y="580"/>
                    </a:lnTo>
                    <a:lnTo>
                      <a:pt x="50" y="466"/>
                    </a:lnTo>
                    <a:lnTo>
                      <a:pt x="126" y="315"/>
                    </a:lnTo>
                    <a:lnTo>
                      <a:pt x="201" y="164"/>
                    </a:lnTo>
                    <a:lnTo>
                      <a:pt x="277" y="63"/>
                    </a:lnTo>
                    <a:lnTo>
                      <a:pt x="340" y="0"/>
                    </a:lnTo>
                  </a:path>
                </a:pathLst>
              </a:custGeom>
              <a:noFill/>
              <a:ln w="36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54"/>
              <p:cNvSpPr/>
              <p:nvPr/>
            </p:nvSpPr>
            <p:spPr>
              <a:xfrm>
                <a:off x="901800" y="5838480"/>
                <a:ext cx="12960" cy="4896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0" y="0"/>
                    </a:moveTo>
                    <a:lnTo>
                      <a:pt x="26" y="63"/>
                    </a:lnTo>
                    <a:cubicBezTo>
                      <a:pt x="52" y="126"/>
                      <a:pt x="51" y="177"/>
                      <a:pt x="38" y="177"/>
                    </a:cubicBezTo>
                    <a:cubicBezTo>
                      <a:pt x="25" y="177"/>
                      <a:pt x="101" y="240"/>
                      <a:pt x="101" y="240"/>
                    </a:cubicBezTo>
                  </a:path>
                </a:pathLst>
              </a:custGeom>
              <a:noFill/>
              <a:ln w="360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55"/>
              <p:cNvSpPr/>
              <p:nvPr/>
            </p:nvSpPr>
            <p:spPr>
              <a:xfrm>
                <a:off x="936360" y="5559480"/>
                <a:ext cx="16560" cy="26640"/>
              </a:xfrm>
              <a:custGeom>
                <a:avLst/>
                <a:gdLst/>
                <a:ahLst/>
                <a:rect l="l" t="t" r="r" b="b"/>
                <a:pathLst>
                  <a:path w="122" h="134">
                    <a:moveTo>
                      <a:pt x="0" y="133"/>
                    </a:moveTo>
                    <a:lnTo>
                      <a:pt x="55" y="67"/>
                    </a:lnTo>
                    <a:cubicBezTo>
                      <a:pt x="110" y="1"/>
                      <a:pt x="121" y="0"/>
                      <a:pt x="121" y="0"/>
                    </a:cubicBezTo>
                  </a:path>
                </a:pathLst>
              </a:custGeom>
              <a:noFill/>
              <a:ln w="360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Group 156"/>
          <p:cNvGrpSpPr/>
          <p:nvPr/>
        </p:nvGrpSpPr>
        <p:grpSpPr>
          <a:xfrm>
            <a:off x="660960" y="6930360"/>
            <a:ext cx="1273680" cy="1235520"/>
            <a:chOff x="660960" y="6930360"/>
            <a:chExt cx="1273680" cy="1235520"/>
          </a:xfrm>
        </p:grpSpPr>
        <p:grpSp>
          <p:nvGrpSpPr>
            <p:cNvPr id="214" name="Group 157"/>
            <p:cNvGrpSpPr/>
            <p:nvPr/>
          </p:nvGrpSpPr>
          <p:grpSpPr>
            <a:xfrm>
              <a:off x="969480" y="6930360"/>
              <a:ext cx="845280" cy="807120"/>
              <a:chOff x="969480" y="6930360"/>
              <a:chExt cx="845280" cy="807120"/>
            </a:xfrm>
          </p:grpSpPr>
          <p:sp>
            <p:nvSpPr>
              <p:cNvPr id="215" name="AutoShape 158"/>
              <p:cNvSpPr/>
              <p:nvPr/>
            </p:nvSpPr>
            <p:spPr>
              <a:xfrm rot="2340000">
                <a:off x="1033200" y="7104960"/>
                <a:ext cx="717120" cy="457920"/>
              </a:xfrm>
              <a:prstGeom prst="roundRect">
                <a:avLst>
                  <a:gd name="adj" fmla="val 497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59"/>
              <p:cNvSpPr/>
              <p:nvPr/>
            </p:nvSpPr>
            <p:spPr>
              <a:xfrm>
                <a:off x="1345680" y="7219800"/>
                <a:ext cx="320400" cy="46512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Group 160"/>
              <p:cNvGrpSpPr/>
              <p:nvPr/>
            </p:nvGrpSpPr>
            <p:grpSpPr>
              <a:xfrm>
                <a:off x="1148040" y="7024680"/>
                <a:ext cx="183600" cy="261000"/>
                <a:chOff x="1148040" y="7024680"/>
                <a:chExt cx="183600" cy="261000"/>
              </a:xfrm>
            </p:grpSpPr>
            <p:sp>
              <p:nvSpPr>
                <p:cNvPr id="218" name="Oval 161"/>
                <p:cNvSpPr/>
                <p:nvPr/>
              </p:nvSpPr>
              <p:spPr>
                <a:xfrm>
                  <a:off x="1148040" y="7024680"/>
                  <a:ext cx="183600" cy="261000"/>
                </a:xfrm>
                <a:prstGeom prst="ellipse">
                  <a:avLst/>
                </a:prstGeom>
                <a:noFill/>
                <a:ln w="36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62"/>
                <p:cNvSpPr/>
                <p:nvPr/>
              </p:nvSpPr>
              <p:spPr>
                <a:xfrm>
                  <a:off x="1148040" y="7067880"/>
                  <a:ext cx="23040" cy="12312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36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63"/>
                <p:cNvSpPr/>
                <p:nvPr/>
              </p:nvSpPr>
              <p:spPr>
                <a:xfrm>
                  <a:off x="1152720" y="7193520"/>
                  <a:ext cx="6480" cy="2412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64"/>
                <p:cNvSpPr/>
                <p:nvPr/>
              </p:nvSpPr>
              <p:spPr>
                <a:xfrm>
                  <a:off x="1168920" y="7055640"/>
                  <a:ext cx="7920" cy="1188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Freeform 165"/>
              <p:cNvSpPr/>
              <p:nvPr/>
            </p:nvSpPr>
            <p:spPr>
              <a:xfrm>
                <a:off x="1345680" y="7219800"/>
                <a:ext cx="320400" cy="46512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3" name="Group 166"/>
              <p:cNvGrpSpPr/>
              <p:nvPr/>
            </p:nvGrpSpPr>
            <p:grpSpPr>
              <a:xfrm>
                <a:off x="1148040" y="7024680"/>
                <a:ext cx="183600" cy="261000"/>
                <a:chOff x="1148040" y="7024680"/>
                <a:chExt cx="183600" cy="261000"/>
              </a:xfrm>
            </p:grpSpPr>
            <p:sp>
              <p:nvSpPr>
                <p:cNvPr id="224" name="Oval 167"/>
                <p:cNvSpPr/>
                <p:nvPr/>
              </p:nvSpPr>
              <p:spPr>
                <a:xfrm>
                  <a:off x="1148040" y="7024680"/>
                  <a:ext cx="183600" cy="261000"/>
                </a:xfrm>
                <a:prstGeom prst="ellipse">
                  <a:avLst/>
                </a:prstGeom>
                <a:noFill/>
                <a:ln w="18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8"/>
                <p:cNvSpPr/>
                <p:nvPr/>
              </p:nvSpPr>
              <p:spPr>
                <a:xfrm>
                  <a:off x="1148040" y="7070040"/>
                  <a:ext cx="23040" cy="12312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18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9"/>
                <p:cNvSpPr/>
                <p:nvPr/>
              </p:nvSpPr>
              <p:spPr>
                <a:xfrm>
                  <a:off x="1152720" y="7193520"/>
                  <a:ext cx="6480" cy="2412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18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70"/>
                <p:cNvSpPr/>
                <p:nvPr/>
              </p:nvSpPr>
              <p:spPr>
                <a:xfrm>
                  <a:off x="1168920" y="7055640"/>
                  <a:ext cx="7920" cy="1188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18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71"/>
            <p:cNvGrpSpPr/>
            <p:nvPr/>
          </p:nvGrpSpPr>
          <p:grpSpPr>
            <a:xfrm>
              <a:off x="1167120" y="7655760"/>
              <a:ext cx="767520" cy="510120"/>
              <a:chOff x="1167120" y="7655760"/>
              <a:chExt cx="767520" cy="510120"/>
            </a:xfrm>
          </p:grpSpPr>
          <p:sp>
            <p:nvSpPr>
              <p:cNvPr id="229" name="AutoShape 172"/>
              <p:cNvSpPr/>
              <p:nvPr/>
            </p:nvSpPr>
            <p:spPr>
              <a:xfrm rot="21540000">
                <a:off x="1201320" y="7733520"/>
                <a:ext cx="693360" cy="399960"/>
              </a:xfrm>
              <a:prstGeom prst="roundRect">
                <a:avLst>
                  <a:gd name="adj" fmla="val 497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73"/>
              <p:cNvSpPr/>
              <p:nvPr/>
            </p:nvSpPr>
            <p:spPr>
              <a:xfrm rot="19200000">
                <a:off x="1530360" y="7707600"/>
                <a:ext cx="309600" cy="40608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1" name="Group 174"/>
              <p:cNvGrpSpPr/>
              <p:nvPr/>
            </p:nvGrpSpPr>
            <p:grpSpPr>
              <a:xfrm>
                <a:off x="1167480" y="7720560"/>
                <a:ext cx="394920" cy="405720"/>
                <a:chOff x="1167480" y="7720560"/>
                <a:chExt cx="394920" cy="405720"/>
              </a:xfrm>
            </p:grpSpPr>
            <p:sp>
              <p:nvSpPr>
                <p:cNvPr id="232" name="Oval 175"/>
                <p:cNvSpPr/>
                <p:nvPr/>
              </p:nvSpPr>
              <p:spPr>
                <a:xfrm rot="19200000">
                  <a:off x="1244880" y="7759080"/>
                  <a:ext cx="239760" cy="328680"/>
                </a:xfrm>
                <a:prstGeom prst="ellipse">
                  <a:avLst/>
                </a:prstGeom>
                <a:noFill/>
                <a:ln w="36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76"/>
                <p:cNvSpPr/>
                <p:nvPr/>
              </p:nvSpPr>
              <p:spPr>
                <a:xfrm rot="19200000">
                  <a:off x="1252800" y="7920000"/>
                  <a:ext cx="29880" cy="15480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36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77"/>
                <p:cNvSpPr/>
                <p:nvPr/>
              </p:nvSpPr>
              <p:spPr>
                <a:xfrm rot="19200000">
                  <a:off x="1304640" y="8056440"/>
                  <a:ext cx="8640" cy="3096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78"/>
                <p:cNvSpPr/>
                <p:nvPr/>
              </p:nvSpPr>
              <p:spPr>
                <a:xfrm rot="19200000">
                  <a:off x="1238400" y="7919640"/>
                  <a:ext cx="10440" cy="1512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Freeform 179"/>
              <p:cNvSpPr/>
              <p:nvPr/>
            </p:nvSpPr>
            <p:spPr>
              <a:xfrm rot="19200000">
                <a:off x="1530360" y="7707600"/>
                <a:ext cx="309600" cy="40608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180"/>
              <p:cNvGrpSpPr/>
              <p:nvPr/>
            </p:nvGrpSpPr>
            <p:grpSpPr>
              <a:xfrm>
                <a:off x="1167120" y="7718400"/>
                <a:ext cx="395280" cy="406080"/>
                <a:chOff x="1167120" y="7718400"/>
                <a:chExt cx="395280" cy="406080"/>
              </a:xfrm>
            </p:grpSpPr>
            <p:sp>
              <p:nvSpPr>
                <p:cNvPr id="238" name="Oval 181"/>
                <p:cNvSpPr/>
                <p:nvPr/>
              </p:nvSpPr>
              <p:spPr>
                <a:xfrm rot="19200000">
                  <a:off x="1244520" y="7756920"/>
                  <a:ext cx="239760" cy="329040"/>
                </a:xfrm>
                <a:prstGeom prst="ellipse">
                  <a:avLst/>
                </a:prstGeom>
                <a:noFill/>
                <a:ln w="18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82"/>
                <p:cNvSpPr/>
                <p:nvPr/>
              </p:nvSpPr>
              <p:spPr>
                <a:xfrm rot="19200000">
                  <a:off x="1255320" y="7918200"/>
                  <a:ext cx="29520" cy="15516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18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83"/>
                <p:cNvSpPr/>
                <p:nvPr/>
              </p:nvSpPr>
              <p:spPr>
                <a:xfrm rot="19200000">
                  <a:off x="1304640" y="8054640"/>
                  <a:ext cx="8640" cy="3096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18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84"/>
                <p:cNvSpPr/>
                <p:nvPr/>
              </p:nvSpPr>
              <p:spPr>
                <a:xfrm rot="19200000">
                  <a:off x="1238400" y="7917840"/>
                  <a:ext cx="10440" cy="1512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18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5"/>
            <p:cNvGrpSpPr/>
            <p:nvPr/>
          </p:nvGrpSpPr>
          <p:grpSpPr>
            <a:xfrm>
              <a:off x="660960" y="7310520"/>
              <a:ext cx="675720" cy="852120"/>
              <a:chOff x="660960" y="7310520"/>
              <a:chExt cx="675720" cy="852120"/>
            </a:xfrm>
          </p:grpSpPr>
          <p:sp>
            <p:nvSpPr>
              <p:cNvPr id="243" name="AutoShape 186"/>
              <p:cNvSpPr/>
              <p:nvPr/>
            </p:nvSpPr>
            <p:spPr>
              <a:xfrm rot="6720000">
                <a:off x="625320" y="7522920"/>
                <a:ext cx="746640" cy="426960"/>
              </a:xfrm>
              <a:prstGeom prst="roundRect">
                <a:avLst>
                  <a:gd name="adj" fmla="val 497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87"/>
              <p:cNvSpPr/>
              <p:nvPr/>
            </p:nvSpPr>
            <p:spPr>
              <a:xfrm rot="4380000">
                <a:off x="762480" y="7660440"/>
                <a:ext cx="333720" cy="43344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Group 188"/>
              <p:cNvGrpSpPr/>
              <p:nvPr/>
            </p:nvGrpSpPr>
            <p:grpSpPr>
              <a:xfrm>
                <a:off x="905760" y="7399080"/>
                <a:ext cx="364680" cy="317880"/>
                <a:chOff x="905760" y="7399080"/>
                <a:chExt cx="364680" cy="317880"/>
              </a:xfrm>
            </p:grpSpPr>
            <p:sp>
              <p:nvSpPr>
                <p:cNvPr id="246" name="Oval 189"/>
                <p:cNvSpPr/>
                <p:nvPr/>
              </p:nvSpPr>
              <p:spPr>
                <a:xfrm rot="4380000">
                  <a:off x="968760" y="7403760"/>
                  <a:ext cx="238320" cy="308160"/>
                </a:xfrm>
                <a:prstGeom prst="ellipse">
                  <a:avLst/>
                </a:prstGeom>
                <a:noFill/>
                <a:ln w="36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90"/>
                <p:cNvSpPr/>
                <p:nvPr/>
              </p:nvSpPr>
              <p:spPr>
                <a:xfrm rot="4380000">
                  <a:off x="1086120" y="7387560"/>
                  <a:ext cx="29160" cy="14472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36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91"/>
                <p:cNvSpPr/>
                <p:nvPr/>
              </p:nvSpPr>
              <p:spPr>
                <a:xfrm rot="4380000">
                  <a:off x="983160" y="7463160"/>
                  <a:ext cx="8640" cy="2844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92"/>
                <p:cNvSpPr/>
                <p:nvPr/>
              </p:nvSpPr>
              <p:spPr>
                <a:xfrm rot="4380000">
                  <a:off x="1166400" y="743724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36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Freeform 193"/>
              <p:cNvSpPr/>
              <p:nvPr/>
            </p:nvSpPr>
            <p:spPr>
              <a:xfrm rot="4380000">
                <a:off x="762480" y="7660440"/>
                <a:ext cx="333720" cy="433440"/>
              </a:xfrm>
              <a:custGeom>
                <a:avLst/>
                <a:gdLst/>
                <a:ahLst/>
                <a:rect l="l" t="t" r="r" b="b"/>
                <a:pathLst>
                  <a:path w="1716" h="1694">
                    <a:moveTo>
                      <a:pt x="973" y="765"/>
                    </a:moveTo>
                    <a:cubicBezTo>
                      <a:pt x="1083" y="695"/>
                      <a:pt x="1191" y="781"/>
                      <a:pt x="1229" y="868"/>
                    </a:cubicBezTo>
                    <a:cubicBezTo>
                      <a:pt x="1271" y="962"/>
                      <a:pt x="1181" y="1084"/>
                      <a:pt x="1079" y="1106"/>
                    </a:cubicBezTo>
                    <a:cubicBezTo>
                      <a:pt x="967" y="1130"/>
                      <a:pt x="853" y="1128"/>
                      <a:pt x="740" y="1133"/>
                    </a:cubicBezTo>
                    <a:cubicBezTo>
                      <a:pt x="598" y="1140"/>
                      <a:pt x="681" y="1332"/>
                      <a:pt x="740" y="1370"/>
                    </a:cubicBezTo>
                    <a:cubicBezTo>
                      <a:pt x="820" y="1421"/>
                      <a:pt x="928" y="1465"/>
                      <a:pt x="1029" y="1406"/>
                    </a:cubicBezTo>
                    <a:cubicBezTo>
                      <a:pt x="1135" y="1344"/>
                      <a:pt x="1050" y="1217"/>
                      <a:pt x="1020" y="1142"/>
                    </a:cubicBezTo>
                    <a:cubicBezTo>
                      <a:pt x="981" y="1044"/>
                      <a:pt x="858" y="1050"/>
                      <a:pt x="808" y="973"/>
                    </a:cubicBezTo>
                    <a:cubicBezTo>
                      <a:pt x="756" y="892"/>
                      <a:pt x="741" y="795"/>
                      <a:pt x="720" y="697"/>
                    </a:cubicBezTo>
                    <a:cubicBezTo>
                      <a:pt x="698" y="594"/>
                      <a:pt x="762" y="452"/>
                      <a:pt x="875" y="491"/>
                    </a:cubicBezTo>
                    <a:cubicBezTo>
                      <a:pt x="932" y="511"/>
                      <a:pt x="1077" y="624"/>
                      <a:pt x="954" y="678"/>
                    </a:cubicBezTo>
                    <a:cubicBezTo>
                      <a:pt x="848" y="724"/>
                      <a:pt x="732" y="734"/>
                      <a:pt x="620" y="760"/>
                    </a:cubicBezTo>
                    <a:cubicBezTo>
                      <a:pt x="474" y="795"/>
                      <a:pt x="564" y="938"/>
                      <a:pt x="640" y="972"/>
                    </a:cubicBezTo>
                    <a:cubicBezTo>
                      <a:pt x="742" y="1017"/>
                      <a:pt x="826" y="938"/>
                      <a:pt x="907" y="897"/>
                    </a:cubicBezTo>
                    <a:cubicBezTo>
                      <a:pt x="1000" y="850"/>
                      <a:pt x="1123" y="906"/>
                      <a:pt x="1148" y="1008"/>
                    </a:cubicBezTo>
                    <a:cubicBezTo>
                      <a:pt x="1172" y="1110"/>
                      <a:pt x="1181" y="1222"/>
                      <a:pt x="1244" y="1310"/>
                    </a:cubicBezTo>
                    <a:cubicBezTo>
                      <a:pt x="1301" y="1390"/>
                      <a:pt x="1423" y="1409"/>
                      <a:pt x="1511" y="1360"/>
                    </a:cubicBezTo>
                    <a:cubicBezTo>
                      <a:pt x="1594" y="1314"/>
                      <a:pt x="1675" y="1202"/>
                      <a:pt x="1630" y="1125"/>
                    </a:cubicBezTo>
                    <a:cubicBezTo>
                      <a:pt x="1576" y="1037"/>
                      <a:pt x="1432" y="1084"/>
                      <a:pt x="1343" y="1122"/>
                    </a:cubicBezTo>
                    <a:cubicBezTo>
                      <a:pt x="1260" y="1159"/>
                      <a:pt x="1178" y="1200"/>
                      <a:pt x="1105" y="1261"/>
                    </a:cubicBezTo>
                    <a:cubicBezTo>
                      <a:pt x="1027" y="1325"/>
                      <a:pt x="954" y="1386"/>
                      <a:pt x="838" y="1396"/>
                    </a:cubicBezTo>
                    <a:cubicBezTo>
                      <a:pt x="737" y="1405"/>
                      <a:pt x="628" y="1428"/>
                      <a:pt x="549" y="1372"/>
                    </a:cubicBezTo>
                    <a:cubicBezTo>
                      <a:pt x="473" y="1317"/>
                      <a:pt x="434" y="1223"/>
                      <a:pt x="388" y="1140"/>
                    </a:cubicBezTo>
                    <a:cubicBezTo>
                      <a:pt x="331" y="1039"/>
                      <a:pt x="320" y="934"/>
                      <a:pt x="290" y="826"/>
                    </a:cubicBezTo>
                    <a:cubicBezTo>
                      <a:pt x="259" y="716"/>
                      <a:pt x="285" y="596"/>
                      <a:pt x="297" y="482"/>
                    </a:cubicBezTo>
                    <a:cubicBezTo>
                      <a:pt x="306" y="381"/>
                      <a:pt x="312" y="271"/>
                      <a:pt x="374" y="185"/>
                    </a:cubicBezTo>
                    <a:cubicBezTo>
                      <a:pt x="425" y="114"/>
                      <a:pt x="528" y="0"/>
                      <a:pt x="605" y="81"/>
                    </a:cubicBezTo>
                    <a:cubicBezTo>
                      <a:pt x="673" y="152"/>
                      <a:pt x="624" y="298"/>
                      <a:pt x="529" y="339"/>
                    </a:cubicBezTo>
                    <a:cubicBezTo>
                      <a:pt x="429" y="382"/>
                      <a:pt x="339" y="458"/>
                      <a:pt x="228" y="468"/>
                    </a:cubicBezTo>
                    <a:cubicBezTo>
                      <a:pt x="142" y="476"/>
                      <a:pt x="0" y="510"/>
                      <a:pt x="13" y="626"/>
                    </a:cubicBezTo>
                    <a:cubicBezTo>
                      <a:pt x="25" y="722"/>
                      <a:pt x="83" y="818"/>
                      <a:pt x="171" y="864"/>
                    </a:cubicBezTo>
                    <a:cubicBezTo>
                      <a:pt x="256" y="908"/>
                      <a:pt x="368" y="869"/>
                      <a:pt x="433" y="796"/>
                    </a:cubicBezTo>
                    <a:cubicBezTo>
                      <a:pt x="493" y="729"/>
                      <a:pt x="524" y="642"/>
                      <a:pt x="567" y="565"/>
                    </a:cubicBezTo>
                    <a:cubicBezTo>
                      <a:pt x="623" y="469"/>
                      <a:pt x="593" y="334"/>
                      <a:pt x="497" y="293"/>
                    </a:cubicBezTo>
                    <a:cubicBezTo>
                      <a:pt x="409" y="255"/>
                      <a:pt x="281" y="277"/>
                      <a:pt x="224" y="198"/>
                    </a:cubicBezTo>
                    <a:cubicBezTo>
                      <a:pt x="158" y="107"/>
                      <a:pt x="324" y="16"/>
                      <a:pt x="417" y="44"/>
                    </a:cubicBezTo>
                    <a:cubicBezTo>
                      <a:pt x="523" y="76"/>
                      <a:pt x="542" y="184"/>
                      <a:pt x="589" y="263"/>
                    </a:cubicBezTo>
                    <a:cubicBezTo>
                      <a:pt x="643" y="355"/>
                      <a:pt x="649" y="467"/>
                      <a:pt x="696" y="565"/>
                    </a:cubicBezTo>
                    <a:cubicBezTo>
                      <a:pt x="750" y="675"/>
                      <a:pt x="791" y="794"/>
                      <a:pt x="862" y="893"/>
                    </a:cubicBezTo>
                    <a:cubicBezTo>
                      <a:pt x="921" y="974"/>
                      <a:pt x="999" y="1041"/>
                      <a:pt x="1079" y="1106"/>
                    </a:cubicBezTo>
                    <a:cubicBezTo>
                      <a:pt x="1149" y="1164"/>
                      <a:pt x="1232" y="1217"/>
                      <a:pt x="1323" y="1210"/>
                    </a:cubicBezTo>
                    <a:cubicBezTo>
                      <a:pt x="1425" y="1201"/>
                      <a:pt x="1491" y="1098"/>
                      <a:pt x="1517" y="1004"/>
                    </a:cubicBezTo>
                    <a:cubicBezTo>
                      <a:pt x="1543" y="910"/>
                      <a:pt x="1491" y="800"/>
                      <a:pt x="1385" y="796"/>
                    </a:cubicBezTo>
                    <a:cubicBezTo>
                      <a:pt x="1261" y="792"/>
                      <a:pt x="1242" y="911"/>
                      <a:pt x="1135" y="936"/>
                    </a:cubicBezTo>
                    <a:cubicBezTo>
                      <a:pt x="1037" y="959"/>
                      <a:pt x="977" y="1055"/>
                      <a:pt x="900" y="1118"/>
                    </a:cubicBezTo>
                    <a:cubicBezTo>
                      <a:pt x="829" y="1176"/>
                      <a:pt x="766" y="1243"/>
                      <a:pt x="675" y="1277"/>
                    </a:cubicBezTo>
                    <a:cubicBezTo>
                      <a:pt x="561" y="1320"/>
                      <a:pt x="458" y="1286"/>
                      <a:pt x="369" y="1238"/>
                    </a:cubicBezTo>
                    <a:cubicBezTo>
                      <a:pt x="269" y="1185"/>
                      <a:pt x="262" y="1047"/>
                      <a:pt x="245" y="944"/>
                    </a:cubicBezTo>
                    <a:cubicBezTo>
                      <a:pt x="225" y="815"/>
                      <a:pt x="238" y="678"/>
                      <a:pt x="292" y="550"/>
                    </a:cubicBezTo>
                    <a:cubicBezTo>
                      <a:pt x="344" y="425"/>
                      <a:pt x="439" y="331"/>
                      <a:pt x="507" y="218"/>
                    </a:cubicBezTo>
                    <a:cubicBezTo>
                      <a:pt x="563" y="124"/>
                      <a:pt x="639" y="34"/>
                      <a:pt x="735" y="31"/>
                    </a:cubicBezTo>
                    <a:cubicBezTo>
                      <a:pt x="854" y="27"/>
                      <a:pt x="808" y="220"/>
                      <a:pt x="779" y="312"/>
                    </a:cubicBezTo>
                    <a:cubicBezTo>
                      <a:pt x="747" y="412"/>
                      <a:pt x="717" y="512"/>
                      <a:pt x="696" y="616"/>
                    </a:cubicBezTo>
                    <a:cubicBezTo>
                      <a:pt x="665" y="758"/>
                      <a:pt x="653" y="902"/>
                      <a:pt x="642" y="1045"/>
                    </a:cubicBezTo>
                    <a:cubicBezTo>
                      <a:pt x="630" y="1178"/>
                      <a:pt x="666" y="1308"/>
                      <a:pt x="685" y="1439"/>
                    </a:cubicBezTo>
                    <a:cubicBezTo>
                      <a:pt x="699" y="1535"/>
                      <a:pt x="777" y="1597"/>
                      <a:pt x="855" y="1636"/>
                    </a:cubicBezTo>
                    <a:cubicBezTo>
                      <a:pt x="950" y="1684"/>
                      <a:pt x="1076" y="1693"/>
                      <a:pt x="1174" y="1634"/>
                    </a:cubicBezTo>
                    <a:cubicBezTo>
                      <a:pt x="1281" y="1570"/>
                      <a:pt x="1240" y="1426"/>
                      <a:pt x="1197" y="1344"/>
                    </a:cubicBezTo>
                    <a:cubicBezTo>
                      <a:pt x="1144" y="1246"/>
                      <a:pt x="1033" y="1271"/>
                      <a:pt x="945" y="1236"/>
                    </a:cubicBezTo>
                    <a:cubicBezTo>
                      <a:pt x="850" y="1198"/>
                      <a:pt x="745" y="1187"/>
                      <a:pt x="651" y="1145"/>
                    </a:cubicBezTo>
                    <a:cubicBezTo>
                      <a:pt x="559" y="1104"/>
                      <a:pt x="471" y="1055"/>
                      <a:pt x="380" y="1011"/>
                    </a:cubicBezTo>
                    <a:cubicBezTo>
                      <a:pt x="295" y="971"/>
                      <a:pt x="209" y="903"/>
                      <a:pt x="192" y="799"/>
                    </a:cubicBezTo>
                    <a:cubicBezTo>
                      <a:pt x="174" y="688"/>
                      <a:pt x="263" y="617"/>
                      <a:pt x="331" y="550"/>
                    </a:cubicBezTo>
                    <a:cubicBezTo>
                      <a:pt x="407" y="477"/>
                      <a:pt x="518" y="415"/>
                      <a:pt x="623" y="445"/>
                    </a:cubicBezTo>
                    <a:cubicBezTo>
                      <a:pt x="717" y="471"/>
                      <a:pt x="817" y="451"/>
                      <a:pt x="904" y="504"/>
                    </a:cubicBezTo>
                    <a:cubicBezTo>
                      <a:pt x="985" y="555"/>
                      <a:pt x="1052" y="626"/>
                      <a:pt x="1133" y="677"/>
                    </a:cubicBezTo>
                    <a:cubicBezTo>
                      <a:pt x="1207" y="725"/>
                      <a:pt x="1254" y="795"/>
                      <a:pt x="1323" y="849"/>
                    </a:cubicBezTo>
                    <a:cubicBezTo>
                      <a:pt x="1397" y="908"/>
                      <a:pt x="1468" y="974"/>
                      <a:pt x="1566" y="993"/>
                    </a:cubicBezTo>
                    <a:cubicBezTo>
                      <a:pt x="1715" y="1021"/>
                      <a:pt x="1705" y="835"/>
                      <a:pt x="1657" y="767"/>
                    </a:cubicBezTo>
                    <a:cubicBezTo>
                      <a:pt x="1609" y="699"/>
                      <a:pt x="1542" y="592"/>
                      <a:pt x="1448" y="631"/>
                    </a:cubicBezTo>
                    <a:cubicBezTo>
                      <a:pt x="1364" y="664"/>
                      <a:pt x="1295" y="746"/>
                      <a:pt x="1284" y="849"/>
                    </a:cubicBezTo>
                    <a:cubicBezTo>
                      <a:pt x="1272" y="957"/>
                      <a:pt x="1281" y="1065"/>
                      <a:pt x="1264" y="1172"/>
                    </a:cubicBezTo>
                    <a:cubicBezTo>
                      <a:pt x="1251" y="1259"/>
                      <a:pt x="1243" y="1366"/>
                      <a:pt x="1154" y="1423"/>
                    </a:cubicBezTo>
                    <a:cubicBezTo>
                      <a:pt x="1063" y="1480"/>
                      <a:pt x="947" y="1510"/>
                      <a:pt x="850" y="1468"/>
                    </a:cubicBezTo>
                    <a:cubicBezTo>
                      <a:pt x="769" y="1433"/>
                      <a:pt x="691" y="1379"/>
                      <a:pt x="644" y="1303"/>
                    </a:cubicBezTo>
                    <a:cubicBezTo>
                      <a:pt x="572" y="1189"/>
                      <a:pt x="602" y="1049"/>
                      <a:pt x="601" y="921"/>
                    </a:cubicBezTo>
                    <a:cubicBezTo>
                      <a:pt x="601" y="822"/>
                      <a:pt x="637" y="721"/>
                      <a:pt x="698" y="638"/>
                    </a:cubicBezTo>
                    <a:cubicBezTo>
                      <a:pt x="773" y="535"/>
                      <a:pt x="905" y="559"/>
                      <a:pt x="1008" y="547"/>
                    </a:cubicBezTo>
                    <a:cubicBezTo>
                      <a:pt x="1085" y="538"/>
                      <a:pt x="1297" y="639"/>
                      <a:pt x="1252" y="454"/>
                    </a:cubicBezTo>
                    <a:cubicBezTo>
                      <a:pt x="1230" y="366"/>
                      <a:pt x="1198" y="273"/>
                      <a:pt x="1116" y="212"/>
                    </a:cubicBezTo>
                    <a:cubicBezTo>
                      <a:pt x="1028" y="147"/>
                      <a:pt x="928" y="141"/>
                      <a:pt x="832" y="108"/>
                    </a:cubicBezTo>
                    <a:cubicBezTo>
                      <a:pt x="737" y="75"/>
                      <a:pt x="595" y="58"/>
                      <a:pt x="517" y="155"/>
                    </a:cubicBezTo>
                    <a:cubicBezTo>
                      <a:pt x="455" y="232"/>
                      <a:pt x="374" y="293"/>
                      <a:pt x="326" y="382"/>
                    </a:cubicBezTo>
                    <a:cubicBezTo>
                      <a:pt x="272" y="483"/>
                      <a:pt x="259" y="599"/>
                      <a:pt x="262" y="711"/>
                    </a:cubicBezTo>
                    <a:cubicBezTo>
                      <a:pt x="266" y="833"/>
                      <a:pt x="301" y="950"/>
                      <a:pt x="324" y="1069"/>
                    </a:cubicBezTo>
                    <a:cubicBezTo>
                      <a:pt x="351" y="1203"/>
                      <a:pt x="500" y="1141"/>
                      <a:pt x="575" y="1115"/>
                    </a:cubicBezTo>
                    <a:cubicBezTo>
                      <a:pt x="665" y="1085"/>
                      <a:pt x="735" y="1013"/>
                      <a:pt x="788" y="936"/>
                    </a:cubicBezTo>
                    <a:lnTo>
                      <a:pt x="843" y="866"/>
                    </a:lnTo>
                    <a:lnTo>
                      <a:pt x="898" y="798"/>
                    </a:lnTo>
                    <a:lnTo>
                      <a:pt x="956" y="762"/>
                    </a:lnTo>
                    <a:lnTo>
                      <a:pt x="973" y="765"/>
                    </a:lnTo>
                  </a:path>
                </a:pathLst>
              </a:custGeom>
              <a:noFill/>
              <a:ln w="9360">
                <a:solidFill>
                  <a:srgbClr val="23ff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1" name="Group 194"/>
              <p:cNvGrpSpPr/>
              <p:nvPr/>
            </p:nvGrpSpPr>
            <p:grpSpPr>
              <a:xfrm>
                <a:off x="906120" y="7403040"/>
                <a:ext cx="363960" cy="315720"/>
                <a:chOff x="906120" y="7403040"/>
                <a:chExt cx="363960" cy="315720"/>
              </a:xfrm>
            </p:grpSpPr>
            <p:sp>
              <p:nvSpPr>
                <p:cNvPr id="252" name="Oval 195"/>
                <p:cNvSpPr/>
                <p:nvPr/>
              </p:nvSpPr>
              <p:spPr>
                <a:xfrm rot="4380000">
                  <a:off x="969840" y="7406640"/>
                  <a:ext cx="235800" cy="308160"/>
                </a:xfrm>
                <a:prstGeom prst="ellipse">
                  <a:avLst/>
                </a:prstGeom>
                <a:noFill/>
                <a:ln w="18000">
                  <a:solidFill>
                    <a:srgbClr val="ff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196"/>
                <p:cNvSpPr/>
                <p:nvPr/>
              </p:nvSpPr>
              <p:spPr>
                <a:xfrm rot="4380000">
                  <a:off x="1085400" y="7391160"/>
                  <a:ext cx="29520" cy="144720"/>
                </a:xfrm>
                <a:custGeom>
                  <a:avLst/>
                  <a:gdLst/>
                  <a:ahLst/>
                  <a:rect l="l" t="t" r="r" b="b"/>
                  <a:pathLst>
                    <a:path w="341" h="1255">
                      <a:moveTo>
                        <a:pt x="58" y="1254"/>
                      </a:moveTo>
                      <a:cubicBezTo>
                        <a:pt x="5" y="1042"/>
                        <a:pt x="25" y="1096"/>
                        <a:pt x="25" y="1096"/>
                      </a:cubicBezTo>
                      <a:lnTo>
                        <a:pt x="0" y="844"/>
                      </a:lnTo>
                      <a:lnTo>
                        <a:pt x="0" y="731"/>
                      </a:lnTo>
                      <a:lnTo>
                        <a:pt x="25" y="580"/>
                      </a:lnTo>
                      <a:lnTo>
                        <a:pt x="50" y="466"/>
                      </a:lnTo>
                      <a:lnTo>
                        <a:pt x="126" y="315"/>
                      </a:lnTo>
                      <a:lnTo>
                        <a:pt x="201" y="164"/>
                      </a:lnTo>
                      <a:lnTo>
                        <a:pt x="277" y="63"/>
                      </a:lnTo>
                      <a:lnTo>
                        <a:pt x="340" y="0"/>
                      </a:lnTo>
                    </a:path>
                  </a:pathLst>
                </a:custGeom>
                <a:noFill/>
                <a:ln w="18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97"/>
                <p:cNvSpPr/>
                <p:nvPr/>
              </p:nvSpPr>
              <p:spPr>
                <a:xfrm rot="4380000">
                  <a:off x="983520" y="7464600"/>
                  <a:ext cx="8280" cy="28440"/>
                </a:xfrm>
                <a:custGeom>
                  <a:avLst/>
                  <a:gdLst/>
                  <a:ahLst/>
                  <a:rect l="l" t="t" r="r" b="b"/>
                  <a:pathLst>
                    <a:path w="102" h="241">
                      <a:moveTo>
                        <a:pt x="0" y="0"/>
                      </a:moveTo>
                      <a:lnTo>
                        <a:pt x="26" y="63"/>
                      </a:lnTo>
                      <a:cubicBezTo>
                        <a:pt x="52" y="126"/>
                        <a:pt x="51" y="177"/>
                        <a:pt x="38" y="177"/>
                      </a:cubicBezTo>
                      <a:cubicBezTo>
                        <a:pt x="25" y="177"/>
                        <a:pt x="101" y="240"/>
                        <a:pt x="101" y="240"/>
                      </a:cubicBezTo>
                    </a:path>
                  </a:pathLst>
                </a:custGeom>
                <a:noFill/>
                <a:ln w="18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98"/>
                <p:cNvSpPr/>
                <p:nvPr/>
              </p:nvSpPr>
              <p:spPr>
                <a:xfrm rot="4380000">
                  <a:off x="1166400" y="743904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0" y="133"/>
                      </a:moveTo>
                      <a:lnTo>
                        <a:pt x="55" y="67"/>
                      </a:lnTo>
                      <a:cubicBezTo>
                        <a:pt x="110" y="1"/>
                        <a:pt x="121" y="0"/>
                        <a:pt x="121" y="0"/>
                      </a:cubicBezTo>
                    </a:path>
                  </a:pathLst>
                </a:custGeom>
                <a:noFill/>
                <a:ln w="180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6" name="Group 199"/>
          <p:cNvGrpSpPr/>
          <p:nvPr/>
        </p:nvGrpSpPr>
        <p:grpSpPr>
          <a:xfrm>
            <a:off x="623880" y="8278920"/>
            <a:ext cx="1452600" cy="1228680"/>
            <a:chOff x="623880" y="8278920"/>
            <a:chExt cx="1452600" cy="1228680"/>
          </a:xfrm>
        </p:grpSpPr>
        <p:sp>
          <p:nvSpPr>
            <p:cNvPr id="257" name="Text Box 200"/>
            <p:cNvSpPr/>
            <p:nvPr/>
          </p:nvSpPr>
          <p:spPr>
            <a:xfrm>
              <a:off x="998640" y="8682480"/>
              <a:ext cx="10778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ewünschtes Prote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201"/>
            <p:cNvSpPr/>
            <p:nvPr/>
          </p:nvSpPr>
          <p:spPr>
            <a:xfrm>
              <a:off x="701640" y="8494560"/>
              <a:ext cx="212760" cy="968040"/>
            </a:xfrm>
            <a:custGeom>
              <a:avLst/>
              <a:gdLst>
                <a:gd name="textAreaLeft" fmla="*/ 360 w 212760"/>
                <a:gd name="textAreaRight" fmla="*/ 212400 w 212760"/>
                <a:gd name="textAreaTop" fmla="*/ 360 h 968040"/>
                <a:gd name="textAreaBottom" fmla="*/ 967680 h 968040"/>
              </a:gdLst>
              <a:ahLst/>
              <a:rect l="textAreaLeft" t="textAreaTop" r="textAreaRight" b="textAreaBottom"/>
              <a:pathLst>
                <a:path w="21600" h="98149">
                  <a:moveTo>
                    <a:pt x="152" y="0"/>
                  </a:moveTo>
                  <a:arcTo wR="152" hR="152" stAng="16200000" swAng="-5400000"/>
                  <a:lnTo>
                    <a:pt x="0" y="97997"/>
                  </a:lnTo>
                  <a:arcTo wR="152" hR="152" stAng="10800000" swAng="-5400000"/>
                  <a:lnTo>
                    <a:pt x="21448" y="98149"/>
                  </a:lnTo>
                  <a:arcTo wR="152" hR="152" stAng="5400000" swAng="-5400000"/>
                  <a:lnTo>
                    <a:pt x="21600" y="152"/>
                  </a:lnTo>
                  <a:arcTo wR="152" hR="152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02"/>
            <p:cNvSpPr/>
            <p:nvPr/>
          </p:nvSpPr>
          <p:spPr>
            <a:xfrm rot="21480000">
              <a:off x="707760" y="9338400"/>
              <a:ext cx="206280" cy="1652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03"/>
            <p:cNvSpPr/>
            <p:nvPr/>
          </p:nvSpPr>
          <p:spPr>
            <a:xfrm rot="21480000">
              <a:off x="726840" y="8577360"/>
              <a:ext cx="52200" cy="4104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04"/>
            <p:cNvSpPr/>
            <p:nvPr/>
          </p:nvSpPr>
          <p:spPr>
            <a:xfrm rot="21480000">
              <a:off x="736200" y="8844120"/>
              <a:ext cx="50760" cy="396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05"/>
            <p:cNvSpPr/>
            <p:nvPr/>
          </p:nvSpPr>
          <p:spPr>
            <a:xfrm rot="21480000">
              <a:off x="738000" y="8926920"/>
              <a:ext cx="50760" cy="396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06"/>
            <p:cNvSpPr/>
            <p:nvPr/>
          </p:nvSpPr>
          <p:spPr>
            <a:xfrm rot="21480000">
              <a:off x="740880" y="9036360"/>
              <a:ext cx="50760" cy="396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207"/>
            <p:cNvSpPr/>
            <p:nvPr/>
          </p:nvSpPr>
          <p:spPr>
            <a:xfrm rot="21480000">
              <a:off x="815760" y="8936280"/>
              <a:ext cx="50760" cy="3996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208"/>
            <p:cNvSpPr/>
            <p:nvPr/>
          </p:nvSpPr>
          <p:spPr>
            <a:xfrm rot="21480000">
              <a:off x="744120" y="9145800"/>
              <a:ext cx="50760" cy="414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209"/>
            <p:cNvSpPr/>
            <p:nvPr/>
          </p:nvSpPr>
          <p:spPr>
            <a:xfrm rot="21480000">
              <a:off x="812520" y="9087120"/>
              <a:ext cx="50760" cy="396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210"/>
            <p:cNvSpPr/>
            <p:nvPr/>
          </p:nvSpPr>
          <p:spPr>
            <a:xfrm rot="21480000">
              <a:off x="772920" y="8720640"/>
              <a:ext cx="52200" cy="396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211"/>
            <p:cNvSpPr/>
            <p:nvPr/>
          </p:nvSpPr>
          <p:spPr>
            <a:xfrm rot="21480000">
              <a:off x="711000" y="8672400"/>
              <a:ext cx="50760" cy="3996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212"/>
            <p:cNvSpPr/>
            <p:nvPr/>
          </p:nvSpPr>
          <p:spPr>
            <a:xfrm rot="21480000">
              <a:off x="809280" y="9260640"/>
              <a:ext cx="50760" cy="396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213"/>
            <p:cNvSpPr/>
            <p:nvPr/>
          </p:nvSpPr>
          <p:spPr>
            <a:xfrm rot="21480000">
              <a:off x="738000" y="9336960"/>
              <a:ext cx="50760" cy="4104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14"/>
            <p:cNvSpPr/>
            <p:nvPr/>
          </p:nvSpPr>
          <p:spPr>
            <a:xfrm rot="21480000">
              <a:off x="806040" y="9393840"/>
              <a:ext cx="50760" cy="3996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15"/>
            <p:cNvSpPr/>
            <p:nvPr/>
          </p:nvSpPr>
          <p:spPr>
            <a:xfrm rot="21480000">
              <a:off x="806040" y="8543520"/>
              <a:ext cx="50760" cy="3960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216"/>
            <p:cNvSpPr/>
            <p:nvPr/>
          </p:nvSpPr>
          <p:spPr>
            <a:xfrm flipH="1">
              <a:off x="799920" y="8825400"/>
              <a:ext cx="2696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Group 217"/>
            <p:cNvGrpSpPr/>
            <p:nvPr/>
          </p:nvGrpSpPr>
          <p:grpSpPr>
            <a:xfrm>
              <a:off x="623880" y="8278920"/>
              <a:ext cx="366840" cy="1222920"/>
              <a:chOff x="623880" y="8278920"/>
              <a:chExt cx="366840" cy="1222920"/>
            </a:xfrm>
          </p:grpSpPr>
          <p:sp>
            <p:nvSpPr>
              <p:cNvPr id="275" name="Line 218"/>
              <p:cNvSpPr/>
              <p:nvPr/>
            </p:nvSpPr>
            <p:spPr>
              <a:xfrm>
                <a:off x="706320" y="8319600"/>
                <a:ext cx="1800" cy="1099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219"/>
              <p:cNvSpPr/>
              <p:nvPr/>
            </p:nvSpPr>
            <p:spPr>
              <a:xfrm>
                <a:off x="911160" y="8319600"/>
                <a:ext cx="1800" cy="1099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AutoShape 220"/>
              <p:cNvSpPr/>
              <p:nvPr/>
            </p:nvSpPr>
            <p:spPr>
              <a:xfrm flipH="1" flipV="1">
                <a:off x="704880" y="9342000"/>
                <a:ext cx="162000" cy="158400"/>
              </a:xfrm>
              <a:custGeom>
                <a:avLst/>
                <a:gdLst>
                  <a:gd name="textAreaLeft" fmla="*/ 81000 w 162000"/>
                  <a:gd name="textAreaRight" fmla="*/ 162360 w 162000"/>
                  <a:gd name="textAreaTop" fmla="*/ 0 h 158400"/>
                  <a:gd name="textAreaBottom" fmla="*/ 79200 h 158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AutoShape 221"/>
              <p:cNvSpPr/>
              <p:nvPr/>
            </p:nvSpPr>
            <p:spPr>
              <a:xfrm flipV="1">
                <a:off x="665280" y="9343440"/>
                <a:ext cx="242640" cy="158400"/>
              </a:xfrm>
              <a:custGeom>
                <a:avLst/>
                <a:gdLst>
                  <a:gd name="textAreaLeft" fmla="*/ 120600 w 242640"/>
                  <a:gd name="textAreaRight" fmla="*/ 243000 w 242640"/>
                  <a:gd name="textAreaTop" fmla="*/ 0 h 158400"/>
                  <a:gd name="textAreaBottom" fmla="*/ 79200 h 158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AutoShape 222"/>
              <p:cNvSpPr/>
              <p:nvPr/>
            </p:nvSpPr>
            <p:spPr>
              <a:xfrm flipH="1">
                <a:off x="907920" y="8278920"/>
                <a:ext cx="82800" cy="80640"/>
              </a:xfrm>
              <a:custGeom>
                <a:avLst/>
                <a:gdLst>
                  <a:gd name="textAreaLeft" fmla="*/ 41400 w 82800"/>
                  <a:gd name="textAreaRight" fmla="*/ 83160 w 82800"/>
                  <a:gd name="textAreaTop" fmla="*/ 0 h 80640"/>
                  <a:gd name="textAreaBottom" fmla="*/ 39600 h 80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AutoShape 223"/>
              <p:cNvSpPr/>
              <p:nvPr/>
            </p:nvSpPr>
            <p:spPr>
              <a:xfrm>
                <a:off x="623880" y="8278920"/>
                <a:ext cx="82440" cy="80640"/>
              </a:xfrm>
              <a:custGeom>
                <a:avLst/>
                <a:gdLst>
                  <a:gd name="textAreaLeft" fmla="*/ 41400 w 82440"/>
                  <a:gd name="textAreaRight" fmla="*/ 82800 w 82440"/>
                  <a:gd name="textAreaTop" fmla="*/ 0 h 80640"/>
                  <a:gd name="textAreaBottom" fmla="*/ 39600 h 80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224"/>
              <p:cNvSpPr/>
              <p:nvPr/>
            </p:nvSpPr>
            <p:spPr>
              <a:xfrm>
                <a:off x="665280" y="8280000"/>
                <a:ext cx="285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43:52Z</dcterms:created>
  <dc:creator/>
  <dc:description/>
  <dc:language>en-US</dc:language>
  <cp:lastModifiedBy/>
  <cp:lastPrinted>2009-04-14T08:50:26Z</cp:lastPrinted>
  <dcterms:modified xsi:type="dcterms:W3CDTF">2011-02-28T16:57:24Z</dcterms:modified>
  <cp:revision>15</cp:revision>
  <dc:subject/>
  <dc:title/>
</cp:coreProperties>
</file>