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4" y="0"/>
                </a:moveTo>
                <a:arcTo wR="4" hR="4" stAng="16200000" swAng="-5400000"/>
                <a:lnTo>
                  <a:pt x="0" y="32146"/>
                </a:lnTo>
                <a:arcTo wR="4" hR="4" stAng="10800000" swAng="-5400000"/>
                <a:lnTo>
                  <a:pt x="21596" y="321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55360" y="753840"/>
            <a:ext cx="4946760" cy="37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4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28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9428040"/>
            <a:ext cx="28828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774960" y="9428040"/>
            <a:ext cx="28828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203FA03D-95E8-4EEF-9E1E-BE383DB44CF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3"/>
          <p:cNvSpPr/>
          <p:nvPr/>
        </p:nvSpPr>
        <p:spPr>
          <a:xfrm>
            <a:off x="3774960" y="9428040"/>
            <a:ext cx="2882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4000"/>
                <a:tab algn="l" pos="1631880"/>
                <a:tab algn="l" pos="2041560"/>
                <a:tab algn="l" pos="2449440"/>
                <a:tab algn="l" pos="2857680"/>
                <a:tab algn="l" pos="3267000"/>
                <a:tab algn="l" pos="3675240"/>
                <a:tab algn="l" pos="4083120"/>
                <a:tab algn="l" pos="4491000"/>
                <a:tab algn="l" pos="4900680"/>
                <a:tab algn="l" pos="5308560"/>
                <a:tab algn="l" pos="5716440"/>
                <a:tab algn="l" pos="6126120"/>
                <a:tab algn="l" pos="6534000"/>
                <a:tab algn="l" pos="6942240"/>
                <a:tab algn="l" pos="7351560"/>
                <a:tab algn="l" pos="7759800"/>
                <a:tab algn="l" pos="81676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69F1E9B4-0AFB-44FE-A1C5-728BBB454E5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976320" y="754200"/>
            <a:ext cx="47149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8"/>
          <p:cNvSpPr/>
          <p:nvPr/>
        </p:nvSpPr>
        <p:spPr>
          <a:xfrm>
            <a:off x="123120" y="7164360"/>
            <a:ext cx="7617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Symbol"/>
                <a:ea typeface="Symbol"/>
              </a:rPr>
              <a:t></a:t>
            </a: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Arial"/>
              </a:rPr>
              <a:t>Staatsinstitut für Schulqualität und Bildungsforschung, AK-Linkebene Biologie, Florian Bernhard, März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5326200" y="1916280"/>
            <a:ext cx="4547880" cy="5319720"/>
          </a:xfrm>
          <a:custGeom>
            <a:avLst/>
            <a:gdLst>
              <a:gd name="textAreaLeft" fmla="*/ 360 w 4547880"/>
              <a:gd name="textAreaRight" fmla="*/ 4547520 w 4547880"/>
              <a:gd name="textAreaTop" fmla="*/ 360 h 5319720"/>
              <a:gd name="textAreaBottom" fmla="*/ 5319360 h 5319720"/>
            </a:gdLst>
            <a:ahLst/>
            <a:rect l="textAreaLeft" t="textAreaTop" r="textAreaRight" b="textAreaBottom"/>
            <a:pathLst>
              <a:path w="21600" h="25266">
                <a:moveTo>
                  <a:pt x="7" y="0"/>
                </a:moveTo>
                <a:arcTo wR="7" hR="7" stAng="16200000" swAng="-5400000"/>
                <a:lnTo>
                  <a:pt x="0" y="25259"/>
                </a:lnTo>
                <a:arcTo wR="7" hR="7" stAng="10800000" swAng="-5400000"/>
                <a:lnTo>
                  <a:pt x="21593" y="25266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93600" y="1938240"/>
            <a:ext cx="4870440" cy="5272200"/>
          </a:xfrm>
          <a:custGeom>
            <a:avLst/>
            <a:gdLst>
              <a:gd name="textAreaLeft" fmla="*/ 360 w 4870440"/>
              <a:gd name="textAreaRight" fmla="*/ 4870080 w 4870440"/>
              <a:gd name="textAreaTop" fmla="*/ 360 h 5272200"/>
              <a:gd name="textAreaBottom" fmla="*/ 5271840 h 5272200"/>
            </a:gdLst>
            <a:ahLst/>
            <a:rect l="textAreaLeft" t="textAreaTop" r="textAreaRight" b="textAreaBottom"/>
            <a:pathLst>
              <a:path w="21600" h="23382">
                <a:moveTo>
                  <a:pt x="7" y="0"/>
                </a:moveTo>
                <a:arcTo wR="7" hR="7" stAng="16200000" swAng="-5400000"/>
                <a:lnTo>
                  <a:pt x="0" y="23375"/>
                </a:lnTo>
                <a:arcTo wR="7" hR="7" stAng="10800000" swAng="-5400000"/>
                <a:lnTo>
                  <a:pt x="21593" y="23382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5137200" y="0"/>
            <a:ext cx="1440" cy="7559640"/>
          </a:xfrm>
          <a:custGeom>
            <a:avLst/>
            <a:gdLst/>
            <a:ahLst/>
            <a:rect l="l" t="t" r="r" b="b"/>
            <a:pathLst>
              <a:path w="1" h="21001">
                <a:moveTo>
                  <a:pt x="0" y="0"/>
                </a:moveTo>
                <a:lnTo>
                  <a:pt x="0" y="21000"/>
                </a:lnTo>
              </a:path>
            </a:pathLst>
          </a:custGeom>
          <a:noFill/>
          <a:ln w="72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1280" y="1332000"/>
            <a:ext cx="4896000" cy="539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rgumente von Gentechnik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egner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27640" y="1332000"/>
            <a:ext cx="4537080" cy="539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rgumente von Gentechnik-Befürworter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3595680"/>
            <a:ext cx="51339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ntechnik reduziert die Artenvielfa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2897280"/>
            <a:ext cx="4937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Wirkung auf die menschliche Gesundheit ist ungeklä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5338800"/>
            <a:ext cx="48974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tente schaffen Abhängigkeiten und Monop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0" y="2160720"/>
            <a:ext cx="496404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ntechnisch veränderte Organismen können sich unkontrolliert ausbreite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0" y="4024440"/>
            <a:ext cx="411804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ise für gentechnikfreie Lebensmittel stei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0" y="4695840"/>
            <a:ext cx="5407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ntechnik hilft (bisher) nicht ge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n Hun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111640" y="2075040"/>
            <a:ext cx="4829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rch Gentechnik lässt sich die Zucht viel effektiver durchfüh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110200" y="2786040"/>
            <a:ext cx="482904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ntechnik kann völlig neue Eigenschaften in Pflanzen erzeugen und damit neue Anbauflächen erschließ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137200" y="5032440"/>
            <a:ext cx="48290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gentechnisch veränderten Pflanzen können in Zukunft helfen, sowohl die Ernährung als auch die Energieversorgung der Weltbevölkerung sicherzustel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157720" y="4017960"/>
            <a:ext cx="4527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ntechnisch veränderte Pflanzen verringern den Gifteinsatz zur Schädlingsbekämpfu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33200" y="174600"/>
            <a:ext cx="9825120" cy="1012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Gentechnik zur Herstellung von Hormonen und Enzymen ist weitgehend akzeptiert. Die eigentliche Diskussion wird um Lebewesen, die als Nahrungsmittel dienen, gefüh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0" y="5970600"/>
            <a:ext cx="48974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ntechnik greift unrechtmäßig in die Schöpfung e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181480" y="6559560"/>
            <a:ext cx="48974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0" y="6588000"/>
            <a:ext cx="4897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lvl="1" marL="420840" indent="-21132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49:25Z</dcterms:created>
  <dc:creator/>
  <dc:description/>
  <dc:language>en-US</dc:language>
  <cp:lastModifiedBy/>
  <dcterms:modified xsi:type="dcterms:W3CDTF">2011-02-28T17:05:55Z</dcterms:modified>
  <cp:revision>13</cp:revision>
  <dc:subject/>
  <dc:title/>
</cp:coreProperties>
</file>