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8"/>
          <p:cNvSpPr/>
          <p:nvPr/>
        </p:nvSpPr>
        <p:spPr>
          <a:xfrm>
            <a:off x="231480" y="6539040"/>
            <a:ext cx="74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Symbol"/>
                <a:ea typeface="Symbol"/>
              </a:rPr>
              <a:t>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  <a:ea typeface="Arial"/>
              </a:rPr>
              <a:t>Staatsinstitut für Schulqualität und Bildungsforschung, AK-Linkebene Biologie, Sylvia Wengler, März 2011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1284120" y="256536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Comic Sans MS"/>
              </a:rPr>
              <a:t>Vom Gen zum Merkmal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4"/>
          <p:cNvSpPr/>
          <p:nvPr/>
        </p:nvSpPr>
        <p:spPr>
          <a:xfrm>
            <a:off x="745560" y="18900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Fließbandarbeit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Entstehung einer Marmeladensemm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" name="Picture 5" descr="Marmeladensemmel-001"/>
          <p:cNvPicPr/>
          <p:nvPr/>
        </p:nvPicPr>
        <p:blipFill>
          <a:blip r:embed="rId1"/>
          <a:stretch/>
        </p:blipFill>
        <p:spPr>
          <a:xfrm>
            <a:off x="971640" y="1413000"/>
            <a:ext cx="2736720" cy="20509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6" descr="Marmeladensemmel-004"/>
          <p:cNvPicPr/>
          <p:nvPr/>
        </p:nvPicPr>
        <p:blipFill>
          <a:blip r:embed="rId2"/>
          <a:stretch/>
        </p:blipFill>
        <p:spPr>
          <a:xfrm>
            <a:off x="5292720" y="3789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41" name="Line 7"/>
          <p:cNvSpPr/>
          <p:nvPr/>
        </p:nvSpPr>
        <p:spPr>
          <a:xfrm>
            <a:off x="3851280" y="2852640"/>
            <a:ext cx="129708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356000" y="258588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Frutiger SAIN Bd v.1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5"/>
          <p:cNvSpPr/>
          <p:nvPr/>
        </p:nvSpPr>
        <p:spPr>
          <a:xfrm>
            <a:off x="694800" y="260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Entstehung einer Marmeladensemm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508720" y="3068640"/>
            <a:ext cx="19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schmier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203640" y="3068640"/>
            <a:ext cx="1982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schneide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044720" y="3068640"/>
            <a:ext cx="19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packt a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508720" y="162864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419640" y="1628640"/>
            <a:ext cx="172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4720" y="1628640"/>
            <a:ext cx="2017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Line 26"/>
          <p:cNvSpPr/>
          <p:nvPr/>
        </p:nvSpPr>
        <p:spPr>
          <a:xfrm>
            <a:off x="1979640" y="220356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ine 27"/>
          <p:cNvSpPr/>
          <p:nvPr/>
        </p:nvSpPr>
        <p:spPr>
          <a:xfrm>
            <a:off x="4211640" y="220356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ine 28"/>
          <p:cNvSpPr/>
          <p:nvPr/>
        </p:nvSpPr>
        <p:spPr>
          <a:xfrm>
            <a:off x="6516720" y="220356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29"/>
          <p:cNvSpPr/>
          <p:nvPr/>
        </p:nvSpPr>
        <p:spPr>
          <a:xfrm>
            <a:off x="1979640" y="364500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30"/>
          <p:cNvSpPr/>
          <p:nvPr/>
        </p:nvSpPr>
        <p:spPr>
          <a:xfrm>
            <a:off x="4211640" y="364500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31"/>
          <p:cNvSpPr/>
          <p:nvPr/>
        </p:nvSpPr>
        <p:spPr>
          <a:xfrm>
            <a:off x="6516720" y="364500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1403280" y="515628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3637080" y="515628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34"/>
          <p:cNvSpPr/>
          <p:nvPr/>
        </p:nvSpPr>
        <p:spPr>
          <a:xfrm>
            <a:off x="6013440" y="515628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37" descr="Marmeladensemmel-001"/>
          <p:cNvPicPr/>
          <p:nvPr/>
        </p:nvPicPr>
        <p:blipFill>
          <a:blip r:embed="rId1"/>
          <a:stretch/>
        </p:blipFill>
        <p:spPr>
          <a:xfrm>
            <a:off x="611280" y="472428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Marmeladensemmel-004"/>
          <p:cNvPicPr/>
          <p:nvPr/>
        </p:nvPicPr>
        <p:blipFill>
          <a:blip r:embed="rId2"/>
          <a:stretch/>
        </p:blipFill>
        <p:spPr>
          <a:xfrm>
            <a:off x="7308720" y="4681440"/>
            <a:ext cx="1208160" cy="90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9" descr="Marmeladensemmel-002"/>
          <p:cNvPicPr/>
          <p:nvPr/>
        </p:nvPicPr>
        <p:blipFill>
          <a:blip r:embed="rId3"/>
          <a:stretch/>
        </p:blipFill>
        <p:spPr>
          <a:xfrm>
            <a:off x="2700360" y="472428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0" descr="Marmeladensemmel-003"/>
          <p:cNvPicPr/>
          <p:nvPr/>
        </p:nvPicPr>
        <p:blipFill>
          <a:blip r:embed="rId4"/>
          <a:stretch/>
        </p:blipFill>
        <p:spPr>
          <a:xfrm>
            <a:off x="4932360" y="4724280"/>
            <a:ext cx="1152360" cy="865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0" descr="Marmeladensemmel-004"/>
          <p:cNvPicPr/>
          <p:nvPr/>
        </p:nvPicPr>
        <p:blipFill>
          <a:blip r:embed="rId1"/>
          <a:stretch/>
        </p:blipFill>
        <p:spPr>
          <a:xfrm>
            <a:off x="7272360" y="4570560"/>
            <a:ext cx="1208160" cy="906480"/>
          </a:xfrm>
          <a:prstGeom prst="rect">
            <a:avLst/>
          </a:prstGeom>
          <a:ln w="0">
            <a:noFill/>
          </a:ln>
        </p:spPr>
      </p:pic>
      <p:sp>
        <p:nvSpPr>
          <p:cNvPr id="64" name="Line 18"/>
          <p:cNvSpPr/>
          <p:nvPr/>
        </p:nvSpPr>
        <p:spPr>
          <a:xfrm>
            <a:off x="5977080" y="512280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9" descr="Marmeladensemmel-003"/>
          <p:cNvPicPr/>
          <p:nvPr/>
        </p:nvPicPr>
        <p:blipFill>
          <a:blip r:embed="rId2"/>
          <a:stretch/>
        </p:blipFill>
        <p:spPr>
          <a:xfrm>
            <a:off x="4896000" y="4619520"/>
            <a:ext cx="1152360" cy="865440"/>
          </a:xfrm>
          <a:prstGeom prst="rect">
            <a:avLst/>
          </a:prstGeom>
          <a:ln w="0">
            <a:noFill/>
          </a:ln>
        </p:spPr>
      </p:pic>
      <p:sp>
        <p:nvSpPr>
          <p:cNvPr id="66" name="Line 17"/>
          <p:cNvSpPr/>
          <p:nvPr/>
        </p:nvSpPr>
        <p:spPr>
          <a:xfrm>
            <a:off x="3600360" y="512280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38" descr="Marmeladensemmel-002"/>
          <p:cNvPicPr/>
          <p:nvPr/>
        </p:nvPicPr>
        <p:blipFill>
          <a:blip r:embed="rId3"/>
          <a:stretch/>
        </p:blipFill>
        <p:spPr>
          <a:xfrm>
            <a:off x="2664000" y="46195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68" name="Line 16"/>
          <p:cNvSpPr/>
          <p:nvPr/>
        </p:nvSpPr>
        <p:spPr>
          <a:xfrm>
            <a:off x="1366920" y="512280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47640" y="5522760"/>
            <a:ext cx="122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Eduk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647640" y="5522760"/>
            <a:ext cx="122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Eduk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37" descr="Marmeladensemmel-001"/>
          <p:cNvPicPr/>
          <p:nvPr/>
        </p:nvPicPr>
        <p:blipFill>
          <a:blip r:embed="rId4"/>
          <a:stretch/>
        </p:blipFill>
        <p:spPr>
          <a:xfrm>
            <a:off x="611280" y="4603680"/>
            <a:ext cx="115236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94800" y="260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Entstehung einer Marmeladensemm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472000" y="3035160"/>
            <a:ext cx="1982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schmier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166920" y="3035160"/>
            <a:ext cx="1982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schneide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08000" y="3035160"/>
            <a:ext cx="1982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packt a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472000" y="159552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382920" y="1595520"/>
            <a:ext cx="172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008000" y="1595520"/>
            <a:ext cx="201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Schüler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1943280" y="2170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4175280" y="2170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6480000" y="2170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1943280" y="36115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175280" y="36115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6480000" y="36115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3432240" y="159552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5688000" y="159552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230480" y="304020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3454560" y="30351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711760" y="30351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863640" y="490680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2951280" y="487188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5111640" y="4871880"/>
            <a:ext cx="5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703600" y="5554800"/>
            <a:ext cx="2950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Zwischenproduk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7272360" y="5554800"/>
            <a:ext cx="136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1224000" y="159552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7559640" y="48355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923920" y="25704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Genwirkket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0"/>
          <p:cNvSpPr/>
          <p:nvPr/>
        </p:nvSpPr>
        <p:spPr>
          <a:xfrm>
            <a:off x="1906560" y="1954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4138560" y="1954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6443640" y="19540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1906560" y="339552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4138560" y="339552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6443640" y="339552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330200" y="490680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3564000" y="490680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940360" y="490680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3395520" y="137952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5651640" y="137952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1193760" y="282420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3417840" y="281952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5675400" y="281952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826920" y="4691160"/>
            <a:ext cx="5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2914560" y="4656240"/>
            <a:ext cx="5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5280" y="465624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611280" y="5307120"/>
            <a:ext cx="122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Eduk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2666880" y="5338800"/>
            <a:ext cx="295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Zwischenproduk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7236000" y="5338800"/>
            <a:ext cx="136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187280" y="137952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7523280" y="46195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3068280" y="25704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Genwirkket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5"/>
          <p:cNvSpPr/>
          <p:nvPr/>
        </p:nvSpPr>
        <p:spPr>
          <a:xfrm>
            <a:off x="3851280" y="3151080"/>
            <a:ext cx="129708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356000" y="288432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Frutiger SAIN Bd v.1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86680" y="404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Genwirkkett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Entstehung eines roten Blütenfarbstoff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4901400" y="3663720"/>
            <a:ext cx="2582280" cy="2359080"/>
            <a:chOff x="4901400" y="3663720"/>
            <a:chExt cx="2582280" cy="2359080"/>
          </a:xfrm>
        </p:grpSpPr>
        <p:sp>
          <p:nvSpPr>
            <p:cNvPr id="125" name="AutoShape 10"/>
            <p:cNvSpPr/>
            <p:nvPr/>
          </p:nvSpPr>
          <p:spPr>
            <a:xfrm rot="710400">
              <a:off x="5076720" y="3871800"/>
              <a:ext cx="2231280" cy="1942560"/>
            </a:xfrm>
            <a:custGeom>
              <a:avLst/>
              <a:gdLst>
                <a:gd name="textAreaLeft" fmla="*/ 509400 w 2231280"/>
                <a:gd name="textAreaRight" fmla="*/ 1721880 w 2231280"/>
                <a:gd name="textAreaTop" fmla="*/ 443520 h 1942560"/>
                <a:gd name="textAreaBottom" fmla="*/ 1499040 h 19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5934960" y="4607640"/>
              <a:ext cx="514440" cy="48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Group 13"/>
          <p:cNvGrpSpPr/>
          <p:nvPr/>
        </p:nvGrpSpPr>
        <p:grpSpPr>
          <a:xfrm>
            <a:off x="2347920" y="1766880"/>
            <a:ext cx="1081080" cy="1345680"/>
            <a:chOff x="2347920" y="1766880"/>
            <a:chExt cx="1081080" cy="1345680"/>
          </a:xfrm>
        </p:grpSpPr>
        <p:sp>
          <p:nvSpPr>
            <p:cNvPr id="128" name="Text Box 8"/>
            <p:cNvSpPr/>
            <p:nvPr/>
          </p:nvSpPr>
          <p:spPr>
            <a:xfrm>
              <a:off x="2556000" y="2287440"/>
              <a:ext cx="7207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2347920" y="1766880"/>
              <a:ext cx="10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ff"/>
                  </a:solidFill>
                  <a:latin typeface="Comic Sans MS"/>
                </a:rPr>
                <a:t>Eduk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611280" y="141444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43280" y="141444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84720" y="140652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57360" y="285444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873520" y="285444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084720" y="2854440"/>
            <a:ext cx="151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50920" y="465444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195640" y="465444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367160" y="4718160"/>
            <a:ext cx="1871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gelb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Blütenfarbstoff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256520" y="4670280"/>
            <a:ext cx="18000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Comic Sans MS"/>
              </a:rPr>
              <a:t>rot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Comic Sans MS"/>
              </a:rPr>
              <a:t>Blütenfarbstoff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403280" y="198900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3635280" y="198900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6804000" y="198900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1403280" y="343044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3635280" y="343044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6804000" y="3430440"/>
            <a:ext cx="0" cy="1295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826920" y="494172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060720" y="494172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6372360" y="4941720"/>
            <a:ext cx="863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886680" y="10620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Genwirkkett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Entstehung eines roten Blütenfarbstoff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" name="Group 38"/>
          <p:cNvGrpSpPr/>
          <p:nvPr/>
        </p:nvGrpSpPr>
        <p:grpSpPr>
          <a:xfrm>
            <a:off x="7124760" y="5391000"/>
            <a:ext cx="1588680" cy="1478520"/>
            <a:chOff x="7124760" y="5391000"/>
            <a:chExt cx="1588680" cy="1478520"/>
          </a:xfrm>
        </p:grpSpPr>
        <p:sp>
          <p:nvSpPr>
            <p:cNvPr id="151" name="AutoShape 31"/>
            <p:cNvSpPr/>
            <p:nvPr/>
          </p:nvSpPr>
          <p:spPr>
            <a:xfrm rot="710400">
              <a:off x="7235640" y="5518080"/>
              <a:ext cx="1366560" cy="1224000"/>
            </a:xfrm>
            <a:custGeom>
              <a:avLst/>
              <a:gdLst>
                <a:gd name="textAreaLeft" fmla="*/ 311760 w 1366560"/>
                <a:gd name="textAreaRight" fmla="*/ 1054800 w 1366560"/>
                <a:gd name="textAreaTop" fmla="*/ 279360 h 1224000"/>
                <a:gd name="textAreaBottom" fmla="*/ 94464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7761240" y="5981400"/>
              <a:ext cx="316080" cy="30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3" name="Group 37"/>
          <p:cNvGrpSpPr/>
          <p:nvPr/>
        </p:nvGrpSpPr>
        <p:grpSpPr>
          <a:xfrm>
            <a:off x="7124760" y="5391000"/>
            <a:ext cx="1588680" cy="1478520"/>
            <a:chOff x="7124760" y="5391000"/>
            <a:chExt cx="1588680" cy="1478520"/>
          </a:xfrm>
        </p:grpSpPr>
        <p:sp>
          <p:nvSpPr>
            <p:cNvPr id="154" name="AutoShape 33"/>
            <p:cNvSpPr/>
            <p:nvPr/>
          </p:nvSpPr>
          <p:spPr>
            <a:xfrm rot="710400">
              <a:off x="7235640" y="5518080"/>
              <a:ext cx="1366560" cy="1224000"/>
            </a:xfrm>
            <a:custGeom>
              <a:avLst/>
              <a:gdLst>
                <a:gd name="textAreaLeft" fmla="*/ 311760 w 1366560"/>
                <a:gd name="textAreaRight" fmla="*/ 1054800 w 1366560"/>
                <a:gd name="textAreaTop" fmla="*/ 279360 h 1224000"/>
                <a:gd name="textAreaBottom" fmla="*/ 94464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>
              <a:off x="7761240" y="5981400"/>
              <a:ext cx="316080" cy="30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 thruBlk="true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0"/>
          <p:cNvSpPr/>
          <p:nvPr/>
        </p:nvSpPr>
        <p:spPr>
          <a:xfrm>
            <a:off x="5299200" y="2565360"/>
            <a:ext cx="305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defektes Enzym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364000" y="1125360"/>
            <a:ext cx="2880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mutiertes 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611280" y="112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843280" y="112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84720" y="111744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57360" y="25653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73520" y="256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50920" y="43657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195640" y="43657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367160" y="4429080"/>
            <a:ext cx="1871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gelb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Blütenfarbstoff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40328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363528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680400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1403280" y="31417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3635280" y="31417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826920" y="465300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3060720" y="465300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6336000" y="4683240"/>
            <a:ext cx="1774080" cy="1718640"/>
            <a:chOff x="6336000" y="4683240"/>
            <a:chExt cx="1774080" cy="1718640"/>
          </a:xfrm>
        </p:grpSpPr>
        <p:sp>
          <p:nvSpPr>
            <p:cNvPr id="174" name="AutoShape 23"/>
            <p:cNvSpPr/>
            <p:nvPr/>
          </p:nvSpPr>
          <p:spPr>
            <a:xfrm rot="710400">
              <a:off x="6467400" y="4822920"/>
              <a:ext cx="1510920" cy="1439280"/>
            </a:xfrm>
            <a:custGeom>
              <a:avLst/>
              <a:gdLst>
                <a:gd name="textAreaLeft" fmla="*/ 344880 w 1510920"/>
                <a:gd name="textAreaRight" fmla="*/ 1166040 w 1510920"/>
                <a:gd name="textAreaTop" fmla="*/ 328320 h 1439280"/>
                <a:gd name="textAreaBottom" fmla="*/ 1110960 h 143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24"/>
            <p:cNvSpPr/>
            <p:nvPr/>
          </p:nvSpPr>
          <p:spPr>
            <a:xfrm>
              <a:off x="7048800" y="5367600"/>
              <a:ext cx="347760" cy="360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" name="Text Box 28"/>
          <p:cNvSpPr/>
          <p:nvPr/>
        </p:nvSpPr>
        <p:spPr>
          <a:xfrm>
            <a:off x="1481760" y="260280"/>
            <a:ext cx="61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Folgen einer Mutation des Gens 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5299200" y="2565360"/>
            <a:ext cx="305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defektes Enzym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64000" y="1125360"/>
            <a:ext cx="2880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mutiertes Gen 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12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843280" y="112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omic Sans MS"/>
              </a:rPr>
              <a:t>Gen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57360" y="25653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873520" y="2565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mic Sans MS"/>
              </a:rPr>
              <a:t>Enzym 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50920" y="43657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195640" y="4365720"/>
            <a:ext cx="50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367160" y="4429080"/>
            <a:ext cx="1871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gelb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mic Sans MS"/>
              </a:rPr>
              <a:t>Blütenfarbstoff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40328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363528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04000" y="1700280"/>
            <a:ext cx="0" cy="72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1403280" y="31417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3635280" y="3141720"/>
            <a:ext cx="0" cy="1295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826920" y="465300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060720" y="4653000"/>
            <a:ext cx="12952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Group 19"/>
          <p:cNvGrpSpPr/>
          <p:nvPr/>
        </p:nvGrpSpPr>
        <p:grpSpPr>
          <a:xfrm>
            <a:off x="6149160" y="4564800"/>
            <a:ext cx="2030040" cy="1976040"/>
            <a:chOff x="6149160" y="4564800"/>
            <a:chExt cx="2030040" cy="1976040"/>
          </a:xfrm>
        </p:grpSpPr>
        <p:sp>
          <p:nvSpPr>
            <p:cNvPr id="194" name="AutoShape 20"/>
            <p:cNvSpPr/>
            <p:nvPr/>
          </p:nvSpPr>
          <p:spPr>
            <a:xfrm rot="710400">
              <a:off x="6300360" y="4724280"/>
              <a:ext cx="1726920" cy="1657080"/>
            </a:xfrm>
            <a:custGeom>
              <a:avLst/>
              <a:gdLst>
                <a:gd name="textAreaLeft" fmla="*/ 394200 w 1726920"/>
                <a:gd name="textAreaRight" fmla="*/ 1332720 w 1726920"/>
                <a:gd name="textAreaTop" fmla="*/ 378360 h 1657080"/>
                <a:gd name="textAreaBottom" fmla="*/ 12787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21"/>
            <p:cNvSpPr/>
            <p:nvPr/>
          </p:nvSpPr>
          <p:spPr>
            <a:xfrm>
              <a:off x="6965280" y="5351400"/>
              <a:ext cx="397440" cy="414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" name="Text Box 22"/>
          <p:cNvSpPr/>
          <p:nvPr/>
        </p:nvSpPr>
        <p:spPr>
          <a:xfrm>
            <a:off x="1056240" y="260280"/>
            <a:ext cx="61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Folgen einer Mutation des Gens 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09:11Z</dcterms:created>
  <dc:creator/>
  <dc:description/>
  <dc:language>en-US</dc:language>
  <cp:lastModifiedBy/>
  <dcterms:modified xsi:type="dcterms:W3CDTF">2011-02-28T16:09:38Z</dcterms:modified>
  <cp:revision>243</cp:revision>
  <dc:subject/>
  <dc:title>Folie 1</dc:title>
</cp:coreProperties>
</file>